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D5A8-59DF-49BF-B311-F568372A8625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FED2B-3E9D-4498-B620-6FBFC33F4C1E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EAD5B-5993-4F81-A43F-F1ED35A5478E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550B3-5ABF-47DA-95E3-98F3D20FB3F2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3A3D-E4DA-49A4-A911-94FE7C70947F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C3689-E35D-40DB-BA62-83FC9222B2E9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4DC4-D641-4686-8107-29CB562B67C5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9FC0-96C8-46E4-839F-8FAEF1F33661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1BF3-EB5D-4DE5-8315-720D7D608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FA411-53B2-48A3-992D-2D1FCAAF08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C7C1C-91FA-4331-9022-B5F9FEAA3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D61B-27A6-4EA5-93BA-8A771CC2BA3D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FB46-6F5A-4B46-9018-F5CDFA7A1CA9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BAFD-B600-425A-97BF-F7AB69A4FAA2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47B5-A962-44D2-A89F-455228590DCE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34BF-AAFE-4832-811D-38F75CFE2498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DE15-5729-47B1-BDC0-447AE562A6FF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F496-5039-4381-9515-1B11CC1AF196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757EC-D0D1-48C4-83A0-BC08B6943B21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8EAB-3B47-4963-A12C-DD8F0F806EEA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8849-3FE1-4DDB-8746-1AC464439342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E220F-5398-435D-ABE3-7D89F2646B07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AA03-F92B-45DD-8E9D-7877BE9325E5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02EC-A15F-4682-A419-56CBCBD3B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166D-BEEE-4658-A5A5-D8B11EEB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B865-752F-4F84-8E13-CCA1B5F14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9D30-FD29-4907-AB06-3E949B109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C0C1-28BC-44FA-912F-15FDC648D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5F89-BDA1-4D2E-AD8F-65E1C3FD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BDD0-57F9-4846-96A9-FC0ED8333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1C1C-4FCC-470B-A54B-029883298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7CE8-43DE-4A5D-9A3F-6A72A233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7E05-3B45-4538-806D-F92617B0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FC8F-2E14-4B2D-B740-53DC3DDC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A81A-D1E9-4B38-A18D-C72AD18C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F7E52-03CD-488E-B654-E924D0107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ytoplasmic strea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Protoctists or Prot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ee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83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ble to draw amoeba, euglena and paramec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k work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cal Drawings - 39-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gdoms – 70; 79-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cells-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ing cell size - 7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copes - 75-78 (overvie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structure 85-86 ( a lot of this is difficult but good exercise to attemp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produce enzymes that break down the organic matter into simpler substances that can then be absorbed by the bacte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nd label a generalised bacterial cell. Page 7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 identify a bacteriu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Size very tiny. See page 79 estimate size. Complete page 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Specia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roup the following into something that makes meaning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y did you group them this 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Specia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roup the following into something that makes meaning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y did you group them this 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Specia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roup them into animal and plant cel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an you identify any of these cells or what their function is ? What features did you use to categorise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Specia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dentify the following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prot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dentify the following specialise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Sex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Nerv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uscl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Ciliated columnar epitheli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Fa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Bon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dentify the following specialised pl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ells from a leaf of a pl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tom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ells that store starch e.g. banana ce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Vascular cells (xylem and phlo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ells with chromatopla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x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sperm.jpg"/>
          <p:cNvPicPr/>
          <p:nvPr/>
        </p:nvPicPr>
        <p:blipFill>
          <a:blip r:embed="rId1"/>
          <a:stretch/>
        </p:blipFill>
        <p:spPr>
          <a:xfrm>
            <a:off x="1476360" y="1341360"/>
            <a:ext cx="1944720" cy="1933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ova.jpg"/>
          <p:cNvPicPr/>
          <p:nvPr/>
        </p:nvPicPr>
        <p:blipFill>
          <a:blip r:embed="rId2"/>
          <a:stretch/>
        </p:blipFill>
        <p:spPr>
          <a:xfrm>
            <a:off x="4859280" y="1413000"/>
            <a:ext cx="2232000" cy="1689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0" descr="sperm2.jpg"/>
          <p:cNvPicPr/>
          <p:nvPr/>
        </p:nvPicPr>
        <p:blipFill>
          <a:blip r:embed="rId3"/>
          <a:stretch/>
        </p:blipFill>
        <p:spPr>
          <a:xfrm>
            <a:off x="1258920" y="3716280"/>
            <a:ext cx="2232000" cy="2212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ova2.jpg"/>
          <p:cNvPicPr/>
          <p:nvPr/>
        </p:nvPicPr>
        <p:blipFill>
          <a:blip r:embed="rId4"/>
          <a:stretch/>
        </p:blipFill>
        <p:spPr>
          <a:xfrm>
            <a:off x="5940360" y="3284640"/>
            <a:ext cx="1800360" cy="1568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ova3.jpg"/>
          <p:cNvPicPr/>
          <p:nvPr/>
        </p:nvPicPr>
        <p:blipFill>
          <a:blip r:embed="rId5"/>
          <a:stretch/>
        </p:blipFill>
        <p:spPr>
          <a:xfrm>
            <a:off x="5867280" y="5229360"/>
            <a:ext cx="86040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rve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1" descr="nerve2.jpg"/>
          <p:cNvPicPr/>
          <p:nvPr/>
        </p:nvPicPr>
        <p:blipFill>
          <a:blip r:embed="rId1"/>
          <a:stretch/>
        </p:blipFill>
        <p:spPr>
          <a:xfrm>
            <a:off x="611280" y="2421000"/>
            <a:ext cx="1873080" cy="1498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nerve4.jpg"/>
          <p:cNvPicPr/>
          <p:nvPr/>
        </p:nvPicPr>
        <p:blipFill>
          <a:blip r:embed="rId2"/>
          <a:stretch/>
        </p:blipFill>
        <p:spPr>
          <a:xfrm>
            <a:off x="3348000" y="2565360"/>
            <a:ext cx="1663560" cy="208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nerve.jpg"/>
          <p:cNvPicPr/>
          <p:nvPr/>
        </p:nvPicPr>
        <p:blipFill>
          <a:blip r:embed="rId3"/>
          <a:stretch/>
        </p:blipFill>
        <p:spPr>
          <a:xfrm>
            <a:off x="5724360" y="2205000"/>
            <a:ext cx="23878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ining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ining is a technique used in microscopy to enhance contrast in the microscope im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cle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smoothmuscle1.jpg"/>
          <p:cNvPicPr/>
          <p:nvPr/>
        </p:nvPicPr>
        <p:blipFill>
          <a:blip r:embed="rId1"/>
          <a:stretch/>
        </p:blipFill>
        <p:spPr>
          <a:xfrm>
            <a:off x="971640" y="1484280"/>
            <a:ext cx="1533600" cy="3600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867280" y="1484280"/>
            <a:ext cx="2551320" cy="3240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smooth muscle2.jpg"/>
          <p:cNvPicPr/>
          <p:nvPr/>
        </p:nvPicPr>
        <p:blipFill>
          <a:blip r:embed="rId3"/>
          <a:stretch/>
        </p:blipFill>
        <p:spPr>
          <a:xfrm>
            <a:off x="2700360" y="4076640"/>
            <a:ext cx="259236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liated columnar epithelial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7" descr="colepith2.jpg"/>
          <p:cNvPicPr/>
          <p:nvPr/>
        </p:nvPicPr>
        <p:blipFill>
          <a:blip r:embed="rId1"/>
          <a:stretch/>
        </p:blipFill>
        <p:spPr>
          <a:xfrm>
            <a:off x="1042920" y="2060640"/>
            <a:ext cx="2232000" cy="1493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43280" y="1700280"/>
            <a:ext cx="2448000" cy="1992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6" descr="colepithelial 3.jpg"/>
          <p:cNvPicPr/>
          <p:nvPr/>
        </p:nvPicPr>
        <p:blipFill>
          <a:blip r:embed="rId3"/>
          <a:stretch/>
        </p:blipFill>
        <p:spPr>
          <a:xfrm>
            <a:off x="1547640" y="4292640"/>
            <a:ext cx="2089440" cy="1568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columnarepithelial.jpg"/>
          <p:cNvPicPr/>
          <p:nvPr/>
        </p:nvPicPr>
        <p:blipFill>
          <a:blip r:embed="rId4"/>
          <a:stretch/>
        </p:blipFill>
        <p:spPr>
          <a:xfrm>
            <a:off x="5508720" y="4124160"/>
            <a:ext cx="22320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rbc.jpg"/>
          <p:cNvPicPr/>
          <p:nvPr/>
        </p:nvPicPr>
        <p:blipFill>
          <a:blip r:embed="rId1"/>
          <a:stretch/>
        </p:blipFill>
        <p:spPr>
          <a:xfrm>
            <a:off x="539640" y="2781360"/>
            <a:ext cx="2880000" cy="2360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0" descr="blood3.jpg"/>
          <p:cNvPicPr/>
          <p:nvPr/>
        </p:nvPicPr>
        <p:blipFill>
          <a:blip r:embed="rId2"/>
          <a:stretch/>
        </p:blipFill>
        <p:spPr>
          <a:xfrm>
            <a:off x="5148360" y="1484280"/>
            <a:ext cx="3024000" cy="1957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1" descr="blood2.jpg"/>
          <p:cNvPicPr/>
          <p:nvPr/>
        </p:nvPicPr>
        <p:blipFill>
          <a:blip r:embed="rId3"/>
          <a:stretch/>
        </p:blipFill>
        <p:spPr>
          <a:xfrm>
            <a:off x="5651640" y="4724280"/>
            <a:ext cx="287964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e T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9" descr="bone.jpg"/>
          <p:cNvPicPr/>
          <p:nvPr/>
        </p:nvPicPr>
        <p:blipFill>
          <a:blip r:embed="rId1"/>
          <a:stretch/>
        </p:blipFill>
        <p:spPr>
          <a:xfrm>
            <a:off x="684360" y="2421000"/>
            <a:ext cx="30240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3" descr="fat cells.jpg"/>
          <p:cNvPicPr/>
          <p:nvPr/>
        </p:nvPicPr>
        <p:blipFill>
          <a:blip r:embed="rId1"/>
          <a:stretch/>
        </p:blipFill>
        <p:spPr>
          <a:xfrm>
            <a:off x="395280" y="2276640"/>
            <a:ext cx="3313080" cy="2363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fat2.jpg"/>
          <p:cNvPicPr/>
          <p:nvPr/>
        </p:nvPicPr>
        <p:blipFill>
          <a:blip r:embed="rId2"/>
          <a:stretch/>
        </p:blipFill>
        <p:spPr>
          <a:xfrm>
            <a:off x="4716360" y="2492280"/>
            <a:ext cx="30956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f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3529080" cy="2664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292720" y="1989000"/>
            <a:ext cx="284328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s that store starch e.g. banana cell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276720" y="2492280"/>
            <a:ext cx="280800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scular cells (xylem and phloe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2590920" cy="2079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003640" y="1989000"/>
            <a:ext cx="19004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ells with chromopla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050920" y="1989000"/>
            <a:ext cx="2791080" cy="17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unting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fers to attaching the samples to a glass microscope slide for observ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or samples of loose cells (e.g.blood or pap smear) the sample can be applied directly to a sl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or larger tissues thinner sections are ma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dine – more contrast between cell structure. Also goes blue black when starch is pre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yl blue – stains nuclei b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ere able to see the following in most cells under the light micro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Membra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cu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st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cell structures are only clearly visible through an electron micro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lgi Appar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 Endoplasmic ret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gh Endoplasmic ret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ytosol –is the liquid 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ytoplasm is the part that contains all the organelle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Vacu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vacuole--plant0"/>
          <p:cNvPicPr/>
          <p:nvPr/>
        </p:nvPicPr>
        <p:blipFill>
          <a:blip r:embed="rId1"/>
          <a:stretch/>
        </p:blipFill>
        <p:spPr>
          <a:xfrm>
            <a:off x="611280" y="2349360"/>
            <a:ext cx="2550960" cy="3168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vacuole--plant0"/>
          <p:cNvPicPr/>
          <p:nvPr/>
        </p:nvPicPr>
        <p:blipFill>
          <a:blip r:embed="rId2"/>
          <a:stretch/>
        </p:blipFill>
        <p:spPr>
          <a:xfrm>
            <a:off x="3708360" y="1700280"/>
            <a:ext cx="50864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lastids – organelles found in the cells of plants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loroplasts – found in plants. Con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lorophyll. Responsible for photosynthe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ucoplasts – non-pigmented plastids found predominantly in the root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on-photosynthetic parts of pla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y become specialised for bulk stor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f starch (e.g.banana), protein and lip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romoplasts – for pigment synthe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nd storage (e.g. red capsicum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ften found in fruits and flower part of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chloroplasts"/>
          <p:cNvPicPr/>
          <p:nvPr/>
        </p:nvPicPr>
        <p:blipFill>
          <a:blip r:embed="rId1"/>
          <a:stretch/>
        </p:blipFill>
        <p:spPr>
          <a:xfrm>
            <a:off x="6877080" y="1413000"/>
            <a:ext cx="1440000" cy="1082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banana"/>
          <p:cNvPicPr/>
          <p:nvPr/>
        </p:nvPicPr>
        <p:blipFill>
          <a:blip r:embed="rId2"/>
          <a:stretch/>
        </p:blipFill>
        <p:spPr>
          <a:xfrm>
            <a:off x="6877080" y="3141720"/>
            <a:ext cx="1592280" cy="1197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chromoplast"/>
          <p:cNvPicPr/>
          <p:nvPr/>
        </p:nvPicPr>
        <p:blipFill>
          <a:blip r:embed="rId3"/>
          <a:stretch/>
        </p:blipFill>
        <p:spPr>
          <a:xfrm>
            <a:off x="6877080" y="4581360"/>
            <a:ext cx="1655640" cy="10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07:05:27Z</dcterms:created>
  <dc:creator>Daniela</dc:creator>
  <dc:description/>
  <dc:language>en-US</dc:language>
  <cp:lastModifiedBy>Daniela</cp:lastModifiedBy>
  <dcterms:modified xsi:type="dcterms:W3CDTF">2010-03-03T10:16:13Z</dcterms:modified>
  <cp:revision>16</cp:revision>
  <dc:subject/>
  <dc:title>Cells </dc:title>
</cp:coreProperties>
</file>