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7579-8E28-4689-A16D-85635AE3F67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CA55-4CC9-44DB-93C6-79298ED8194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4A6-BFDB-4C83-8349-350991EA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9C0-3F08-4008-AC89-911B64A3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108-146E-4896-A526-8DA96193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263-01D5-49D3-8846-ED72E363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D45-DC29-4656-B525-ED52BD3B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631-0410-4F13-93AD-8F8F07E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E5E-7C11-403D-83E0-448A1EB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DF8-B21D-4236-A6BD-D6A9F2E7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4AF-12EE-4856-9526-3AC7B69E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2E9-367E-4B6E-B792-F1CD9D9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E79-2BC0-48F9-B203-E4A01BCB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3B4-AFF9-46F7-95ED-969ECAC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E941-286C-49B9-89AE-D4A152AF4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Regulatory Mechanisms in Animal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\\columba\users\Teachers\OMahonyE\My Pictures\_hot head.jpg"/>
          <p:cNvPicPr/>
          <p:nvPr/>
        </p:nvPicPr>
        <p:blipFill>
          <a:blip r:embed="rId1"/>
          <a:stretch/>
        </p:blipFill>
        <p:spPr>
          <a:xfrm>
            <a:off x="857160" y="1714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357720" y="535788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new Melbourne Cup Hat fashion. Why is she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entral Nervous System consists of the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ipheral Nervous System delivers information to the CNS and carries messages from the CNS to other organs through communication lines called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876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ree Main Types of Neu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nsory- Conduct information from receptors to C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mediate- inter connne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tor- Leave- CNS  and stimulate muscles or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580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2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rvous syste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857240" y="214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ensor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2143080" y="63961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Mo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000760" y="31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oing on with the nervous system when you are driving and you see a red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\\columba\users\Teachers\OMahonyE\My Pictures\Traffic_lights.jpg"/>
          <p:cNvPicPr/>
          <p:nvPr/>
        </p:nvPicPr>
        <p:blipFill>
          <a:blip r:embed="rId1"/>
          <a:stretch/>
        </p:blipFill>
        <p:spPr>
          <a:xfrm>
            <a:off x="3048120" y="3352680"/>
            <a:ext cx="3174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e a r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tina in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9072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r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3809880"/>
            <a:ext cx="18288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cl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chemicals that cross the gap (synapse) from one neuron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www.mtsu.edu/~studskl/synapse2.GIF"/>
          <p:cNvPicPr/>
          <p:nvPr/>
        </p:nvPicPr>
        <p:blipFill>
          <a:blip r:embed="rId1"/>
          <a:stretch/>
        </p:blipFill>
        <p:spPr>
          <a:xfrm>
            <a:off x="2241720" y="1905120"/>
            <a:ext cx="419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eflex A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22096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apid response to a stimulus that provides protection from harm to an organism. Under involuntary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ples………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www.merck.com/media/mmhe2/figures/fg077_1.gif"/>
          <p:cNvPicPr/>
          <p:nvPr/>
        </p:nvPicPr>
        <p:blipFill>
          <a:blip r:embed="rId1"/>
          <a:stretch/>
        </p:blipFill>
        <p:spPr>
          <a:xfrm>
            <a:off x="1828800" y="18288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2952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nee Jerk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x Arc (Sharp objec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http://www.fotosearch.com/comp/LIF/LIF114/SA30202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910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utine Regulation- Regulatory Mechanisms in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iozone Worksheets 261-2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meostasis is the maintenance of a constant internal environment. That is the tissue fluid around the cells needs to remain in a relatively constant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fig.cox.miami.edu/~cmallery/150/metab/fig40x11.jpg"/>
          <p:cNvPicPr/>
          <p:nvPr/>
        </p:nvPicPr>
        <p:blipFill>
          <a:blip r:embed="rId1"/>
          <a:stretch/>
        </p:blipFill>
        <p:spPr>
          <a:xfrm>
            <a:off x="2057400" y="3003480"/>
            <a:ext cx="56959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What factors are under homeostatic contro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lood glucos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leve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ygen and carbon dioxide concentration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ions of ions ie sodium, chloride,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als need to respond to changes in their external and internal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some respon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www.cardmine.co.uk/list24/a240601.jpg"/>
          <p:cNvPicPr/>
          <p:nvPr/>
        </p:nvPicPr>
        <p:blipFill>
          <a:blip r:embed="rId1"/>
          <a:stretch/>
        </p:blipFill>
        <p:spPr>
          <a:xfrm>
            <a:off x="533520" y="1981080"/>
            <a:ext cx="2733480" cy="411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environmental.science.dal.ca/Transportation/Cyclist-Drinking-Water.gif"/>
          <p:cNvPicPr/>
          <p:nvPr/>
        </p:nvPicPr>
        <p:blipFill>
          <a:blip r:embed="rId2"/>
          <a:stretch/>
        </p:blipFill>
        <p:spPr>
          <a:xfrm>
            <a:off x="3809880" y="1981080"/>
            <a:ext cx="2492640" cy="170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globalgang.org.uk/images/sandwich_tcm7-788.gif"/>
          <p:cNvPicPr/>
          <p:nvPr/>
        </p:nvPicPr>
        <p:blipFill>
          <a:blip r:embed="rId3"/>
          <a:stretch/>
        </p:blipFill>
        <p:spPr>
          <a:xfrm>
            <a:off x="6248520" y="1752480"/>
            <a:ext cx="2114280" cy="292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news.bbc.co.uk/media/images/38732000/jpg/_38732687_cyclist_300_bbc.jpg"/>
          <p:cNvPicPr/>
          <p:nvPr/>
        </p:nvPicPr>
        <p:blipFill>
          <a:blip r:embed="rId4"/>
          <a:stretch/>
        </p:blipFill>
        <p:spPr>
          <a:xfrm>
            <a:off x="3581280" y="419112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19920" y="49528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responses ensure that various internal factors stay within toleranc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5053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ter and 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lucos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2767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xygen, CO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71360" y="11426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imals also have physiological, behavioural and structural adaptations to enure their core temperature remains within their upper and lower tolerance lim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s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catholicconvert.com/Portals/0/Gallery/Album/19/Camels.jpg"/>
          <p:cNvPicPr/>
          <p:nvPr/>
        </p:nvPicPr>
        <p:blipFill>
          <a:blip r:embed="rId1"/>
          <a:stretch/>
        </p:blipFill>
        <p:spPr>
          <a:xfrm>
            <a:off x="1214280" y="857160"/>
            <a:ext cx="7172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7art-screensavers.com/screenshots/bears/polar-bears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 is maintained b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176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orm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1430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www.cartoonstock.com/newscartoons/cartoonists/tzu/lowres/tzun186l.jpg"/>
          <p:cNvPicPr/>
          <p:nvPr/>
        </p:nvPicPr>
        <p:blipFill>
          <a:blip r:embed="rId1"/>
          <a:stretch/>
        </p:blipFill>
        <p:spPr>
          <a:xfrm>
            <a:off x="380880" y="190512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yachigusaryu.com/blog/pics/top_ten_principles/3/image007.jpg"/>
          <p:cNvPicPr/>
          <p:nvPr/>
        </p:nvPicPr>
        <p:blipFill>
          <a:blip r:embed="rId2"/>
          <a:stretch/>
        </p:blipFill>
        <p:spPr>
          <a:xfrm>
            <a:off x="5181480" y="1981080"/>
            <a:ext cx="247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4043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e cell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ron i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ctional (basic) unit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\\columba\users\Teachers\OMahonyE\My Pictures\neuron1.gif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1:48:57Z</dcterms:created>
  <dc:creator>omahonye</dc:creator>
  <dc:description/>
  <dc:language>en-US</dc:language>
  <cp:lastModifiedBy>luponed</cp:lastModifiedBy>
  <dcterms:modified xsi:type="dcterms:W3CDTF">2010-08-12T03:16:33Z</dcterms:modified>
  <cp:revision>14</cp:revision>
  <dc:subject/>
  <dc:title>Regulatory Mechanisms in Animals </dc:title>
</cp:coreProperties>
</file>