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C097F-2B33-4245-A871-1AE9912BA24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594F-6F2C-4FD3-B490-DD717BD00012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31AF-F7C9-40AE-922B-D91E1F03B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70D6-5DB3-455B-9606-C2AF868B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19B5-37F7-474C-B30E-FD033C246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388A-6100-400C-ABA6-E6F1D262D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C5709-45D7-4F6E-8861-E0B52450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A21-C9FD-48F6-92A6-F5BB6DBF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A35-66E3-4729-A962-9D3C1995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09A8-C03C-4EFF-AEC6-0C947976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9504-2826-49E0-AB26-6F3A8759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32D2-7391-49CA-8D2F-294C00D3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14D1-8DB1-42EB-A0E7-37C9CBEF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9C56-F1C2-4975-A7A4-C58D03E6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B5B32-EC9A-4FA2-94B3-2F1A8A33990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Regulatory Mechanisms in Animal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\\columba\users\Teachers\OMahonyE\My Pictures\_hot head.jpg"/>
          <p:cNvPicPr/>
          <p:nvPr/>
        </p:nvPicPr>
        <p:blipFill>
          <a:blip r:embed="rId1"/>
          <a:stretch/>
        </p:blipFill>
        <p:spPr>
          <a:xfrm>
            <a:off x="857160" y="17146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357720" y="5357880"/>
            <a:ext cx="44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new Melbourne Cup Hat fashion. Why is she doing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entral Nervous System consists of the brain and spinal 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eripheral Nervous System delivers information to the CNS and carries messages from the CNS to other organs through communication lines called ner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2876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ree Main Types of Neu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nsory- Conduct information from receptors to C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termediate- inter connne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tor- Leave- CNS  and stimulate muscles or gla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580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2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7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8580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ervous system in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1857240" y="214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Sensory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2143080" y="639612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Mot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5000760" y="31431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going on with the nervous system when you are driving and you see a red l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\\columba\users\Teachers\OMahonyE\My Pictures\Traffic_lights.jpg"/>
          <p:cNvPicPr/>
          <p:nvPr/>
        </p:nvPicPr>
        <p:blipFill>
          <a:blip r:embed="rId1"/>
          <a:stretch/>
        </p:blipFill>
        <p:spPr>
          <a:xfrm>
            <a:off x="3048120" y="3352680"/>
            <a:ext cx="3174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e a r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tina in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99072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ar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a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352680" y="3809880"/>
            <a:ext cx="1828800" cy="228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clu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are chemicals that cross the gap (synapse) from one neuron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http://www.mtsu.edu/~studskl/synapse2.GIF"/>
          <p:cNvPicPr/>
          <p:nvPr/>
        </p:nvPicPr>
        <p:blipFill>
          <a:blip r:embed="rId1"/>
          <a:stretch/>
        </p:blipFill>
        <p:spPr>
          <a:xfrm>
            <a:off x="2241720" y="1905120"/>
            <a:ext cx="419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Reflex Ar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5800" y="220968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rapid response to a stimulus that provides protection from harm to an organism. Under involuntary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amples………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http://www.merck.com/media/mmhe2/figures/fg077_1.gif"/>
          <p:cNvPicPr/>
          <p:nvPr/>
        </p:nvPicPr>
        <p:blipFill>
          <a:blip r:embed="rId1"/>
          <a:stretch/>
        </p:blipFill>
        <p:spPr>
          <a:xfrm>
            <a:off x="1828800" y="1828800"/>
            <a:ext cx="4381560" cy="4648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29528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nee Jerk Ref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flex Arc (Sharp objec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http://www.fotosearch.com/comp/LIF/LIF114/SA30202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910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outine Regulation- Regulatory Mechanisms in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85800" y="274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iozone Worksheets 261-2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meostasis is the maintenance of a constant internal environment. That is the tissue fluid around the cells needs to remain in a relatively constant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http://fig.cox.miami.edu/~cmallery/150/metab/fig40x11.jpg"/>
          <p:cNvPicPr/>
          <p:nvPr/>
        </p:nvPicPr>
        <p:blipFill>
          <a:blip r:embed="rId1"/>
          <a:stretch/>
        </p:blipFill>
        <p:spPr>
          <a:xfrm>
            <a:off x="2057400" y="3003480"/>
            <a:ext cx="56959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What factors are under homeostatic contro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lood glucose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 level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xygen and carbon dioxide concentration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centrations of ions ie sodium, chloride,calc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imals need to respond to changes in their external and internal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are some respon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http://www.cardmine.co.uk/list24/a240601.jpg"/>
          <p:cNvPicPr/>
          <p:nvPr/>
        </p:nvPicPr>
        <p:blipFill>
          <a:blip r:embed="rId1"/>
          <a:stretch/>
        </p:blipFill>
        <p:spPr>
          <a:xfrm>
            <a:off x="533520" y="1981080"/>
            <a:ext cx="2733480" cy="411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environmental.science.dal.ca/Transportation/Cyclist-Drinking-Water.gif"/>
          <p:cNvPicPr/>
          <p:nvPr/>
        </p:nvPicPr>
        <p:blipFill>
          <a:blip r:embed="rId2"/>
          <a:stretch/>
        </p:blipFill>
        <p:spPr>
          <a:xfrm>
            <a:off x="3809880" y="1981080"/>
            <a:ext cx="2492640" cy="170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globalgang.org.uk/images/sandwich_tcm7-788.gif"/>
          <p:cNvPicPr/>
          <p:nvPr/>
        </p:nvPicPr>
        <p:blipFill>
          <a:blip r:embed="rId3"/>
          <a:stretch/>
        </p:blipFill>
        <p:spPr>
          <a:xfrm>
            <a:off x="6248520" y="1752480"/>
            <a:ext cx="2114280" cy="292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http://news.bbc.co.uk/media/images/38732000/jpg/_38732687_cyclist_300_bbc.jpg"/>
          <p:cNvPicPr/>
          <p:nvPr/>
        </p:nvPicPr>
        <p:blipFill>
          <a:blip r:embed="rId4"/>
          <a:stretch/>
        </p:blipFill>
        <p:spPr>
          <a:xfrm>
            <a:off x="3581280" y="419112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6019920" y="49528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se responses ensure that various internal factors stay within tolerance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990720" y="5257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3505320" y="3657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ater and sol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6781680" y="1371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lucose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27672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xygen, CO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71360" y="1142640"/>
            <a:ext cx="6933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nimals also have physiological, behavioural and structural adaptations to enure their core temperature remains within their upper and lower tolerance limi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xamples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am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catholicconvert.com/Portals/0/Gallery/Album/19/Camels.jpg"/>
          <p:cNvPicPr/>
          <p:nvPr/>
        </p:nvPicPr>
        <p:blipFill>
          <a:blip r:embed="rId1"/>
          <a:stretch/>
        </p:blipFill>
        <p:spPr>
          <a:xfrm>
            <a:off x="1214280" y="857160"/>
            <a:ext cx="71726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ar B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7art-screensavers.com/screenshots/bears/polar-bears.jpg"/>
          <p:cNvPicPr/>
          <p:nvPr/>
        </p:nvPicPr>
        <p:blipFill>
          <a:blip r:embed="rId1"/>
          <a:stretch/>
        </p:blipFill>
        <p:spPr>
          <a:xfrm>
            <a:off x="1428840" y="135720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 is maintained b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1760" y="11426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ormon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7960" y="11430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nervou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www.cartoonstock.com/newscartoons/cartoonists/tzu/lowres/tzun186l.jpg"/>
          <p:cNvPicPr/>
          <p:nvPr/>
        </p:nvPicPr>
        <p:blipFill>
          <a:blip r:embed="rId1"/>
          <a:stretch/>
        </p:blipFill>
        <p:spPr>
          <a:xfrm>
            <a:off x="380880" y="190512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www.yachigusaryu.com/blog/pics/top_ten_principles/3/image007.jpg"/>
          <p:cNvPicPr/>
          <p:nvPr/>
        </p:nvPicPr>
        <p:blipFill>
          <a:blip r:embed="rId2"/>
          <a:stretch/>
        </p:blipFill>
        <p:spPr>
          <a:xfrm>
            <a:off x="5181480" y="1981080"/>
            <a:ext cx="24768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4043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e cell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ron is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unctional (basic) unit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ous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\\columba\users\Teachers\OMahonyE\My Pictures\neuron1.gif"/>
          <p:cNvPicPr/>
          <p:nvPr/>
        </p:nvPicPr>
        <p:blipFill>
          <a:blip r:embed="rId1"/>
          <a:stretch/>
        </p:blipFill>
        <p:spPr>
          <a:xfrm>
            <a:off x="4876920" y="1676520"/>
            <a:ext cx="38401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1:48:57Z</dcterms:created>
  <dc:creator>omahonye</dc:creator>
  <dc:description/>
  <dc:language>en-US</dc:language>
  <cp:lastModifiedBy>luponed</cp:lastModifiedBy>
  <dcterms:modified xsi:type="dcterms:W3CDTF">2010-08-12T03:16:33Z</dcterms:modified>
  <cp:revision>14</cp:revision>
  <dc:subject/>
  <dc:title>Regulatory Mechanisms in Animals </dc:title>
</cp:coreProperties>
</file>