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jpeg" ContentType="image/jpeg"/>
  <Override PartName="/ppt/media/image14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1D25-E9C5-4CAA-9191-8E9D1AFE34C8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B735-9150-4AB1-8465-ECC72D901AD6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6953-F03C-4AF4-BF8B-45B920000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E568-BF25-4AA7-A908-6EFD7882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FE70-32B2-4631-8B52-311ADE025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C952-C741-408B-BB0B-712E5ADC7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8E69-8B96-4136-A555-C5A37D39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5848-A53D-4E2D-9963-8B54C99F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58CA-116C-429E-85F9-40943A84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385C-B7FC-41AA-8C17-2138A8D6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81A5-73C5-4CB1-851D-4B69DBEF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A0D2-3DFF-4978-B27A-CF580FEF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4129-1CC8-4DAF-8886-F871D8E1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7F55-5862-4FE5-B371-81903957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E7A1-9ED9-4E2E-A31A-12C9C26A70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Calibri"/>
              </a:rPr>
              <a:t>Regulatory Mechanisms in Animal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\\columba\users\Teachers\OMahonyE\My Pictures\_hot head.jpg"/>
          <p:cNvPicPr/>
          <p:nvPr/>
        </p:nvPicPr>
        <p:blipFill>
          <a:blip r:embed="rId1"/>
          <a:stretch/>
        </p:blipFill>
        <p:spPr>
          <a:xfrm>
            <a:off x="857160" y="17146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3357720" y="5357880"/>
            <a:ext cx="44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 new Melbourne Cup Hat fashion. Why is she doing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entral Nervous System consists of the brain and spinal c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eripheral Nervous System delivers information to the CNS and carries messages from the CNS to other organs through communication lines called ner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428760" y="214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Nervous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ree Main Types of Neur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ensory- Conduct information from receptors to C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termediate- inter connnec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otor- Leave- CNS  and stimulate muscles or glan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609480" y="6858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timu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5410080" y="6858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ens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Neu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124080" y="6858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6"/>
          <p:cNvSpPr/>
          <p:nvPr/>
        </p:nvSpPr>
        <p:spPr>
          <a:xfrm>
            <a:off x="6781680" y="2666880"/>
            <a:ext cx="2133720" cy="18288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Brai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pinal 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685800" y="48006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3352680" y="472428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Eff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or g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5638680" y="472428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o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Neu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243828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4952880" y="1371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6781680" y="1981080"/>
            <a:ext cx="685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5"/>
          <p:cNvSpPr/>
          <p:nvPr/>
        </p:nvSpPr>
        <p:spPr>
          <a:xfrm flipH="1">
            <a:off x="6857640" y="4038480"/>
            <a:ext cx="609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6"/>
          <p:cNvSpPr/>
          <p:nvPr/>
        </p:nvSpPr>
        <p:spPr>
          <a:xfrm flipH="1">
            <a:off x="4952520" y="5638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7"/>
          <p:cNvSpPr/>
          <p:nvPr/>
        </p:nvSpPr>
        <p:spPr>
          <a:xfrm flipH="1">
            <a:off x="2590560" y="5791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685800" y="26668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nervous system in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15"/>
          <p:cNvSpPr/>
          <p:nvPr/>
        </p:nvSpPr>
        <p:spPr>
          <a:xfrm>
            <a:off x="1857240" y="214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Calibri"/>
              </a:rPr>
              <a:t>Sensory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16"/>
          <p:cNvSpPr/>
          <p:nvPr/>
        </p:nvSpPr>
        <p:spPr>
          <a:xfrm>
            <a:off x="2143080" y="6396120"/>
            <a:ext cx="32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Calibri"/>
              </a:rPr>
              <a:t>Mot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17"/>
          <p:cNvSpPr/>
          <p:nvPr/>
        </p:nvSpPr>
        <p:spPr>
          <a:xfrm>
            <a:off x="5000760" y="314316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Calibri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is going on with the nervous system when you are driving and you see a red ligh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\\columba\users\Teachers\OMahonyE\My Pictures\Traffic_lights.jpg"/>
          <p:cNvPicPr/>
          <p:nvPr/>
        </p:nvPicPr>
        <p:blipFill>
          <a:blip r:embed="rId1"/>
          <a:stretch/>
        </p:blipFill>
        <p:spPr>
          <a:xfrm>
            <a:off x="3048120" y="3352680"/>
            <a:ext cx="31748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609480" y="6858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timu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ee a red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5410080" y="6858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ens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Neu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124080" y="6858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tina in e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5"/>
          <p:cNvSpPr/>
          <p:nvPr/>
        </p:nvSpPr>
        <p:spPr>
          <a:xfrm>
            <a:off x="6781680" y="2666880"/>
            <a:ext cx="2133720" cy="18288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Brai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pinal 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990720" y="48006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ar 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o a 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3352680" y="3809880"/>
            <a:ext cx="1828800" cy="2286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Eff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F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re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bra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nd clu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5638680" y="472428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o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Neu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9"/>
          <p:cNvSpPr/>
          <p:nvPr/>
        </p:nvSpPr>
        <p:spPr>
          <a:xfrm>
            <a:off x="243828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4952880" y="1371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6781680" y="1981080"/>
            <a:ext cx="685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2"/>
          <p:cNvSpPr/>
          <p:nvPr/>
        </p:nvSpPr>
        <p:spPr>
          <a:xfrm flipH="1">
            <a:off x="6857640" y="4038480"/>
            <a:ext cx="609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3"/>
          <p:cNvSpPr/>
          <p:nvPr/>
        </p:nvSpPr>
        <p:spPr>
          <a:xfrm flipH="1">
            <a:off x="4952520" y="5638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4"/>
          <p:cNvSpPr/>
          <p:nvPr/>
        </p:nvSpPr>
        <p:spPr>
          <a:xfrm flipH="1">
            <a:off x="2590560" y="5791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Neurotransmit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066680" y="10666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se are chemicals that cross the gap (synapse) from one neuron to the n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6" descr="http://www.mtsu.edu/~studskl/synapse2.GIF"/>
          <p:cNvPicPr/>
          <p:nvPr/>
        </p:nvPicPr>
        <p:blipFill>
          <a:blip r:embed="rId1"/>
          <a:stretch/>
        </p:blipFill>
        <p:spPr>
          <a:xfrm>
            <a:off x="2241720" y="1905120"/>
            <a:ext cx="419400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e Reflex Ar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685800" y="2209680"/>
            <a:ext cx="784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 rapid response to a stimulus that provides protection from harm to an organism. Under involuntary contr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Examples………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http://www.merck.com/media/mmhe2/figures/fg077_1.gif"/>
          <p:cNvPicPr/>
          <p:nvPr/>
        </p:nvPicPr>
        <p:blipFill>
          <a:blip r:embed="rId1"/>
          <a:stretch/>
        </p:blipFill>
        <p:spPr>
          <a:xfrm>
            <a:off x="1828800" y="1828800"/>
            <a:ext cx="4381560" cy="46483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1295280" y="380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Knee Jerk Ref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flex Arc (Sharp objec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4" descr="http://www.fotosearch.com/comp/LIF/LIF114/SA302028.jpg"/>
          <p:cNvPicPr/>
          <p:nvPr/>
        </p:nvPicPr>
        <p:blipFill>
          <a:blip r:embed="rId1"/>
          <a:stretch/>
        </p:blipFill>
        <p:spPr>
          <a:xfrm>
            <a:off x="2133720" y="1981080"/>
            <a:ext cx="499104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outine Regulation- Regulatory Mechanisms in Anim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685800" y="2743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Biozone Worksheets 261-2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Homeosta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838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meostasis is the maintenance of a constant internal environment. That is the tissue fluid around the cells needs to remain in a relatively constant st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http://fig.cox.miami.edu/~cmallery/150/metab/fig40x11.jpg"/>
          <p:cNvPicPr/>
          <p:nvPr/>
        </p:nvPicPr>
        <p:blipFill>
          <a:blip r:embed="rId1"/>
          <a:stretch/>
        </p:blipFill>
        <p:spPr>
          <a:xfrm>
            <a:off x="2057400" y="3003480"/>
            <a:ext cx="569592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Calibri"/>
              </a:rPr>
              <a:t>What factors are under homeostatic control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ody Temp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lood glucose concent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ater level in bl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xygen and carbon dioxide concentration in bl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ncentrations of ions ie sodium, chloride,calc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304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nimals need to respond to changes in their external and internal environme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are some respon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7" descr="http://www.cardmine.co.uk/list24/a240601.jpg"/>
          <p:cNvPicPr/>
          <p:nvPr/>
        </p:nvPicPr>
        <p:blipFill>
          <a:blip r:embed="rId1"/>
          <a:stretch/>
        </p:blipFill>
        <p:spPr>
          <a:xfrm>
            <a:off x="533520" y="1981080"/>
            <a:ext cx="2733480" cy="4119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http://environmental.science.dal.ca/Transportation/Cyclist-Drinking-Water.gif"/>
          <p:cNvPicPr/>
          <p:nvPr/>
        </p:nvPicPr>
        <p:blipFill>
          <a:blip r:embed="rId2"/>
          <a:stretch/>
        </p:blipFill>
        <p:spPr>
          <a:xfrm>
            <a:off x="3809880" y="1981080"/>
            <a:ext cx="2492640" cy="1703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http://www.globalgang.org.uk/images/sandwich_tcm7-788.gif"/>
          <p:cNvPicPr/>
          <p:nvPr/>
        </p:nvPicPr>
        <p:blipFill>
          <a:blip r:embed="rId3"/>
          <a:stretch/>
        </p:blipFill>
        <p:spPr>
          <a:xfrm>
            <a:off x="6248520" y="1752480"/>
            <a:ext cx="2114280" cy="2925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http://news.bbc.co.uk/media/images/38732000/jpg/_38732687_cyclist_300_bbc.jpg"/>
          <p:cNvPicPr/>
          <p:nvPr/>
        </p:nvPicPr>
        <p:blipFill>
          <a:blip r:embed="rId4"/>
          <a:stretch/>
        </p:blipFill>
        <p:spPr>
          <a:xfrm>
            <a:off x="3581280" y="4191120"/>
            <a:ext cx="1714680" cy="20574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6"/>
          <p:cNvSpPr/>
          <p:nvPr/>
        </p:nvSpPr>
        <p:spPr>
          <a:xfrm>
            <a:off x="6019920" y="495288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se responses ensure that various internal factors stay within tolerance lim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990720" y="5257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3505320" y="3657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ater and sol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6781680" y="13716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Glucose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3276720" y="6400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Oxygen, CO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71360" y="1142640"/>
            <a:ext cx="69339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nimals also have physiological, behavioural and structural adaptations to enure their core temperature remains within their upper and lower tolerance limi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Examples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am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http://www.catholicconvert.com/Portals/0/Gallery/Album/19/Camels.jpg"/>
          <p:cNvPicPr/>
          <p:nvPr/>
        </p:nvPicPr>
        <p:blipFill>
          <a:blip r:embed="rId1"/>
          <a:stretch/>
        </p:blipFill>
        <p:spPr>
          <a:xfrm>
            <a:off x="1214280" y="857160"/>
            <a:ext cx="717264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olar Bea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http://7art-screensavers.com/screenshots/bears/polar-bears.jpg"/>
          <p:cNvPicPr/>
          <p:nvPr/>
        </p:nvPicPr>
        <p:blipFill>
          <a:blip r:embed="rId1"/>
          <a:stretch/>
        </p:blipFill>
        <p:spPr>
          <a:xfrm>
            <a:off x="1428840" y="1357200"/>
            <a:ext cx="67150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Homeostasis is maintained b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61760" y="1142640"/>
            <a:ext cx="38098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Hormonal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7960" y="114300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nervous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http://www.cartoonstock.com/newscartoons/cartoonists/tzu/lowres/tzun186l.jpg"/>
          <p:cNvPicPr/>
          <p:nvPr/>
        </p:nvPicPr>
        <p:blipFill>
          <a:blip r:embed="rId1"/>
          <a:stretch/>
        </p:blipFill>
        <p:spPr>
          <a:xfrm>
            <a:off x="380880" y="1905120"/>
            <a:ext cx="4103640" cy="4572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http://www.yachigusaryu.com/blog/pics/top_ten_principles/3/image007.jpg"/>
          <p:cNvPicPr/>
          <p:nvPr/>
        </p:nvPicPr>
        <p:blipFill>
          <a:blip r:embed="rId2"/>
          <a:stretch/>
        </p:blipFill>
        <p:spPr>
          <a:xfrm>
            <a:off x="5181480" y="1981080"/>
            <a:ext cx="2476800" cy="44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Nervous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404352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nerve cell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euron is t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unctional (basic) unit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nervous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\\columba\users\Teachers\OMahonyE\My Pictures\neuron1.gif"/>
          <p:cNvPicPr/>
          <p:nvPr/>
        </p:nvPicPr>
        <p:blipFill>
          <a:blip r:embed="rId1"/>
          <a:stretch/>
        </p:blipFill>
        <p:spPr>
          <a:xfrm>
            <a:off x="4876920" y="1676520"/>
            <a:ext cx="384012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7T01:48:57Z</dcterms:created>
  <dc:creator>omahonye</dc:creator>
  <dc:description/>
  <dc:language>en-US</dc:language>
  <cp:lastModifiedBy>luponed</cp:lastModifiedBy>
  <dcterms:modified xsi:type="dcterms:W3CDTF">2010-08-12T03:16:33Z</dcterms:modified>
  <cp:revision>14</cp:revision>
  <dc:subject/>
  <dc:title>Regulatory Mechanisms in Animals </dc:title>
</cp:coreProperties>
</file>