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0375-9F8B-4F87-907C-F0531D9A9BA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82C7-4540-422B-BB57-92E0812FC92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7423-E30C-4503-BA97-23CF13D8CAF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ADAA-8B25-4F09-ADDD-40664796A6C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FA3C-FAED-427C-8404-D168A8AF98E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3EC4-CC85-4569-B832-83A1AFF416A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AAAA-F706-4E56-BDD7-490C4A6EC5B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A277-B45A-46CA-A153-6DB8E34EAB4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B00C-BDF3-4ED1-A75A-30F36B52E57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1586-BC9D-40FF-919A-247E9964A94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B60D-B126-4FC2-B190-855851EBB2F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40C3-8629-4F31-B543-18C0EB8FE2B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2147-D5DA-471B-B989-6457A373BE6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E979-BD80-4916-9BF9-15259FA9299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7B49-D2FB-41E3-9D56-FEDCFC8701A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F562-D095-4A66-846B-2A89233F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93A-67BE-482B-8CD8-DD73A3B5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939-BDD8-4BD0-96F0-2F7C6721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00FB-7BD8-43D8-B832-D11C0226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B43-31B9-435C-B47A-467391D4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62F-9791-4BC0-8FFC-7BF1A845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C6B5-5813-4079-A410-1B0971C8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5D4-83DF-42A0-9466-EAD95DED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DCA-5FED-43FE-810A-D25F550C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B9F6-6BDE-4724-90B4-FFF6F017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E184-F130-402B-B91C-4FA3476C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3AD-400E-4848-9FAD-99A7B3FD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CD8E-0AA0-4DDC-B315-FB06B6019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47640" y="836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547640" y="1989000"/>
            <a:ext cx="547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whereby green plants convert (energy poor) inorganic compounds into (energy rich) organic compou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476360" y="90792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 of a chloropl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chloroplast"/>
          <p:cNvPicPr/>
          <p:nvPr/>
        </p:nvPicPr>
        <p:blipFill>
          <a:blip r:embed="rId1"/>
          <a:stretch/>
        </p:blipFill>
        <p:spPr>
          <a:xfrm>
            <a:off x="2195640" y="2133720"/>
            <a:ext cx="4824360" cy="4194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6948360" y="3429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ra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hloroplast"/>
          <p:cNvPicPr/>
          <p:nvPr/>
        </p:nvPicPr>
        <p:blipFill>
          <a:blip r:embed="rId1"/>
          <a:stretch/>
        </p:blipFill>
        <p:spPr>
          <a:xfrm>
            <a:off x="1692360" y="260280"/>
            <a:ext cx="5111640" cy="2725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826920" y="429264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ylakoids: Disk shaped membranes containing photosynthetic pig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a: Stacks of thylako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ma: Fluid filled space surrounding grana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826920" y="342900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efinitions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95280" y="76500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n the chloropl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4360" y="1916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main sta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9640" y="328464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Light Dependent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466920" y="4292640"/>
            <a:ext cx="80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Light Independent (Dark)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900000" y="333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340000" y="119700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32130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ophyll capture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nlight energ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ransfers it to electrons.  The electrons are “exci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42920" y="1989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grana of the chlorop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028"/>
          <p:cNvSpPr/>
          <p:nvPr/>
        </p:nvSpPr>
        <p:spPr>
          <a:xfrm>
            <a:off x="826920" y="549360"/>
            <a:ext cx="785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Dependent Reactions involves two key p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30"/>
          <p:cNvSpPr/>
          <p:nvPr/>
        </p:nvSpPr>
        <p:spPr>
          <a:xfrm>
            <a:off x="1187280" y="220500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Splitting of water molecules into hydrogen and oxygen. This is called photoly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31"/>
          <p:cNvSpPr/>
          <p:nvPr/>
        </p:nvSpPr>
        <p:spPr>
          <a:xfrm>
            <a:off x="1187280" y="4076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Electron Transport Chains. This is where energy captured from light is used to form AT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403280" y="2565360"/>
            <a:ext cx="6697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in the stroma use the chemical energy of ATP to produce gluc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 this, carbon dioxide is combined with hydrogen to produce gluc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39640" y="90792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Independent Reactions (Dark React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Image35"/>
          <p:cNvPicPr/>
          <p:nvPr/>
        </p:nvPicPr>
        <p:blipFill>
          <a:blip r:embed="rId1"/>
          <a:stretch/>
        </p:blipFill>
        <p:spPr>
          <a:xfrm>
            <a:off x="755640" y="1773360"/>
            <a:ext cx="7704000" cy="1722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763640" y="6922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remember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547640" y="371628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simplify i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7"/>
          <p:cNvGraphicFramePr/>
          <p:nvPr/>
        </p:nvGraphicFramePr>
        <p:xfrm>
          <a:off x="857160" y="4429080"/>
          <a:ext cx="7947000" cy="18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4429080"/>
                    <a:ext cx="794700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7"/>
          <p:cNvGraphicFramePr/>
          <p:nvPr/>
        </p:nvGraphicFramePr>
        <p:xfrm>
          <a:off x="714240" y="928800"/>
          <a:ext cx="794700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928800"/>
                    <a:ext cx="794700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Box 2"/>
          <p:cNvSpPr/>
          <p:nvPr/>
        </p:nvSpPr>
        <p:spPr>
          <a:xfrm>
            <a:off x="285840" y="3143160"/>
            <a:ext cx="15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dioxide comes from the air and provides raw materials for production of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4"/>
          <p:cNvCxnSpPr/>
          <p:nvPr/>
        </p:nvCxnSpPr>
        <p:spPr>
          <a:xfrm flipV="1">
            <a:off x="927720" y="2571120"/>
            <a:ext cx="21492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TextBox 7"/>
          <p:cNvSpPr/>
          <p:nvPr/>
        </p:nvSpPr>
        <p:spPr>
          <a:xfrm>
            <a:off x="1928880" y="435780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ydrogen required in gluc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9"/>
          <p:cNvCxnSpPr/>
          <p:nvPr/>
        </p:nvCxnSpPr>
        <p:spPr>
          <a:xfrm flipV="1">
            <a:off x="2428920" y="2142720"/>
            <a:ext cx="286560" cy="192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Box 10"/>
          <p:cNvSpPr/>
          <p:nvPr/>
        </p:nvSpPr>
        <p:spPr>
          <a:xfrm>
            <a:off x="3357720" y="3000240"/>
            <a:ext cx="171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in glucose comes from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2"/>
          <p:cNvCxnSpPr/>
          <p:nvPr/>
        </p:nvCxnSpPr>
        <p:spPr>
          <a:xfrm flipV="1">
            <a:off x="4499640" y="1642320"/>
            <a:ext cx="114372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TextBox 13"/>
          <p:cNvSpPr/>
          <p:nvPr/>
        </p:nvSpPr>
        <p:spPr>
          <a:xfrm>
            <a:off x="7215120" y="3214800"/>
            <a:ext cx="12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comes from the water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Straight Arrow Connector 16"/>
          <p:cNvCxnSpPr/>
          <p:nvPr/>
        </p:nvCxnSpPr>
        <p:spPr>
          <a:xfrm flipH="1" flipV="1">
            <a:off x="7357680" y="1428120"/>
            <a:ext cx="357840" cy="157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TextBox 18"/>
          <p:cNvSpPr/>
          <p:nvPr/>
        </p:nvSpPr>
        <p:spPr>
          <a:xfrm>
            <a:off x="4000680" y="4357800"/>
            <a:ext cx="321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lucose is used as a fuel for cellular respiration or to construct larger molecules such as cellulose, , starch or disaccharide molecules such as fruct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5572080" y="250020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ygen used for aerobic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21"/>
          <p:cNvCxnSpPr/>
          <p:nvPr/>
        </p:nvCxnSpPr>
        <p:spPr>
          <a:xfrm flipH="1" flipV="1">
            <a:off x="5571720" y="1856520"/>
            <a:ext cx="572400" cy="42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7" name="Straight Arrow Connector 25"/>
          <p:cNvCxnSpPr/>
          <p:nvPr/>
        </p:nvCxnSpPr>
        <p:spPr>
          <a:xfrm flipV="1">
            <a:off x="6357960" y="1428120"/>
            <a:ext cx="929520" cy="121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" name="Straight Arrow Connector 29"/>
          <p:cNvCxnSpPr/>
          <p:nvPr/>
        </p:nvCxnSpPr>
        <p:spPr>
          <a:xfrm flipV="1">
            <a:off x="5072040" y="1571400"/>
            <a:ext cx="714960" cy="2715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1042920" y="126828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er To Pages 45 of your Text Book for an overview of 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8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9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lettuce_winter-crop_mine"/>
          <p:cNvPicPr/>
          <p:nvPr/>
        </p:nvPicPr>
        <p:blipFill>
          <a:blip r:embed="rId1"/>
          <a:stretch/>
        </p:blipFill>
        <p:spPr>
          <a:xfrm>
            <a:off x="2627280" y="549360"/>
            <a:ext cx="3828960" cy="37051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1547640" y="45813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time you see a lettuce, show it some respect before you eat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571760" y="1000080"/>
            <a:ext cx="5929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required for photosynthesis to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 enter the pl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produced from photosynthesi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F CROSS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leaf xsection.bmp"/>
          <p:cNvPicPr/>
          <p:nvPr/>
        </p:nvPicPr>
        <p:blipFill>
          <a:blip r:embed="rId1"/>
          <a:stretch/>
        </p:blipFill>
        <p:spPr>
          <a:xfrm>
            <a:off x="642960" y="1500120"/>
            <a:ext cx="79437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stomata.jpg"/>
          <p:cNvPicPr/>
          <p:nvPr/>
        </p:nvPicPr>
        <p:blipFill>
          <a:blip r:embed="rId1"/>
          <a:stretch/>
        </p:blipFill>
        <p:spPr>
          <a:xfrm>
            <a:off x="642960" y="1500120"/>
            <a:ext cx="4486320" cy="242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stoma-photo.jpg"/>
          <p:cNvPicPr/>
          <p:nvPr/>
        </p:nvPicPr>
        <p:blipFill>
          <a:blip r:embed="rId2"/>
          <a:stretch/>
        </p:blipFill>
        <p:spPr>
          <a:xfrm>
            <a:off x="4214880" y="3214800"/>
            <a:ext cx="436716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ta Pr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258920" y="549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Equation for Photosyn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024"/>
          <p:cNvGraphicFramePr/>
          <p:nvPr/>
        </p:nvGraphicFramePr>
        <p:xfrm>
          <a:off x="684360" y="2060640"/>
          <a:ext cx="7947000" cy="18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0640"/>
                    <a:ext cx="794700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8" descr="Image35"/>
          <p:cNvPicPr/>
          <p:nvPr/>
        </p:nvPicPr>
        <p:blipFill>
          <a:blip r:embed="rId3"/>
          <a:stretch/>
        </p:blipFill>
        <p:spPr>
          <a:xfrm>
            <a:off x="785880" y="4786200"/>
            <a:ext cx="7704000" cy="1722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5643720" y="407196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lorophyll-a is high energy and powers the synthesis of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403280" y="981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the energy contained in organic compou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25892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??????????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258920" y="400536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In the chemical bonds holding the atoms toget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050920" y="69228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glucose"/>
          <p:cNvPicPr/>
          <p:nvPr/>
        </p:nvPicPr>
        <p:blipFill>
          <a:blip r:embed="rId1"/>
          <a:stretch/>
        </p:blipFill>
        <p:spPr>
          <a:xfrm>
            <a:off x="2987640" y="1484280"/>
            <a:ext cx="3202200" cy="4076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050920" y="5805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energy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619280" y="981000"/>
            <a:ext cx="63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es photosynthesis occ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124000" y="278136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: Chloropla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09:05:59Z</dcterms:created>
  <dc:creator>Stephen</dc:creator>
  <dc:description/>
  <dc:language>en-US</dc:language>
  <cp:lastModifiedBy>luponed</cp:lastModifiedBy>
  <dcterms:modified xsi:type="dcterms:W3CDTF">2010-03-22T00:46:35Z</dcterms:modified>
  <cp:revision>21</cp:revision>
  <dc:subject/>
  <dc:title>Slide 1</dc:title>
</cp:coreProperties>
</file>