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F4BB-DEA6-454E-B4C1-66CCA043A5C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1CB0-19D3-46D9-BEE8-B32411408AA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38F3E-AF60-4AD4-A8E0-DFB74073B14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4FAE5-A436-4212-A653-5608D03920B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FEB51-F53D-4BB2-8F15-DAF51F194B2F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C453A-1157-4C4B-AC9F-AB6C4DEBB6BF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33024-EB17-406B-9A4B-3C925D554345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3158-C13A-4FBB-936B-088ACE80070A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F840A-B597-43EF-BC01-7891035AE02B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218FE-E828-454A-B1BB-C43DD42B0F0A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8172B-C777-45DE-B03A-84963BAB2BDA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8DB5D-39DE-40E4-B040-B3681D355DBB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E7B0-1A30-4E3B-956C-0C5E347D72D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DDEA2-F9DF-4144-9B24-943C925EEE4E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3E253-197A-4F7D-BCC1-BAAEDAE9AC1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D02E-D731-422D-A992-6BA921BD7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3C54-8490-4265-992F-1F331D942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F308-2119-4E6A-8597-1CD466563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7E4F-DBC8-4C25-940C-C18316621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EBBD-DF91-4619-B097-C24E04C4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5AC9-909A-47AB-90A9-7BF396C4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C508-258A-4785-BACA-F4CB960B5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42635-85D5-4CE0-B571-9EE4006F1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A5E4-63D7-4045-BCD5-F73930EE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8DCE-77B1-466A-8212-C76289CC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1597-D61D-4A5A-8E73-BD5B061D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84E0-D1C2-4D7F-A954-E813A6B5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0436-246C-4467-85C7-B664467BC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547640" y="83664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547640" y="1989000"/>
            <a:ext cx="547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whereby green plants convert (energy poor) inorganic compounds into (energy rich) organic compoun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1476360" y="90792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ucture of a chloropl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chloroplast"/>
          <p:cNvPicPr/>
          <p:nvPr/>
        </p:nvPicPr>
        <p:blipFill>
          <a:blip r:embed="rId1"/>
          <a:stretch/>
        </p:blipFill>
        <p:spPr>
          <a:xfrm>
            <a:off x="2195640" y="2133720"/>
            <a:ext cx="4824360" cy="4194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6948360" y="342900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Gra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chloroplast"/>
          <p:cNvPicPr/>
          <p:nvPr/>
        </p:nvPicPr>
        <p:blipFill>
          <a:blip r:embed="rId1"/>
          <a:stretch/>
        </p:blipFill>
        <p:spPr>
          <a:xfrm>
            <a:off x="1692360" y="260280"/>
            <a:ext cx="5111640" cy="27259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7"/>
          <p:cNvSpPr/>
          <p:nvPr/>
        </p:nvSpPr>
        <p:spPr>
          <a:xfrm>
            <a:off x="826920" y="429264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ylakoids: Disk shaped membranes containing photosynthetic pig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na: Stacks of thylako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ma: Fluid filled space surrounding grana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826920" y="342900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definitions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95280" y="765000"/>
            <a:ext cx="80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s in the chloropl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84360" y="191628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main stag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539640" y="328464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 Light Dependent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466920" y="4292640"/>
            <a:ext cx="803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 Light Independent (Dark)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900000" y="33336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ght Dependent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340000" y="1197000"/>
            <a:ext cx="45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11280" y="32130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rophyll captures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nlight energ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ransfers it to electrons.  The electrons are “exci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042920" y="198900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in the grana of the chloropl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028"/>
          <p:cNvSpPr/>
          <p:nvPr/>
        </p:nvSpPr>
        <p:spPr>
          <a:xfrm>
            <a:off x="826920" y="549360"/>
            <a:ext cx="7850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ght Dependent Reactions involves two key pa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30"/>
          <p:cNvSpPr/>
          <p:nvPr/>
        </p:nvSpPr>
        <p:spPr>
          <a:xfrm>
            <a:off x="1187280" y="2205000"/>
            <a:ext cx="70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 Splitting of water molecules into hydrogen and oxygen. This is called photolys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31"/>
          <p:cNvSpPr/>
          <p:nvPr/>
        </p:nvSpPr>
        <p:spPr>
          <a:xfrm>
            <a:off x="1187280" y="407664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 Electron Transport Chains. This is where energy captured from light is used to form AT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1403280" y="2565360"/>
            <a:ext cx="66978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s in the stroma use the chemical energy of ATP to produce gluco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o this, carbon dioxide is combined with hydrogen to produce gluc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539640" y="90792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ght Independent Reactions (Dark Reacti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Image35"/>
          <p:cNvPicPr/>
          <p:nvPr/>
        </p:nvPicPr>
        <p:blipFill>
          <a:blip r:embed="rId1"/>
          <a:stretch/>
        </p:blipFill>
        <p:spPr>
          <a:xfrm>
            <a:off x="755640" y="1773360"/>
            <a:ext cx="7704000" cy="17222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1763640" y="692280"/>
            <a:ext cx="58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you remember th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547640" y="371628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 simplify i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7"/>
          <p:cNvGraphicFramePr/>
          <p:nvPr/>
        </p:nvGraphicFramePr>
        <p:xfrm>
          <a:off x="857160" y="4429080"/>
          <a:ext cx="7947000" cy="181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7160" y="4429080"/>
                    <a:ext cx="7947000" cy="18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7"/>
          <p:cNvGraphicFramePr/>
          <p:nvPr/>
        </p:nvGraphicFramePr>
        <p:xfrm>
          <a:off x="714240" y="928800"/>
          <a:ext cx="7947000" cy="181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928800"/>
                    <a:ext cx="7947000" cy="18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Box 2"/>
          <p:cNvSpPr/>
          <p:nvPr/>
        </p:nvSpPr>
        <p:spPr>
          <a:xfrm>
            <a:off x="285840" y="3143160"/>
            <a:ext cx="157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on dioxide comes from the air and provides raw materials for production of 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Straight Arrow Connector 4"/>
          <p:cNvCxnSpPr/>
          <p:nvPr/>
        </p:nvCxnSpPr>
        <p:spPr>
          <a:xfrm flipV="1">
            <a:off x="927720" y="2571120"/>
            <a:ext cx="21492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" name="TextBox 7"/>
          <p:cNvSpPr/>
          <p:nvPr/>
        </p:nvSpPr>
        <p:spPr>
          <a:xfrm>
            <a:off x="1928880" y="4357800"/>
            <a:ext cx="157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Hydrogen required in gluc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Straight Arrow Connector 9"/>
          <p:cNvCxnSpPr/>
          <p:nvPr/>
        </p:nvCxnSpPr>
        <p:spPr>
          <a:xfrm flipV="1">
            <a:off x="2428920" y="2142720"/>
            <a:ext cx="286560" cy="192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" name="TextBox 10"/>
          <p:cNvSpPr/>
          <p:nvPr/>
        </p:nvSpPr>
        <p:spPr>
          <a:xfrm>
            <a:off x="3357720" y="3000240"/>
            <a:ext cx="171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ygen in glucose comes from carbon di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Arrow Connector 12"/>
          <p:cNvCxnSpPr/>
          <p:nvPr/>
        </p:nvCxnSpPr>
        <p:spPr>
          <a:xfrm flipV="1">
            <a:off x="4499640" y="1642320"/>
            <a:ext cx="1143720" cy="1429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2" name="TextBox 13"/>
          <p:cNvSpPr/>
          <p:nvPr/>
        </p:nvSpPr>
        <p:spPr>
          <a:xfrm>
            <a:off x="7215120" y="3214800"/>
            <a:ext cx="128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ygen comes from the water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Straight Arrow Connector 16"/>
          <p:cNvCxnSpPr/>
          <p:nvPr/>
        </p:nvCxnSpPr>
        <p:spPr>
          <a:xfrm flipH="1" flipV="1">
            <a:off x="7357680" y="1428120"/>
            <a:ext cx="357840" cy="157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TextBox 18"/>
          <p:cNvSpPr/>
          <p:nvPr/>
        </p:nvSpPr>
        <p:spPr>
          <a:xfrm>
            <a:off x="4000680" y="4357800"/>
            <a:ext cx="3214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lucose is used as a fuel for cellular respiration or to construct larger molecules such as cellulose, , starch or disaccharide molecules such as fruct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9"/>
          <p:cNvSpPr/>
          <p:nvPr/>
        </p:nvSpPr>
        <p:spPr>
          <a:xfrm>
            <a:off x="5572080" y="2500200"/>
            <a:ext cx="171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xygen used for aerobic respi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Straight Arrow Connector 21"/>
          <p:cNvCxnSpPr/>
          <p:nvPr/>
        </p:nvCxnSpPr>
        <p:spPr>
          <a:xfrm flipH="1" flipV="1">
            <a:off x="5571720" y="1856520"/>
            <a:ext cx="572400" cy="4294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07" name="Straight Arrow Connector 25"/>
          <p:cNvCxnSpPr/>
          <p:nvPr/>
        </p:nvCxnSpPr>
        <p:spPr>
          <a:xfrm flipV="1">
            <a:off x="6357960" y="1428120"/>
            <a:ext cx="929520" cy="121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8" name="Straight Arrow Connector 29"/>
          <p:cNvCxnSpPr/>
          <p:nvPr/>
        </p:nvCxnSpPr>
        <p:spPr>
          <a:xfrm flipV="1">
            <a:off x="5072040" y="1571400"/>
            <a:ext cx="714960" cy="27151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6"/>
          <p:cNvSpPr/>
          <p:nvPr/>
        </p:nvSpPr>
        <p:spPr>
          <a:xfrm>
            <a:off x="1042920" y="1268280"/>
            <a:ext cx="727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fer To Pages 45 of your Text Book for an overview of photosyn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50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38" dur="50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39" dur="50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lettuce_winter-crop_mine"/>
          <p:cNvPicPr/>
          <p:nvPr/>
        </p:nvPicPr>
        <p:blipFill>
          <a:blip r:embed="rId1"/>
          <a:stretch/>
        </p:blipFill>
        <p:spPr>
          <a:xfrm>
            <a:off x="2627280" y="549360"/>
            <a:ext cx="3828960" cy="37051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1547640" y="458136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 time you see a lettuce, show it some respect before you eat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571760" y="1000080"/>
            <a:ext cx="59292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required for photosynthesis to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the enter the pl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produced from photosynthesi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1857240" y="642960"/>
            <a:ext cx="54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F CROSS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leaf xsection.bmp"/>
          <p:cNvPicPr/>
          <p:nvPr/>
        </p:nvPicPr>
        <p:blipFill>
          <a:blip r:embed="rId1"/>
          <a:stretch/>
        </p:blipFill>
        <p:spPr>
          <a:xfrm>
            <a:off x="642960" y="1500120"/>
            <a:ext cx="794376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1857240" y="642960"/>
            <a:ext cx="54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stomata.jpg"/>
          <p:cNvPicPr/>
          <p:nvPr/>
        </p:nvPicPr>
        <p:blipFill>
          <a:blip r:embed="rId1"/>
          <a:stretch/>
        </p:blipFill>
        <p:spPr>
          <a:xfrm>
            <a:off x="642960" y="1500120"/>
            <a:ext cx="4486320" cy="2428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stoma-photo.jpg"/>
          <p:cNvPicPr/>
          <p:nvPr/>
        </p:nvPicPr>
        <p:blipFill>
          <a:blip r:embed="rId2"/>
          <a:stretch/>
        </p:blipFill>
        <p:spPr>
          <a:xfrm>
            <a:off x="4214880" y="3214800"/>
            <a:ext cx="436716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1857240" y="642960"/>
            <a:ext cx="54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mata Pr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1258920" y="54936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l Equation for Photosynth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024"/>
          <p:cNvGraphicFramePr/>
          <p:nvPr/>
        </p:nvGraphicFramePr>
        <p:xfrm>
          <a:off x="684360" y="2060640"/>
          <a:ext cx="7947000" cy="18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060640"/>
                    <a:ext cx="7947000" cy="18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Picture 8" descr="Image35"/>
          <p:cNvPicPr/>
          <p:nvPr/>
        </p:nvPicPr>
        <p:blipFill>
          <a:blip r:embed="rId3"/>
          <a:stretch/>
        </p:blipFill>
        <p:spPr>
          <a:xfrm>
            <a:off x="785880" y="4786200"/>
            <a:ext cx="7704000" cy="1722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5643720" y="407196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hlorophyll-a is high energy and powers the synthesis of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1403280" y="98100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is the energy contained in organic compou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1258920" y="2852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swer??????????????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1258920" y="4005360"/>
            <a:ext cx="68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Arial"/>
              </a:rPr>
              <a:t>In the chemical bonds holding the atoms togeth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050920" y="692280"/>
            <a:ext cx="55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m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glucose"/>
          <p:cNvPicPr/>
          <p:nvPr/>
        </p:nvPicPr>
        <p:blipFill>
          <a:blip r:embed="rId1"/>
          <a:stretch/>
        </p:blipFill>
        <p:spPr>
          <a:xfrm>
            <a:off x="2987640" y="1484280"/>
            <a:ext cx="3202200" cy="4076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2050920" y="58053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s the energy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1619280" y="981000"/>
            <a:ext cx="633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does photosynthesis occu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2124000" y="2781360"/>
            <a:ext cx="58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s: Chloropla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09:05:59Z</dcterms:created>
  <dc:creator>Stephen</dc:creator>
  <dc:description/>
  <dc:language>en-US</dc:language>
  <cp:lastModifiedBy>luponed</cp:lastModifiedBy>
  <dcterms:modified xsi:type="dcterms:W3CDTF">2010-03-22T00:46:35Z</dcterms:modified>
  <cp:revision>21</cp:revision>
  <dc:subject/>
  <dc:title>Slide 1</dc:title>
</cp:coreProperties>
</file>