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4AD4-1E6F-496D-93E7-20763A34D55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7A6E3-B27F-4FBC-94C3-903CEF3D7DF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AE8B7-EE1C-4EC6-8780-81392A4DCCB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BB1DA-78D6-4CF9-8DA5-4C93BD7AD7F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A0D3-DAE7-4F90-9EE9-A30B1D821E8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4E8A-5EC7-4B8D-8554-CEA6CB5985B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327D8-3250-4752-B957-21F481575E6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67ED-566F-4FD5-BDC7-5ADA1FC4E8B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E9F1B-060E-4D86-A24E-31D3A09FBE2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A52F-13C6-43FF-B78E-10726340495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1B308-FC41-490C-B0F3-729865EACF6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085D-3D49-46CE-9B14-38B8F1CBCAD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190C5-EDC9-4F87-886A-0BF5D10A483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33CB-D08F-49AD-88E9-F920E9E1407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FC1C0-1577-4796-80B8-4547B46625E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5567-6466-4566-80ED-394B474D9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53FD-6728-47DA-B2B4-3415D94A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EA7C-1A02-4332-947B-36B3A7D69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BE1F-D0C3-4490-B4E4-6324D5365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6D0B4-70CB-4609-9098-757BE7F0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A363-3D67-4E9C-B27C-65A998246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C8B9-2E43-4CA2-B1BB-D006D501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9CC4-359E-4942-A1CE-30B3124F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79CD-8D7D-45D8-AB10-173AF882B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611C-0B56-461C-BD49-AC0F4D07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8BC3-3B14-4241-82D1-E58DC8DE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F320-C26D-47AC-9CD9-0D673124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6E87-0507-4F8A-95BE-5E386261E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47640" y="83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47640" y="198900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whereby green plants convert (energy poor) inorganic compounds into (energy rich) organic compou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90792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a chloropl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hloroplast"/>
          <p:cNvPicPr/>
          <p:nvPr/>
        </p:nvPicPr>
        <p:blipFill>
          <a:blip r:embed="rId1"/>
          <a:stretch/>
        </p:blipFill>
        <p:spPr>
          <a:xfrm>
            <a:off x="2195640" y="2133720"/>
            <a:ext cx="4824360" cy="4194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694836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loroplast"/>
          <p:cNvPicPr/>
          <p:nvPr/>
        </p:nvPicPr>
        <p:blipFill>
          <a:blip r:embed="rId1"/>
          <a:stretch/>
        </p:blipFill>
        <p:spPr>
          <a:xfrm>
            <a:off x="1692360" y="260280"/>
            <a:ext cx="5111640" cy="272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826920" y="4292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ylakoids: Disk shaped membranes containing photosynthetic pig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a: Stacks of thylak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ma: Fluid filled space surrounding gran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26920" y="3429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finitions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95280" y="76500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 the chlorop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91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ai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9640" y="3284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66920" y="429264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Light Independent (Dark)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00000" y="333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340000" y="119700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3213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hyll capture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nlight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ansfers it to electrons.  The electrons are “exci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42920" y="19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grana of the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28"/>
          <p:cNvSpPr/>
          <p:nvPr/>
        </p:nvSpPr>
        <p:spPr>
          <a:xfrm>
            <a:off x="826920" y="549360"/>
            <a:ext cx="785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 involves two key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1187280" y="22050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Splitting of water molecules into hydrogen and oxygen. This is called photoly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1187280" y="4076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Electron Transport Chains. This is where energy captured from light is used to form AT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03280" y="2565360"/>
            <a:ext cx="669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in the stroma use the chemical energy of ATP to produce gluc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this, carbon dioxide is combined with hydrogen to produce 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9640" y="9079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Independent Reactions (Dark React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age35"/>
          <p:cNvPicPr/>
          <p:nvPr/>
        </p:nvPicPr>
        <p:blipFill>
          <a:blip r:embed="rId1"/>
          <a:stretch/>
        </p:blipFill>
        <p:spPr>
          <a:xfrm>
            <a:off x="755640" y="1773360"/>
            <a:ext cx="7704000" cy="1722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76364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remember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47640" y="3716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simplify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857160" y="4429080"/>
          <a:ext cx="7947000" cy="18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442908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714240" y="928800"/>
          <a:ext cx="7947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28800"/>
                    <a:ext cx="7947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2"/>
          <p:cNvSpPr/>
          <p:nvPr/>
        </p:nvSpPr>
        <p:spPr>
          <a:xfrm>
            <a:off x="285840" y="3143160"/>
            <a:ext cx="15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 comes from the air and provides raw materials for production of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4"/>
          <p:cNvCxnSpPr/>
          <p:nvPr/>
        </p:nvCxnSpPr>
        <p:spPr>
          <a:xfrm flipV="1">
            <a:off x="927720" y="2571120"/>
            <a:ext cx="2149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7"/>
          <p:cNvSpPr/>
          <p:nvPr/>
        </p:nvSpPr>
        <p:spPr>
          <a:xfrm>
            <a:off x="1928880" y="435780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ydrogen required in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9"/>
          <p:cNvCxnSpPr/>
          <p:nvPr/>
        </p:nvCxnSpPr>
        <p:spPr>
          <a:xfrm flipV="1">
            <a:off x="2428920" y="2142720"/>
            <a:ext cx="28656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10"/>
          <p:cNvSpPr/>
          <p:nvPr/>
        </p:nvSpPr>
        <p:spPr>
          <a:xfrm>
            <a:off x="3357720" y="300024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in glucose comes from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V="1">
            <a:off x="4499640" y="1642320"/>
            <a:ext cx="11437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13"/>
          <p:cNvSpPr/>
          <p:nvPr/>
        </p:nvSpPr>
        <p:spPr>
          <a:xfrm>
            <a:off x="7215120" y="321480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comes from the wate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16"/>
          <p:cNvCxnSpPr/>
          <p:nvPr/>
        </p:nvCxnSpPr>
        <p:spPr>
          <a:xfrm flipH="1" flipV="1">
            <a:off x="7357680" y="1428120"/>
            <a:ext cx="35784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18"/>
          <p:cNvSpPr/>
          <p:nvPr/>
        </p:nvSpPr>
        <p:spPr>
          <a:xfrm>
            <a:off x="4000680" y="435780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ucose is used as a fuel for cellular respiration or to construct larger molecules such as cellulose, , starch or disaccharide molecules such as fruct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5572080" y="250020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ygen used for aerobic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21"/>
          <p:cNvCxnSpPr/>
          <p:nvPr/>
        </p:nvCxnSpPr>
        <p:spPr>
          <a:xfrm flipH="1" flipV="1">
            <a:off x="5571720" y="1856520"/>
            <a:ext cx="57240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Straight Arrow Connector 25"/>
          <p:cNvCxnSpPr/>
          <p:nvPr/>
        </p:nvCxnSpPr>
        <p:spPr>
          <a:xfrm flipV="1">
            <a:off x="6357960" y="1428120"/>
            <a:ext cx="92952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Straight Arrow Connector 29"/>
          <p:cNvCxnSpPr/>
          <p:nvPr/>
        </p:nvCxnSpPr>
        <p:spPr>
          <a:xfrm flipV="1">
            <a:off x="5072040" y="1571400"/>
            <a:ext cx="714960" cy="27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1042920" y="126828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 To Pages 45 of your Text Book for an overview of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lettuce_winter-crop_mine"/>
          <p:cNvPicPr/>
          <p:nvPr/>
        </p:nvPicPr>
        <p:blipFill>
          <a:blip r:embed="rId1"/>
          <a:stretch/>
        </p:blipFill>
        <p:spPr>
          <a:xfrm>
            <a:off x="2627280" y="549360"/>
            <a:ext cx="3828960" cy="3705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547640" y="4581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 you see a lettuce, show it some respect before you ea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71760" y="1000080"/>
            <a:ext cx="5929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quired for photosynthesis to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enter the 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roduced from photosynthe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F CROSS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leaf xsection.bmp"/>
          <p:cNvPicPr/>
          <p:nvPr/>
        </p:nvPicPr>
        <p:blipFill>
          <a:blip r:embed="rId1"/>
          <a:stretch/>
        </p:blipFill>
        <p:spPr>
          <a:xfrm>
            <a:off x="642960" y="1500120"/>
            <a:ext cx="79437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stomata.jpg"/>
          <p:cNvPicPr/>
          <p:nvPr/>
        </p:nvPicPr>
        <p:blipFill>
          <a:blip r:embed="rId1"/>
          <a:stretch/>
        </p:blipFill>
        <p:spPr>
          <a:xfrm>
            <a:off x="642960" y="1500120"/>
            <a:ext cx="448632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toma-photo.jpg"/>
          <p:cNvPicPr/>
          <p:nvPr/>
        </p:nvPicPr>
        <p:blipFill>
          <a:blip r:embed="rId2"/>
          <a:stretch/>
        </p:blipFill>
        <p:spPr>
          <a:xfrm>
            <a:off x="4214880" y="3214800"/>
            <a:ext cx="43671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 P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258920" y="549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Equation for 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24"/>
          <p:cNvGraphicFramePr/>
          <p:nvPr/>
        </p:nvGraphicFramePr>
        <p:xfrm>
          <a:off x="684360" y="2060640"/>
          <a:ext cx="794700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8" descr="Image35"/>
          <p:cNvPicPr/>
          <p:nvPr/>
        </p:nvPicPr>
        <p:blipFill>
          <a:blip r:embed="rId3"/>
          <a:stretch/>
        </p:blipFill>
        <p:spPr>
          <a:xfrm>
            <a:off x="785880" y="4786200"/>
            <a:ext cx="7704000" cy="1722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5643720" y="40719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lorophyll-a is high energy and powers the synthesis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403280" y="981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the energy contained in organic compou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5892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??????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258920" y="400536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In the chemical bonds holding the atoms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0920" y="69228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lucose"/>
          <p:cNvPicPr/>
          <p:nvPr/>
        </p:nvPicPr>
        <p:blipFill>
          <a:blip r:embed="rId1"/>
          <a:stretch/>
        </p:blipFill>
        <p:spPr>
          <a:xfrm>
            <a:off x="2987640" y="1484280"/>
            <a:ext cx="3202200" cy="407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050920" y="580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energy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619280" y="98100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photosynthesis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24000" y="2781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: Chloropla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05:59Z</dcterms:created>
  <dc:creator>Stephen</dc:creator>
  <dc:description/>
  <dc:language>en-US</dc:language>
  <cp:lastModifiedBy>luponed</cp:lastModifiedBy>
  <dcterms:modified xsi:type="dcterms:W3CDTF">2010-03-22T00:46:35Z</dcterms:modified>
  <cp:revision>21</cp:revision>
  <dc:subject/>
  <dc:title>Slide 1</dc:title>
</cp:coreProperties>
</file>