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7D07-DF3A-4E25-B5AD-538AE6340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79C8-AE0D-4DBD-B46B-2D610D278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A62B-F078-43D1-AD72-8AB4F581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B806-8713-4E7C-A583-28776285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D802-2010-4FA4-BB1B-F962B3FF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29F-2F07-4B6C-A182-242490B9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FFA-A58E-4A85-AEA3-65798E82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642D-7583-4E8A-9150-6466D24BD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0A77-8B97-4012-BAEE-7433FB466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F6D2-19EC-4A48-9EAC-7A9BC9854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7AFF-6989-4346-A3D3-9D37966E6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DF45-2D7E-4002-87C1-11FACDE88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34E1B-D2B2-4AA9-A8AC-AE9F606762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fr/c/c6/Pyruvate.png&amp;imgrefurl=http://fr.wikipedia.org/wiki/Pyruvate&amp;h=166&amp;w=213&amp;sz=1&amp;tbnid=TOixfFkoVp3xIM:&amp;tbnh=78&amp;tbnw=101&amp;hl=en&amp;start=8&amp;prev=/images%3Fq%3Dpyruvate%26svnum%3D10%26hl%3Den%26lr%3D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greenspirit.org.uk/resources/glucose.gif&amp;imgrefurl=http://www.greenspirit.org.uk/resources/LifeChemistry.htm&amp;h=295&amp;w=281&amp;sz=10&amp;tbnid=4_vrbFxIY6E0fM:&amp;tbnh=111&amp;tbnw=105&amp;hl=en&amp;start=1&amp;prev=/images%3Fq%3Dglucose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85920" y="22147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happening to i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76520" y="19051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2997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nzymes are gathering around 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76360" y="3860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eing catabolised……….poor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58920" y="47242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reaking down so quick. Look at those enzymes go. There’s new compounds being made so fast. I’m hyperventil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9280" y="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476360" y="1197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It’s Mr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371600" y="990720"/>
            <a:ext cx="6945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ous T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cess has occurred to the glucose molecule in the cytoplasm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32000" y="3500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 Glyc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87280" y="4365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Oxygen involv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58920" y="53737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ooooooooooooo!  This process in anaero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glycolysis"/>
          <p:cNvPicPr/>
          <p:nvPr/>
        </p:nvPicPr>
        <p:blipFill>
          <a:blip r:embed="rId1"/>
          <a:stretch/>
        </p:blipFill>
        <p:spPr>
          <a:xfrm>
            <a:off x="1643040" y="1643040"/>
            <a:ext cx="5184720" cy="3822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143000" y="57150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molecules of glucose, glycolysis produces how many molecules of AT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00000" y="9079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roduced in glycolysis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5640" y="213372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26920" y="1773360"/>
            <a:ext cx="61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lecules of pyru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458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pyruvate (pyruvic acid) look like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Pyruv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1484280"/>
            <a:ext cx="4464360" cy="344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556000" y="54936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yruv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19280" y="5373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908000" y="522936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692360" y="50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arbon atoms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619280" y="5877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69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happens to the pyruvate?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162864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limited/no oxygen available, it will undergo fer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55640" y="292428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nts, the pyruvate is converted to alcohol and carbon dioxide.  No extra ATP is produ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00000" y="476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imals, something similar happens. The pyruvate is converted to lactic acid (no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ime and no extra AT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42100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se two cases, anaerobic respiration is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ose equations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55640" y="386064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plants, fun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Alcohol  + 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268360" y="465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51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Lactic Acid    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95640" y="5805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900000" y="83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What happens if oxygen is available??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2492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ake a trip into a mitochond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26920" y="4005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bloody membranes to cro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ytoplasm%20model---nikki"/>
          <p:cNvPicPr/>
          <p:nvPr/>
        </p:nvPicPr>
        <p:blipFill>
          <a:blip r:embed="rId1"/>
          <a:stretch/>
        </p:blipFill>
        <p:spPr>
          <a:xfrm>
            <a:off x="1295280" y="-303120"/>
            <a:ext cx="6553440" cy="493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565360"/>
            <a:ext cx="50976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042920" y="486900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is is where we are. We’re now going into a mitochondrion. Scary stuff. I hope you’ve got your excursion form signed………………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itochondrion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042920" y="51577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like that mitochondrion. Let’s tr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28760" y="1928880"/>
            <a:ext cx="82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require energy for all their activities (movement, metabolism, elimination of wastes and replic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use chemical energy to carry out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 energy is stored in the bonds or connections that join atoms together in molecules. If a molecule is broken apart the energy is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iration is the process whereby cells breakdown energy rich organic molecules into energy poor inorganic ones and in the process produce AT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spi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116000" y="1052640"/>
            <a:ext cx="5111640" cy="3611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5867280" y="2492280"/>
            <a:ext cx="2808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n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ut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ista (folds made by inner membr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11280" y="5589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Enter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66680" y="380880"/>
            <a:ext cx="5112000" cy="36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762120" y="4019400"/>
            <a:ext cx="777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ytoplasm was busy but a mitochondrion is full of action. Look at those enzymes breaking down pyruvic acid. . It’s lucky we’re wearing enzyme resistant cloth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00000" y="981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erious Tone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133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n the mitochondr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1280" y="335772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s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8360" y="407664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Kreb’s Citric Acid Cycle (occurs in the matr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lectron Transport Chain (occurs on the cris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33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eb’s Citric Acid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The reactions of TCAC as they happen in a human cell.The color scheme is as follows: enzymes, coenzymes, substrate names, metal ions, inorganic molecules, inhibition, stimulation ."/>
          <p:cNvPicPr/>
          <p:nvPr/>
        </p:nvPicPr>
        <p:blipFill>
          <a:blip r:embed="rId1"/>
          <a:stretch/>
        </p:blipFill>
        <p:spPr>
          <a:xfrm>
            <a:off x="611280" y="1052640"/>
            <a:ext cx="702936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11280" y="638172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602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ky we don’t need to know this level of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5564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Kreb’s Citric Acid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590920"/>
            <a:ext cx="65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ormed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amount of ATP (2 molec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arbon dioxide (C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11280" y="5013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219320" y="144792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 Electron Trans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628640"/>
            <a:ext cx="69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066680" y="2743200"/>
            <a:ext cx="6551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s here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ATP and Water are pro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oxygen is us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5564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is the basic equation for aerobic respiratio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2276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6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6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6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+  (36-38A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916360" y="256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6920" y="378936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all these molecules fit into what we’ve just discussed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3964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: starts to be broken down in the cytoplasm in the process known as glyc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1341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:  needed in the electron transport chain of aerobic respiration in the mitochond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836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Dioxide:  Produced in Kreb’s Citric Acid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39640" y="350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: Produced in the electron transport chain when oxygen combines with H+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95280" y="465300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: Some produced in glycolysis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produced in Kreb’s Citric Acid Cycle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duced in the Electron Transport Chain (The Re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42920" y="333360"/>
            <a:ext cx="5111640" cy="3611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w1_foto1"/>
          <p:cNvPicPr/>
          <p:nvPr/>
        </p:nvPicPr>
        <p:blipFill>
          <a:blip r:embed="rId2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92360" y="4365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it’s time to 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T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571680" y="857160"/>
            <a:ext cx="8143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is called Adenosine TriPhosph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t is a molecule that all cells use as an immediate energy sour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releases its energy to form ADP and Phosph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 and A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95640" y="69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 our cells need AT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57160" y="1557360"/>
            <a:ext cx="7315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To make polypeptides from amino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For active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To conduct nerve impul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To allow muscle cells to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To make DNA from nucleot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 etc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1800" y="5805360"/>
            <a:ext cx="86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it all start?  Let’s take a trip into the cytopla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428840" y="714240"/>
            <a:ext cx="6172200" cy="464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571760" y="5786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get through the cell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571760" y="785880"/>
            <a:ext cx="6300720" cy="474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85920" y="5929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here we are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26920" y="8380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energy rich molecules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1828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one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gluc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6200" y="2795760"/>
            <a:ext cx="2185920" cy="2309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0020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ts name?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4:22:27Z</dcterms:created>
  <dc:creator>glourys</dc:creator>
  <dc:description/>
  <dc:language>en-US</dc:language>
  <cp:lastModifiedBy>luponed</cp:lastModifiedBy>
  <dcterms:modified xsi:type="dcterms:W3CDTF">2010-03-15T09:59:54Z</dcterms:modified>
  <cp:revision>14</cp:revision>
  <dc:subject/>
  <dc:title>PowerPoint Presentation</dc:title>
</cp:coreProperties>
</file>