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717B-EC16-4D29-839B-46D7954C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F95F-A222-4CFA-BFD2-1A47A593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323-E63C-467F-9232-F4711C0D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34AA-FAD1-4182-91BC-6FF08E62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3508-B204-4029-A257-4B51DE5A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E1B-8B31-4323-8458-06F971A6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42AC-4E84-460D-9DA3-0EF7728D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79DA-D39F-44E2-A2B2-C30839BB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727E-AC4E-41CF-8008-0AB10230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E92-308E-46C7-A0C2-623B87EB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DEA0-8DB1-4901-BDF4-C060D7CF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CF0-03D1-478D-88FD-6EF8A7F1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2682-E3E7-4577-B8D6-DFE6220FE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upload.wikimedia.org/wikipedia/fr/c/c6/Pyruvate.png&amp;imgrefurl=http://fr.wikipedia.org/wiki/Pyruvate&amp;h=166&amp;w=213&amp;sz=1&amp;tbnid=TOixfFkoVp3xIM:&amp;tbnh=78&amp;tbnw=101&amp;hl=en&amp;start=8&amp;prev=/images%3Fq%3Dpyruvate%26svnum%3D10%26hl%3Den%26lr%3D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greenspirit.org.uk/resources/glucose.gif&amp;imgrefurl=http://www.greenspirit.org.uk/resources/LifeChemistry.htm&amp;h=295&amp;w=281&amp;sz=10&amp;tbnid=4_vrbFxIY6E0fM:&amp;tbnh=111&amp;tbnw=105&amp;hl=en&amp;start=1&amp;prev=/images%3Fq%3Dglucose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i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285920" y="22147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happening to it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676520" y="19051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332000" y="29973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nzymes are gathering around i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476360" y="386064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being catabolised……….poor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258920" y="47242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breaking down so quick. Look at those enzymes go. There’s new compounds being made so fast. I’m hyperventila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619280" y="0"/>
            <a:ext cx="57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476360" y="1197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It’s Mr 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371600" y="990720"/>
            <a:ext cx="6945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ous T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process has occurred to the glucose molecule in the cytoplasm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332000" y="3500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:  Glyco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187280" y="4365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Oxygen involved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258920" y="53737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oooooooooooooo!  This process in anaerob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glycolysis"/>
          <p:cNvPicPr/>
          <p:nvPr/>
        </p:nvPicPr>
        <p:blipFill>
          <a:blip r:embed="rId1"/>
          <a:stretch/>
        </p:blipFill>
        <p:spPr>
          <a:xfrm>
            <a:off x="1643040" y="1643040"/>
            <a:ext cx="5184720" cy="3822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1143000" y="571500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molecules of glucose, glycolysis produces how many molecules of ATP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900000" y="9079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produced in glycolysis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755640" y="213372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826920" y="1773360"/>
            <a:ext cx="61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olecules of pyru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6920" y="4581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pyruvate (pyruvic acid) look like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Pyruva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1484280"/>
            <a:ext cx="4464360" cy="3448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2556000" y="54936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yruv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619280" y="537372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908000" y="5229360"/>
            <a:ext cx="55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692360" y="5084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carbon atoms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619280" y="587700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: Th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84360" y="692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What happens to the pyruvate??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187280" y="1628640"/>
            <a:ext cx="70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limited/no oxygen available, it will undergo ferm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55640" y="292428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lants, the pyruvate is converted to alcohol and carbon dioxide.  No extra ATP is produc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900000" y="476280"/>
            <a:ext cx="77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imals, something similar happens. The pyruvate is converted to lactic acid (no C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is time and no extra AT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68360" y="242100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se two cases, anaerobic respiration is comp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ose equations???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755640" y="3860640"/>
            <a:ext cx="705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plants, fun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cose                      Alcohol  + C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2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>
            <a:off x="2268360" y="4653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971640" y="5157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cose                      Lactic Acid    +    2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2195640" y="5805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900000" y="836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imes New Roman"/>
              </a:rPr>
              <a:t>What happens if oxygen is available????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26920" y="2492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take a trip into a mitochondr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826920" y="400536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bloody membranes to cro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cytoplasm%20model---nikki"/>
          <p:cNvPicPr/>
          <p:nvPr/>
        </p:nvPicPr>
        <p:blipFill>
          <a:blip r:embed="rId1"/>
          <a:stretch/>
        </p:blipFill>
        <p:spPr>
          <a:xfrm>
            <a:off x="1295280" y="-303120"/>
            <a:ext cx="6553440" cy="4935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2565360"/>
            <a:ext cx="509760" cy="685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042920" y="486900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, this is where we are. We’re now going into a mitochondrion. Scary stuff. I hope you’ve got your excursion form signed…………………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mitochondrion"/>
          <p:cNvPicPr/>
          <p:nvPr/>
        </p:nvPicPr>
        <p:blipFill>
          <a:blip r:embed="rId1"/>
          <a:stretch/>
        </p:blipFill>
        <p:spPr>
          <a:xfrm>
            <a:off x="1763640" y="836640"/>
            <a:ext cx="5545080" cy="3581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1042920" y="5157720"/>
            <a:ext cx="72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don’t like that mitochondrion. Let’s try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428760" y="1928880"/>
            <a:ext cx="8215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s require energy for all their activities (movement, metabolism, elimination of wastes and replic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s use chemical energy to carry out these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emical energy is stored in the bonds or connections that join atoms together in molecules. If a molecule is broken apart the energy is rele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piration is the process whereby cells breakdown energy rich organic molecules into energy poor inorganic ones and in the process produce AT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espi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 Mitochondria structure : 1) Inner membrane 2) Outer membrane 3) Crista 4) Matrix "/>
          <p:cNvPicPr/>
          <p:nvPr/>
        </p:nvPicPr>
        <p:blipFill>
          <a:blip r:embed="rId1"/>
          <a:stretch/>
        </p:blipFill>
        <p:spPr>
          <a:xfrm>
            <a:off x="1116000" y="1052640"/>
            <a:ext cx="5111640" cy="36115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5867280" y="2492280"/>
            <a:ext cx="2808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nner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uter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Crista (folds made by inner membra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411280" y="558972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Enter O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 Mitochondria structure : 1) Inner membrane 2) Outer membrane 3) Crista 4) Matrix "/>
          <p:cNvPicPr/>
          <p:nvPr/>
        </p:nvPicPr>
        <p:blipFill>
          <a:blip r:embed="rId1"/>
          <a:stretch/>
        </p:blipFill>
        <p:spPr>
          <a:xfrm>
            <a:off x="1066680" y="380880"/>
            <a:ext cx="5112000" cy="3611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98100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762120" y="4019400"/>
            <a:ext cx="777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ytoplasm was busy but a mitochondrion is full of action. Look at those enzymes breaking down pyruvic acid. . It’s lucky we’re wearing enzyme resistant cloth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00000" y="981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Serious Tone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55640" y="21337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n the mitochondr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11280" y="335772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ain s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68360" y="4076640"/>
            <a:ext cx="76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Kreb’s Citric Acid Cycle (occurs in the matri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Electron Transport Chain (occurs on the cris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900000" y="333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reb’s Citric Acid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The reactions of TCAC as they happen in a human cell.The color scheme is as follows: enzymes, coenzymes, substrate names, metal ions, inorganic molecules, inhibition, stimulation ."/>
          <p:cNvPicPr/>
          <p:nvPr/>
        </p:nvPicPr>
        <p:blipFill>
          <a:blip r:embed="rId1"/>
          <a:stretch/>
        </p:blipFill>
        <p:spPr>
          <a:xfrm>
            <a:off x="611280" y="1052640"/>
            <a:ext cx="7029360" cy="4724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611280" y="638172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39640" y="602136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cky we don’t need to know this level of det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755640" y="620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Kreb’s Citric Acid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143000" y="2590920"/>
            <a:ext cx="6551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formed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mall amount of ATP (2 molecu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s of carbon dioxide (CO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11280" y="501336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219320" y="1447920"/>
            <a:ext cx="62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The Electron Transpor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11280" y="1628640"/>
            <a:ext cx="691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066680" y="2743200"/>
            <a:ext cx="655164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happens here??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ts of ATP and Water are produc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ts of oxygen is used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755640" y="620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What is the basic equation for aerobic respiration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68360" y="22766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6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6C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+   6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  +  (36-38A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2916360" y="2565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6920" y="378936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o all these molecules fit into what we’ve just discussed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539640" y="26028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ucose: starts to be broken down in the cytoplasm in the process known as glyco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68360" y="134136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:  needed in the electron transport chain of aerobic respiration in the mitochond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68360" y="2492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 Dioxide:  Produced in Kreb’s Citric Acid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539640" y="350028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: Produced in the electron transport chain when oxygen combines with H+ 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95280" y="4653000"/>
            <a:ext cx="87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P: Some produced in glycolysis (2AT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produced in Kreb’s Citric Acid Cycle (2AT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st produced in the Electron Transport Chain (The Res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 Mitochondria structure : 1) Inner membrane 2) Outer membrane 3) Crista 4) Matrix "/>
          <p:cNvPicPr/>
          <p:nvPr/>
        </p:nvPicPr>
        <p:blipFill>
          <a:blip r:embed="rId1"/>
          <a:stretch/>
        </p:blipFill>
        <p:spPr>
          <a:xfrm>
            <a:off x="1042920" y="333360"/>
            <a:ext cx="5111640" cy="3611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w1_foto1"/>
          <p:cNvPicPr/>
          <p:nvPr/>
        </p:nvPicPr>
        <p:blipFill>
          <a:blip r:embed="rId2"/>
          <a:stretch/>
        </p:blipFill>
        <p:spPr>
          <a:xfrm>
            <a:off x="2843280" y="98100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1692360" y="4365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think it’s time to 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T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http://rds.yahoo.com/_ylt=A0Je5xa1PO9F8HEAvw6jzbkF;_ylu=X3oDMTA4NDgyNWN0BHNlYwNwcm9m/SIG=12j36jl1m/EXP=1173392949/**http%3A//www.uic.edu/classes/bios/bios100/mike/spring2003/atp.jpg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571680" y="857160"/>
            <a:ext cx="81435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P is called Adenosine TriPhosph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t is a molecule that all cells use as an immediate energy sour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P releases its energy to form ADP and Phosph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P and AD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http://rds.yahoo.com/_ylt=A0Je5x8pPe9F7poAPUajzbkF;_ylu=X3oDMTA4NDgyNWN0BHNlYwNwcm9m/SIG=12mse5kn1/EXP=1173393065/**http%3A//bioweb.wku.edu/courses/biol115/wyatt/Metabolism/ATP_ADP.gif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195640" y="69228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y do our cells need AT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57160" y="1557360"/>
            <a:ext cx="7315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To make polypeptides from amino ac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For active trans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To conduct nerve impul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To allow muscle cells to con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To make DNA from nucleot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  etc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-1800" y="5805360"/>
            <a:ext cx="86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it all start?  Let’s take a trip into the cytopla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ytoplasm%20model---nikki"/>
          <p:cNvPicPr/>
          <p:nvPr/>
        </p:nvPicPr>
        <p:blipFill>
          <a:blip r:embed="rId1"/>
          <a:stretch/>
        </p:blipFill>
        <p:spPr>
          <a:xfrm>
            <a:off x="1428840" y="714240"/>
            <a:ext cx="6172200" cy="4649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61000" y="243828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1571760" y="5786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to get through the cell membr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ytoplasm%20model---nikki"/>
          <p:cNvPicPr/>
          <p:nvPr/>
        </p:nvPicPr>
        <p:blipFill>
          <a:blip r:embed="rId1"/>
          <a:stretch/>
        </p:blipFill>
        <p:spPr>
          <a:xfrm>
            <a:off x="1571760" y="785880"/>
            <a:ext cx="6300720" cy="4744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61000" y="243828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285920" y="5929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here we are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826920" y="838080"/>
            <a:ext cx="73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energy rich molecules can you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143000" y="18288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’s one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gluco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6200" y="2795760"/>
            <a:ext cx="2185920" cy="2309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600200" y="54100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its name????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4:22:27Z</dcterms:created>
  <dc:creator>glourys</dc:creator>
  <dc:description/>
  <dc:language>en-US</dc:language>
  <cp:lastModifiedBy>luponed</cp:lastModifiedBy>
  <dcterms:modified xsi:type="dcterms:W3CDTF">2010-03-15T09:59:54Z</dcterms:modified>
  <cp:revision>14</cp:revision>
  <dc:subject/>
  <dc:title>PowerPoint Presentation</dc:title>
</cp:coreProperties>
</file>