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5EDB-9453-4BCA-B029-2ED5423C371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9486-E528-42E0-9E91-DE202ABA685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8C6C-1619-4FC3-8AC6-555D3717B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9FAF-6CB0-4342-9801-74186FCC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EDF4-FB85-4887-9961-00895FFA7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535E-9008-4DAC-A85A-45B783D84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44BB9-3486-4F33-AC94-1B85B95D5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58118-5A14-4151-BF79-2CDFD502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70B31-FD6D-4C3D-B188-1130FB306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D916-9716-4F81-837E-4D3295A9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973F-5C42-4797-B5A8-1645F0EC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69E8-5541-4892-825C-E2175AED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5B15-B61C-4A93-8309-56188B6C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4028-6A38-41C7-837B-DEFE3C45A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2E12-D42E-40E0-ADE6-7268C2317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FAF-5ED3-498D-801B-E86DD353F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8A1C1-F695-4823-9384-E03FA29C7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550A-EEA8-47A5-90C5-56F98BE9F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089B-23D6-4158-80A5-B88BCFD4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D3BB-D4D7-4834-BE6E-72CAFB8B1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5274-D3C2-4BE2-92FD-5C7ECC8C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FD6E-BEB4-45B7-A3C2-BB226AED8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5D99-6545-4C83-9747-2ADCCA0C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18C8-AA80-49CF-B2CB-C5C9F99A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9419-BD55-488E-9F2C-D5FA6AB2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5074-9F09-4D6A-966E-6B224179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EBEF7-4BDF-44B4-8D18-A12C6A3D8EF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7B7C-F5EC-4448-88C8-5BCB715DE1D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cation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214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Dolph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various sounds to communicate differe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sounds for location and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Calibri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determining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57720" y="1428840"/>
          <a:ext cx="5435280" cy="4906800"/>
        </p:xfrm>
        <a:graphic>
          <a:graphicData uri="http://schemas.openxmlformats.org/drawingml/2006/table">
            <a:tbl>
              <a:tblPr/>
              <a:tblGrid>
                <a:gridCol w="3065400"/>
                <a:gridCol w="236988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4" descr="koala_male_scent_gland"/>
          <p:cNvPicPr/>
          <p:nvPr/>
        </p:nvPicPr>
        <p:blipFill>
          <a:blip r:embed="rId1"/>
          <a:stretch/>
        </p:blipFill>
        <p:spPr>
          <a:xfrm>
            <a:off x="6000840" y="357192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7T03:43:22Z</dcterms:modified>
  <cp:revision>16</cp:revision>
  <dc:subject/>
  <dc:title>Functions of Behaviour</dc:title>
</cp:coreProperties>
</file>