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50B9-CB12-446A-8F75-B883FD1DA84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24F5-7E1B-46A1-9E97-D5B584BE559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0C8-F8A7-444D-A8A4-FBF7D3BE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13B-8389-4C94-A457-9710358A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68D-FFDC-498F-B31F-07CF9E34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6B9-C080-41A0-963F-72D64178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E6C1-37C2-49C4-822E-F388886C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D0F-73E8-4AF1-9A63-1E36E393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5A5-6E49-4353-BA75-E6EFC013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35E4-BE7F-4430-A62F-44B57985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ECB9-963A-4EB5-89FC-76FD592D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D248-E298-447C-81D2-BDC58D1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B34-79ED-438C-96CF-43B1FBF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195-D701-4079-B20D-928EDA5D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AD1B-DD18-40DE-8942-EF910DA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CF2D-ECCF-4D65-9D48-12C2E0A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4777-0D43-42B7-8B87-3EC7752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9502-54E2-4976-AD4C-115D39A0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4E6-1EE9-43A4-805E-1E810367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922-AC58-4612-BBBA-63478B87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4A6-844B-41CD-AEE4-0E779F4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01D-BC11-497C-A402-092A1990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84A-0F4D-4694-A562-66942DA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3E1-BC33-4BE3-9EA0-81E2F44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CFC-4F48-4D97-A269-3FF60E4D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A72-4094-46CF-90D6-134772AF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3EDD-51C3-4010-AD54-EDF2AEAFF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8425-F8E9-40EB-BF40-ABD880E9C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cation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214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Dolph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various sounds to communicate differe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sounds for location and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Calibri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determining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57720" y="1428840"/>
          <a:ext cx="5435280" cy="4906800"/>
        </p:xfrm>
        <a:graphic>
          <a:graphicData uri="http://schemas.openxmlformats.org/drawingml/2006/table">
            <a:tbl>
              <a:tblPr/>
              <a:tblGrid>
                <a:gridCol w="3065400"/>
                <a:gridCol w="236988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4" descr="koala_male_scent_gland"/>
          <p:cNvPicPr/>
          <p:nvPr/>
        </p:nvPicPr>
        <p:blipFill>
          <a:blip r:embed="rId1"/>
          <a:stretch/>
        </p:blipFill>
        <p:spPr>
          <a:xfrm>
            <a:off x="6000840" y="357192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7T03:43:22Z</dcterms:modified>
  <cp:revision>16</cp:revision>
  <dc:subject/>
  <dc:title>Functions of Behaviour</dc:title>
</cp:coreProperties>
</file>