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8E04-F379-42C4-AC03-82DEF0EC81B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FABE-87BA-4BAF-AA8B-695318843BA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B16-6C87-4309-92A7-27921DC3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298-2F07-4CB3-9DEB-58EA0E6E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1C9-73D6-4667-A5ED-4933CE40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B6D-498A-4A0B-AE5F-C6F77C22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6E98-4841-4962-9039-B35AC9AF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3E69-69CA-49B4-B94A-DB5AEA2F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3654-40EB-4922-BA74-A80B6F48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6850-8344-400C-AD90-056F4817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7B41-DCB7-4712-BCB7-F2BB94AF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7391-8D36-4AA7-A6F1-4C9E78AD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B0C3-DF7B-4A22-BD2A-77AB5285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826-8954-47CE-B70A-63A3A6BB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2CB-EBDF-4D6A-B704-C457BBD1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9EB0-02DF-403E-8045-F77ED85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BE77-4ABA-4C43-8261-78EC0289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33A-D6FE-42BB-B5E9-FA0CFCA6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285B-5647-4207-92AC-EB971558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054-06B5-4BB1-8563-14369D5A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069-5B8D-47B6-B63E-90778AAA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C5D-9CA8-4379-97FE-1BF0E88C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1A0-1617-49E4-A2F0-EDAF127B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901-F1E0-4FF8-AA76-120BBC8D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E0E-43C7-4907-A004-57764F7B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673-1E79-42E3-B9C5-A8E3BF7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7F33-8EFC-4927-B238-F3ABD95BA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13C2-D8F9-4890-9311-3C659E801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cation Behavi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214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Dolph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various sounds to communicate differen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sounds for location and nav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ff"/>
                </a:solidFill>
                <a:latin typeface="Calibri"/>
              </a:rPr>
              <a:t>	</a:t>
            </a:r>
            <a:r>
              <a:rPr b="1" lang="en-AU" sz="2400" spc="-1" strike="noStrike">
                <a:solidFill>
                  <a:srgbClr val="0000ff"/>
                </a:solidFill>
                <a:latin typeface="Calibri"/>
              </a:rPr>
              <a:t>Echolocation</a:t>
            </a:r>
            <a:r>
              <a:rPr b="0" lang="en-AU" sz="2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determining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357720" y="1428840"/>
          <a:ext cx="5435280" cy="4906800"/>
        </p:xfrm>
        <a:graphic>
          <a:graphicData uri="http://schemas.openxmlformats.org/drawingml/2006/table">
            <a:tbl>
              <a:tblPr/>
              <a:tblGrid>
                <a:gridCol w="3065400"/>
                <a:gridCol w="236988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vigation, hu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y-chase, 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aw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rtship, m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arm, fright, di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eaks, cracks, p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ting, predator near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4" descr="koala_male_scent_gland"/>
          <p:cNvPicPr/>
          <p:nvPr/>
        </p:nvPicPr>
        <p:blipFill>
          <a:blip r:embed="rId1"/>
          <a:stretch/>
        </p:blipFill>
        <p:spPr>
          <a:xfrm>
            <a:off x="6000840" y="357192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9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7T03:43:22Z</dcterms:modified>
  <cp:revision>16</cp:revision>
  <dc:subject/>
  <dc:title>Functions of Behaviour</dc:title>
</cp:coreProperties>
</file>