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6.jpeg" ContentType="image/jpeg"/>
  <Override PartName="/ppt/media/image60.png" ContentType="image/png"/>
  <Override PartName="/ppt/media/image6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59.png" ContentType="image/pn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41.jpeg" ContentType="image/jpeg"/>
  <Override PartName="/ppt/media/image14.jpeg" ContentType="image/jpeg"/>
  <Override PartName="/ppt/media/image5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7293-B70C-4DB8-8D5B-AE27F8D5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8A28-1FDA-41DB-A4C6-44C76CC9A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729A-561A-4930-860C-CF73DE2C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D75-232D-4368-B20C-512555343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146F-5D0C-4684-A41B-B96787900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2128-221E-4EAC-BA6E-F20EB02CB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BC0AC-FFA0-43AD-B4E5-59AB6776A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31BF-9C55-47B0-9C61-48021F06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6A6D7-CE2A-423D-B8CA-B194AB36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DCE8F-D021-4B3D-A7BA-045FE99D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08C50-54A1-42C4-A247-A566D7A66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B1D3-F89B-40E8-8DD7-3CC0EE00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37D9-65B2-41EA-954D-4FAF96C6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CA96E-1D63-45E2-8ED4-EFD3E8A2D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657C0-D0D2-4AB5-846E-3FFCFBB65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97F5-45A2-4AE9-9FB1-5F5D34CEC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481C-9B7D-42B0-81F9-5BB592E8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CEE8-CF93-41E2-89E5-861F429F5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26DE-D252-4EA6-B5FE-EBF4D074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5C8D-1B41-4E35-B817-E29AD8B9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5A26-8B4B-4839-AA0A-54125F30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F1A6-84CA-4CE0-AF5A-BA28CB26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8930-01BB-447B-9F86-7A5BC289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03D9-E3A8-4B95-B8FA-2D27A9DCA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45EB2-F329-4543-8320-26D362A11C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1AADB-59D6-4BAF-974A-71C8597F98E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units.muohio.edu/dragonfly/com/howlecho.wav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s://www.savethekoala.com/koalasfacts.html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s://www.savethekoala.com/koalashistory.html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s://www.savethekoala.com/koalasdistribution.html" TargetMode="External"/><Relationship Id="rId6" Type="http://schemas.openxmlformats.org/officeDocument/2006/relationships/image" Target="../media/image37.jpeg"/><Relationship Id="rId7" Type="http://schemas.openxmlformats.org/officeDocument/2006/relationships/hyperlink" Target="https://www.savethekoala.com/koalastaxonomy.html" TargetMode="External"/><Relationship Id="rId8" Type="http://schemas.openxmlformats.org/officeDocument/2006/relationships/image" Target="../media/image38.jpeg"/><Relationship Id="rId9" Type="http://schemas.openxmlformats.org/officeDocument/2006/relationships/hyperlink" Target="https://www.savethekoala.com/koalasphysic.html" TargetMode="External"/><Relationship Id="rId10" Type="http://schemas.openxmlformats.org/officeDocument/2006/relationships/image" Target="../media/image39.jpeg"/><Relationship Id="rId11" Type="http://schemas.openxmlformats.org/officeDocument/2006/relationships/hyperlink" Target="https://www.savethekoala.com/koalaslifecycle.html" TargetMode="External"/><Relationship Id="rId12" Type="http://schemas.openxmlformats.org/officeDocument/2006/relationships/image" Target="../media/image40.jpeg"/><Relationship Id="rId13" Type="http://schemas.openxmlformats.org/officeDocument/2006/relationships/hyperlink" Target="https://www.savethekoala.com/koalasdiet.html" TargetMode="External"/><Relationship Id="rId14" Type="http://schemas.openxmlformats.org/officeDocument/2006/relationships/image" Target="../media/image41.jpeg"/><Relationship Id="rId15" Type="http://schemas.openxmlformats.org/officeDocument/2006/relationships/hyperlink" Target="https://www.savethekoala.com/koalassocialise.html" TargetMode="External"/><Relationship Id="rId16" Type="http://schemas.openxmlformats.org/officeDocument/2006/relationships/image" Target="../media/image42.jpeg"/><Relationship Id="rId17" Type="http://schemas.openxmlformats.org/officeDocument/2006/relationships/hyperlink" Target="https://www.savethekoala.com/koalashabitat.html" TargetMode="External"/><Relationship Id="rId18" Type="http://schemas.openxmlformats.org/officeDocument/2006/relationships/image" Target="../media/image43.jpeg"/><Relationship Id="rId19" Type="http://schemas.openxmlformats.org/officeDocument/2006/relationships/hyperlink" Target="https://www.savethekoala.com/koalastrees.html" TargetMode="External"/><Relationship Id="rId20" Type="http://schemas.openxmlformats.org/officeDocument/2006/relationships/image" Target="../media/image44.jpeg"/><Relationship Id="rId21" Type="http://schemas.openxmlformats.org/officeDocument/2006/relationships/hyperlink" Target="https://www.savethekoala.com/koalasthreats.html" TargetMode="External"/><Relationship Id="rId22" Type="http://schemas.openxmlformats.org/officeDocument/2006/relationships/image" Target="../media/image45.jpeg"/><Relationship Id="rId23" Type="http://schemas.openxmlformats.org/officeDocument/2006/relationships/hyperlink" Target="https://www.savethekoala.com/koalasdogs.html" TargetMode="External"/><Relationship Id="rId24" Type="http://schemas.openxmlformats.org/officeDocument/2006/relationships/image" Target="../media/image46.jpeg"/><Relationship Id="rId25" Type="http://schemas.openxmlformats.org/officeDocument/2006/relationships/hyperlink" Target="https://www.savethekoala.com/koalasinjured.html" TargetMode="External"/><Relationship Id="rId26" Type="http://schemas.openxmlformats.org/officeDocument/2006/relationships/image" Target="../media/image47.jpeg"/><Relationship Id="rId27" Type="http://schemas.openxmlformats.org/officeDocument/2006/relationships/hyperlink" Target="https://www.savethekoala.com/koalasendangered.html" TargetMode="External"/><Relationship Id="rId28" Type="http://schemas.openxmlformats.org/officeDocument/2006/relationships/image" Target="../media/image48.jpeg"/><Relationship Id="rId29" Type="http://schemas.openxmlformats.org/officeDocument/2006/relationships/hyperlink" Target="https://www.savethekoala.com/koalasliving.html" TargetMode="External"/><Relationship Id="rId30" Type="http://schemas.openxmlformats.org/officeDocument/2006/relationships/image" Target="../media/image49.jpeg"/><Relationship Id="rId31" Type="http://schemas.openxmlformats.org/officeDocument/2006/relationships/hyperlink" Target="https://www.savethekoala.com/koalasfaqs.html" TargetMode="External"/><Relationship Id="rId32" Type="http://schemas.openxmlformats.org/officeDocument/2006/relationships/image" Target="../media/image50.jpeg"/><Relationship Id="rId33" Type="http://schemas.openxmlformats.org/officeDocument/2006/relationships/hyperlink" Target="https://www.savethekoala.com/koalas.html" TargetMode="External"/><Relationship Id="rId34" Type="http://schemas.openxmlformats.org/officeDocument/2006/relationships/image" Target="../media/image51.jpeg"/><Relationship Id="rId35" Type="http://schemas.openxmlformats.org/officeDocument/2006/relationships/hyperlink" Target="https://www.savethekoala.com/koalasfacts.html" TargetMode="External"/><Relationship Id="rId36" Type="http://schemas.openxmlformats.org/officeDocument/2006/relationships/hyperlink" Target="https://www.savethekoala.com/koalashistory.html" TargetMode="External"/><Relationship Id="rId37" Type="http://schemas.openxmlformats.org/officeDocument/2006/relationships/hyperlink" Target="https://www.savethekoala.com/koalasdistribution.html" TargetMode="External"/><Relationship Id="rId38" Type="http://schemas.openxmlformats.org/officeDocument/2006/relationships/hyperlink" Target="https://www.savethekoala.com/koalastaxonomy.html" TargetMode="External"/><Relationship Id="rId39" Type="http://schemas.openxmlformats.org/officeDocument/2006/relationships/hyperlink" Target="https://www.savethekoala.com/koalasphysic.html" TargetMode="External"/><Relationship Id="rId40" Type="http://schemas.openxmlformats.org/officeDocument/2006/relationships/hyperlink" Target="https://www.savethekoala.com/koalaslifecycle.html" TargetMode="External"/><Relationship Id="rId41" Type="http://schemas.openxmlformats.org/officeDocument/2006/relationships/hyperlink" Target="https://www.savethekoala.com/koalasdiet.html" TargetMode="External"/><Relationship Id="rId42" Type="http://schemas.openxmlformats.org/officeDocument/2006/relationships/hyperlink" Target="https://www.savethekoala.com/koalassocialise.html" TargetMode="External"/><Relationship Id="rId43" Type="http://schemas.openxmlformats.org/officeDocument/2006/relationships/hyperlink" Target="https://www.savethekoala.com/koalashabitat.html" TargetMode="External"/><Relationship Id="rId44" Type="http://schemas.openxmlformats.org/officeDocument/2006/relationships/hyperlink" Target="https://www.savethekoala.com/koalastrees.html" TargetMode="External"/><Relationship Id="rId45" Type="http://schemas.openxmlformats.org/officeDocument/2006/relationships/hyperlink" Target="https://www.savethekoala.com/koalasthreats.html" TargetMode="External"/><Relationship Id="rId46" Type="http://schemas.openxmlformats.org/officeDocument/2006/relationships/hyperlink" Target="https://www.savethekoala.com/koalasdogs.html" TargetMode="External"/><Relationship Id="rId47" Type="http://schemas.openxmlformats.org/officeDocument/2006/relationships/hyperlink" Target="https://www.savethekoala.com/koalasinjured.html" TargetMode="External"/><Relationship Id="rId48" Type="http://schemas.openxmlformats.org/officeDocument/2006/relationships/hyperlink" Target="https://www.savethekoala.com/koalasendangered.html" TargetMode="External"/><Relationship Id="rId49" Type="http://schemas.openxmlformats.org/officeDocument/2006/relationships/image" Target="../media/image52.jpeg"/><Relationship Id="rId50" Type="http://schemas.openxmlformats.org/officeDocument/2006/relationships/image" Target="../media/image53.jpeg"/><Relationship Id="rId5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psych.upenn.edu/~seyfarth/Baboon%20research/male%20hormones2.htm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ctio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5800" y="1905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ur patterns are usually adaptive. They help the animal survive and/or reprod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09480" y="3200400"/>
            <a:ext cx="78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Behaviours based on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i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mi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t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roduc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09480" y="16765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 behaviours are those that are carried out in the production and rearing of offspring. Reproductive behaviours can be classed into several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09480" y="2971800"/>
            <a:ext cx="8001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tship Behaviour, such as the display of colours and song shown by male lyre-birds to attract fe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 building, such as the preparation of a nest hollow for breeding by budgerig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al Care, such as the feeding and protection given to a newborn whale calf by its mo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M%20RU%20Zoo-Great%20Blue%20Herons%20Courtship%20Behaviour"/>
          <p:cNvPicPr/>
          <p:nvPr/>
        </p:nvPicPr>
        <p:blipFill>
          <a:blip r:embed="rId1"/>
          <a:stretch/>
        </p:blipFill>
        <p:spPr>
          <a:xfrm>
            <a:off x="684360" y="1657440"/>
            <a:ext cx="7920000" cy="5200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1600200" y="5335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 In Egr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Stock Photo of  sandwich tern pair birds courtship behaviour male feeding "/>
          <p:cNvPicPr/>
          <p:nvPr/>
        </p:nvPicPr>
        <p:blipFill>
          <a:blip r:embed="rId1"/>
          <a:stretch/>
        </p:blipFill>
        <p:spPr>
          <a:xfrm>
            <a:off x="838080" y="1876320"/>
            <a:ext cx="7561440" cy="4981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0" y="404640"/>
            <a:ext cx="87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: Male Te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Female 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wiedersheimi-027m"/>
          <p:cNvPicPr/>
          <p:nvPr/>
        </p:nvPicPr>
        <p:blipFill>
          <a:blip r:embed="rId1"/>
          <a:stretch/>
        </p:blipFill>
        <p:spPr>
          <a:xfrm>
            <a:off x="324000" y="1590840"/>
            <a:ext cx="8496000" cy="51242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468360" y="476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A Male Chame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ZebraDove2LR"/>
          <p:cNvPicPr/>
          <p:nvPr/>
        </p:nvPicPr>
        <p:blipFill>
          <a:blip r:embed="rId1"/>
          <a:stretch/>
        </p:blipFill>
        <p:spPr>
          <a:xfrm>
            <a:off x="611280" y="1535040"/>
            <a:ext cx="7993080" cy="5322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395280" y="333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Zebra D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5-14paperwaspclose"/>
          <p:cNvPicPr/>
          <p:nvPr/>
        </p:nvPicPr>
        <p:blipFill>
          <a:blip r:embed="rId1"/>
          <a:stretch/>
        </p:blipFill>
        <p:spPr>
          <a:xfrm>
            <a:off x="2268360" y="1052640"/>
            <a:ext cx="4776840" cy="5506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611280" y="333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st Building Behaviour In Paper Was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1098158391"/>
          <p:cNvPicPr/>
          <p:nvPr/>
        </p:nvPicPr>
        <p:blipFill>
          <a:blip r:embed="rId1"/>
          <a:stretch/>
        </p:blipFill>
        <p:spPr>
          <a:xfrm>
            <a:off x="1116000" y="1339920"/>
            <a:ext cx="6823080" cy="51260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611280" y="333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ing Material Used By Red Eared Fir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350px-Redwing_nest"/>
          <p:cNvPicPr/>
          <p:nvPr/>
        </p:nvPicPr>
        <p:blipFill>
          <a:blip r:embed="rId1"/>
          <a:stretch/>
        </p:blipFill>
        <p:spPr>
          <a:xfrm>
            <a:off x="755640" y="1911240"/>
            <a:ext cx="7273800" cy="4946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11280" y="404640"/>
            <a:ext cx="82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ng Birds Requiring Significant Parental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for Tea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HoodedWarbler(web)"/>
          <p:cNvPicPr/>
          <p:nvPr/>
        </p:nvPicPr>
        <p:blipFill>
          <a:blip r:embed="rId1"/>
          <a:stretch/>
        </p:blipFill>
        <p:spPr>
          <a:xfrm>
            <a:off x="826920" y="1773360"/>
            <a:ext cx="7128000" cy="4770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684360" y="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0" y="33336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time mum and dad showed up with the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s like it’s insects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ti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62120" y="2362320"/>
            <a:ext cx="79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ppetitive behaviour is one that leads indirectly to the satisfaction of a motivation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roach food in order to satisfy your hunger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ritorial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33520" y="12193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ehaviour carried out in defence of a specific area which is used for the provision of food or breeding purpo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09480" y="205740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oneyeater chasing off other honeyeaters from an area that has many nectar-producing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oup of magpies defending an area used for breeding from other magp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blck_visit_contents2"/>
          <p:cNvPicPr/>
          <p:nvPr/>
        </p:nvPicPr>
        <p:blipFill>
          <a:blip r:embed="rId1"/>
          <a:stretch/>
        </p:blipFill>
        <p:spPr>
          <a:xfrm>
            <a:off x="533520" y="4419720"/>
            <a:ext cx="342900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13694"/>
          <p:cNvPicPr/>
          <p:nvPr/>
        </p:nvPicPr>
        <p:blipFill>
          <a:blip r:embed="rId1"/>
          <a:stretch/>
        </p:blipFill>
        <p:spPr>
          <a:xfrm>
            <a:off x="324000" y="1219320"/>
            <a:ext cx="8496000" cy="56386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84360" y="404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Behaviour In Pel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and Solitary Behaviou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behaviours are those carried out by several individuals of the same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tary behaviours are those carried out by a single individ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-451440" y="476280"/>
            <a:ext cx="9659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Advantages of living in a social group inclu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degree of protection from pred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care of offspr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ability to find food sour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ability to defend territo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Better access to potential mates</a:t>
            </a:r>
            <a:br>
              <a:rPr sz="3600"/>
            </a:b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116000" y="476280"/>
            <a:ext cx="755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Disadvantages of living in a social group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1.  Increased competition for mates, food and nesting s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Increased risk of inf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Greater risk of injury from other members in the grou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914400" y="152280"/>
            <a:ext cx="756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ocial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elephant_herd"/>
          <p:cNvPicPr/>
          <p:nvPr/>
        </p:nvPicPr>
        <p:blipFill>
          <a:blip r:embed="rId1"/>
          <a:stretch/>
        </p:blipFill>
        <p:spPr>
          <a:xfrm>
            <a:off x="990720" y="1517760"/>
            <a:ext cx="7613640" cy="4995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8380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phant herd led by an older dominant female (matriar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grkangaclose"/>
          <p:cNvPicPr/>
          <p:nvPr/>
        </p:nvPicPr>
        <p:blipFill>
          <a:blip r:embed="rId1"/>
          <a:stretch/>
        </p:blipFill>
        <p:spPr>
          <a:xfrm>
            <a:off x="1332000" y="1413000"/>
            <a:ext cx="6335640" cy="5111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1908000" y="476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ern Grey Kangar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DSCN6616-swarm-mohan_800x600"/>
          <p:cNvPicPr/>
          <p:nvPr/>
        </p:nvPicPr>
        <p:blipFill>
          <a:blip r:embed="rId1"/>
          <a:stretch/>
        </p:blipFill>
        <p:spPr>
          <a:xfrm>
            <a:off x="1116000" y="1268280"/>
            <a:ext cx="6985080" cy="52358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104292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warm of Honey B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bees%20working%20on%20honey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olitary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6" descr="koalas"/>
          <p:cNvPicPr/>
          <p:nvPr/>
        </p:nvPicPr>
        <p:blipFill>
          <a:blip r:embed="rId1"/>
          <a:stretch/>
        </p:blipFill>
        <p:spPr>
          <a:xfrm>
            <a:off x="3094200" y="2033640"/>
            <a:ext cx="2955600" cy="3657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304920" y="213372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ala with young. Looking after dependent offspring doesn’t mean the species is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tigerstretch"/>
          <p:cNvPicPr/>
          <p:nvPr/>
        </p:nvPicPr>
        <p:blipFill>
          <a:blip r:embed="rId1"/>
          <a:stretch/>
        </p:blipFill>
        <p:spPr>
          <a:xfrm>
            <a:off x="838080" y="1066680"/>
            <a:ext cx="7616880" cy="50785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1523880" y="3049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ers are soli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gre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028"/>
          <p:cNvSpPr/>
          <p:nvPr/>
        </p:nvSpPr>
        <p:spPr>
          <a:xfrm>
            <a:off x="914400" y="14479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 behaviour involves a physical act or threat by one individual against another. Some territorial behaviours are also aggressive behavi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29"/>
          <p:cNvSpPr/>
          <p:nvPr/>
        </p:nvSpPr>
        <p:spPr>
          <a:xfrm>
            <a:off x="914400" y="2743200"/>
            <a:ext cx="7238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ominant male baboon chasing off a subordinate male that got too close to a fem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okaburras attacking a goanna that is approaching the nesting hollow (with chicks) of the kookabur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pies dive bombing during the breeding seas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cat species are solitary. One big cat is a social speci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One???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pic066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hrysis%20spp"/>
          <p:cNvPicPr/>
          <p:nvPr/>
        </p:nvPicPr>
        <p:blipFill>
          <a:blip r:embed="rId1"/>
          <a:stretch/>
        </p:blipFill>
        <p:spPr>
          <a:xfrm>
            <a:off x="826920" y="1413000"/>
            <a:ext cx="7274160" cy="5084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762120" y="5335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by Tailed Wasp: A Solitary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 of Commun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7" descr="peacock"/>
          <p:cNvPicPr/>
          <p:nvPr/>
        </p:nvPicPr>
        <p:blipFill>
          <a:blip r:embed="rId1"/>
          <a:stretch/>
        </p:blipFill>
        <p:spPr>
          <a:xfrm>
            <a:off x="152280" y="2895480"/>
            <a:ext cx="4260960" cy="3262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photo_2"/>
          <p:cNvPicPr/>
          <p:nvPr/>
        </p:nvPicPr>
        <p:blipFill>
          <a:blip r:embed="rId2"/>
          <a:stretch/>
        </p:blipFill>
        <p:spPr>
          <a:xfrm>
            <a:off x="5238720" y="2897280"/>
            <a:ext cx="2857680" cy="19335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84360" y="17002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Visual Communication: Based on s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38520847"/>
          <p:cNvPicPr/>
          <p:nvPr/>
        </p:nvPicPr>
        <p:blipFill>
          <a:blip r:embed="rId1"/>
          <a:stretch/>
        </p:blipFill>
        <p:spPr>
          <a:xfrm>
            <a:off x="3708360" y="0"/>
            <a:ext cx="4680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324000" y="765000"/>
            <a:ext cx="2735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rilla St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ve you got a probl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Vocal Communication: Based on S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Gorilla(m)beating%20chest-2"/>
          <p:cNvPicPr/>
          <p:nvPr/>
        </p:nvPicPr>
        <p:blipFill>
          <a:blip r:embed="rId1"/>
          <a:stretch/>
        </p:blipFill>
        <p:spPr>
          <a:xfrm>
            <a:off x="2514600" y="990720"/>
            <a:ext cx="6429240" cy="5641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52280" y="1371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st B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lf Pack Ca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214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howl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627200"/>
            <a:ext cx="64771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hemical Communication: Based on Taste and Smel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14" descr="koala_male_scent_gland"/>
          <p:cNvPicPr/>
          <p:nvPr/>
        </p:nvPicPr>
        <p:blipFill>
          <a:blip r:embed="rId1"/>
          <a:stretch/>
        </p:blipFill>
        <p:spPr>
          <a:xfrm>
            <a:off x="3772080" y="2871720"/>
            <a:ext cx="1600200" cy="19814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684360" y="1628640"/>
            <a:ext cx="734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nimals produce chemicals that affect the behaviour of other individuals of the same species. These substances are called phero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95280" y="450864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t gland used to repel other male koalas. It may also function to attract fe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Bellowing koala"/>
          <p:cNvPicPr/>
          <p:nvPr/>
        </p:nvPicPr>
        <p:blipFill>
          <a:blip r:embed="rId1"/>
          <a:stretch/>
        </p:blipFill>
        <p:spPr>
          <a:xfrm>
            <a:off x="2340000" y="549360"/>
            <a:ext cx="491472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linkfac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linkhistor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linkdist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linktaxonom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linkphy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linkcycl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linkdie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linksocia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linkhabitat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linktrees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linkthreat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linkdogs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9" descr="linkdiseas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0" descr="linkendanger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1" descr="linklive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2" descr="linkfaqs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3" descr="lablehome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1440" y="-2130480"/>
          <a:ext cx="9142560" cy="10961640"/>
        </p:xfrm>
        <a:graphic>
          <a:graphicData uri="http://schemas.openxmlformats.org/drawingml/2006/table">
            <a:tbl>
              <a:tblPr/>
              <a:tblGrid>
                <a:gridCol w="3714840"/>
                <a:gridCol w="5427720"/>
              </a:tblGrid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51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53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1160" y="-2120760"/>
          <a:ext cx="20808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716280" y="-2120760"/>
          <a:ext cx="257400" cy="2560320"/>
        </p:xfrm>
        <a:graphic>
          <a:graphicData uri="http://schemas.openxmlformats.org/drawingml/2006/table">
            <a:tbl>
              <a:tblPr/>
              <a:tblGrid>
                <a:gridCol w="257400"/>
              </a:tblGrid>
              <a:tr h="256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14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9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0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1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2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3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4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b971"/>
                    </a:solidFill>
                  </a:tcPr>
                </a:tc>
              </a:tr>
            </a:tbl>
          </a:graphicData>
        </a:graphic>
      </p:graphicFrame>
      <p:pic>
        <p:nvPicPr>
          <p:cNvPr id="187" name="Picture 6" descr="headallaboutkoalas"/>
          <p:cNvPicPr/>
          <p:nvPr/>
        </p:nvPicPr>
        <p:blipFill>
          <a:blip r:embed="rId49"/>
          <a:stretch/>
        </p:blipFill>
        <p:spPr>
          <a:xfrm>
            <a:off x="3909960" y="-2079720"/>
            <a:ext cx="1390680" cy="228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5" descr="koalaphysic1"/>
          <p:cNvPicPr/>
          <p:nvPr/>
        </p:nvPicPr>
        <p:blipFill>
          <a:blip r:embed="rId50"/>
          <a:stretch/>
        </p:blipFill>
        <p:spPr>
          <a:xfrm>
            <a:off x="2340000" y="0"/>
            <a:ext cx="430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pourer Mo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6" descr="358"/>
          <p:cNvPicPr/>
          <p:nvPr/>
        </p:nvPicPr>
        <p:blipFill>
          <a:blip r:embed="rId1"/>
          <a:stretch/>
        </p:blipFill>
        <p:spPr>
          <a:xfrm>
            <a:off x="755640" y="981000"/>
            <a:ext cx="3127320" cy="4392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357"/>
          <p:cNvPicPr/>
          <p:nvPr/>
        </p:nvPicPr>
        <p:blipFill>
          <a:blip r:embed="rId2"/>
          <a:stretch/>
        </p:blipFill>
        <p:spPr>
          <a:xfrm>
            <a:off x="4427640" y="981000"/>
            <a:ext cx="4105080" cy="4079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2"/>
          <p:cNvSpPr/>
          <p:nvPr/>
        </p:nvSpPr>
        <p:spPr>
          <a:xfrm>
            <a:off x="684360" y="57913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male on left cannot fly. It uses pheromones to attract the male on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magpie"/>
          <p:cNvPicPr/>
          <p:nvPr/>
        </p:nvPicPr>
        <p:blipFill>
          <a:blip r:embed="rId1"/>
          <a:stretch/>
        </p:blipFill>
        <p:spPr>
          <a:xfrm>
            <a:off x="457200" y="380880"/>
            <a:ext cx="3294000" cy="3353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more%20chasing"/>
          <p:cNvPicPr/>
          <p:nvPr/>
        </p:nvPicPr>
        <p:blipFill>
          <a:blip r:embed="rId2"/>
          <a:stretch/>
        </p:blipFill>
        <p:spPr>
          <a:xfrm>
            <a:off x="5029200" y="2743200"/>
            <a:ext cx="3429000" cy="2320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male%20woun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440"/>
            <a:ext cx="3505320" cy="2489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aggressive"/>
          <p:cNvPicPr/>
          <p:nvPr/>
        </p:nvPicPr>
        <p:blipFill>
          <a:blip r:embed="rId5"/>
          <a:stretch/>
        </p:blipFill>
        <p:spPr>
          <a:xfrm>
            <a:off x="380880" y="4038480"/>
            <a:ext cx="41148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Tactile Communication: Based on Tou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6" descr="Female and male greeting in swamp."/>
          <p:cNvPicPr/>
          <p:nvPr/>
        </p:nvPicPr>
        <p:blipFill>
          <a:blip r:embed="rId1"/>
          <a:stretch/>
        </p:blipFill>
        <p:spPr>
          <a:xfrm>
            <a:off x="3290760" y="3173400"/>
            <a:ext cx="25624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33901596_87e3d0e96f_m"/>
          <p:cNvPicPr/>
          <p:nvPr/>
        </p:nvPicPr>
        <p:blipFill>
          <a:blip r:embed="rId1"/>
          <a:stretch/>
        </p:blipFill>
        <p:spPr>
          <a:xfrm>
            <a:off x="1258920" y="94464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RingtailedLemurs"/>
          <p:cNvPicPr/>
          <p:nvPr/>
        </p:nvPicPr>
        <p:blipFill>
          <a:blip r:embed="rId1"/>
          <a:stretch/>
        </p:blipFill>
        <p:spPr>
          <a:xfrm>
            <a:off x="1332000" y="565200"/>
            <a:ext cx="6553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ic Patter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are patterns of behaviour based on specific periods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Circadian Rhythms: Based on a daily cycle. Example: Sl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snoring"/>
          <p:cNvPicPr/>
          <p:nvPr/>
        </p:nvPicPr>
        <p:blipFill>
          <a:blip r:embed="rId1"/>
          <a:stretch/>
        </p:blipFill>
        <p:spPr>
          <a:xfrm>
            <a:off x="5681520" y="3086280"/>
            <a:ext cx="1743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684360" y="476280"/>
            <a:ext cx="77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Circannual Rhythms: Based on a yearly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Migratory habits in many bi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6" descr="120705birdmap"/>
          <p:cNvPicPr/>
          <p:nvPr/>
        </p:nvPicPr>
        <p:blipFill>
          <a:blip r:embed="rId1"/>
          <a:stretch/>
        </p:blipFill>
        <p:spPr>
          <a:xfrm>
            <a:off x="1258920" y="2060640"/>
            <a:ext cx="67676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STNRNK-1"/>
          <p:cNvPicPr/>
          <p:nvPr/>
        </p:nvPicPr>
        <p:blipFill>
          <a:blip r:embed="rId1"/>
          <a:stretch/>
        </p:blipFill>
        <p:spPr>
          <a:xfrm>
            <a:off x="1547640" y="333360"/>
            <a:ext cx="5905800" cy="51516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900000" y="587700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-necked Stint – An Australian Migratory B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826920" y="907920"/>
            <a:ext cx="7921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ar Rhythms: Based on the phases of the m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The release of gametes from many species of coral is associated with the full moon of the lunar cyc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6" descr="spawning"/>
          <p:cNvPicPr/>
          <p:nvPr/>
        </p:nvPicPr>
        <p:blipFill>
          <a:blip r:embed="rId1"/>
          <a:stretch/>
        </p:blipFill>
        <p:spPr>
          <a:xfrm>
            <a:off x="3564000" y="2808360"/>
            <a:ext cx="44812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684360" y="836640"/>
            <a:ext cx="7632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dal Rhythms: Based on the rise and fall of the t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eeding by crabs at low tide when food is plenti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6" descr="24-9-9"/>
          <p:cNvPicPr/>
          <p:nvPr/>
        </p:nvPicPr>
        <p:blipFill>
          <a:blip r:embed="rId1"/>
          <a:stretch/>
        </p:blipFill>
        <p:spPr>
          <a:xfrm>
            <a:off x="3348000" y="2997360"/>
            <a:ext cx="5367240" cy="3520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395280" y="3860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dier Cr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09480" y="17524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behaviours designed to stop or reduce the intensity of the aggressive behaviour of another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85800" y="38098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09480" y="2819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dog rolling on its back in the presence of an older and stronger male do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gorilla turning its face away from the stare of a silverback (male) gorill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redfox1"/>
          <p:cNvPicPr/>
          <p:nvPr/>
        </p:nvPicPr>
        <p:blipFill>
          <a:blip r:embed="rId1"/>
          <a:stretch/>
        </p:blipFill>
        <p:spPr>
          <a:xfrm>
            <a:off x="1754280" y="0"/>
            <a:ext cx="563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bodylanguage6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3575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submissivewolf"/>
          <p:cNvPicPr/>
          <p:nvPr/>
        </p:nvPicPr>
        <p:blipFill>
          <a:blip r:embed="rId2"/>
          <a:stretch/>
        </p:blipFill>
        <p:spPr>
          <a:xfrm>
            <a:off x="2268360" y="3716280"/>
            <a:ext cx="4824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MoreInfo6"/>
          <p:cNvPicPr/>
          <p:nvPr/>
        </p:nvPicPr>
        <p:blipFill>
          <a:blip r:embed="rId1"/>
          <a:stretch/>
        </p:blipFill>
        <p:spPr>
          <a:xfrm>
            <a:off x="468360" y="1125360"/>
            <a:ext cx="756108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MoreInfo3"/>
          <p:cNvPicPr/>
          <p:nvPr/>
        </p:nvPicPr>
        <p:blipFill>
          <a:blip r:embed="rId1"/>
          <a:stretch/>
        </p:blipFill>
        <p:spPr>
          <a:xfrm>
            <a:off x="900000" y="976320"/>
            <a:ext cx="755964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02:56:14Z</dcterms:created>
  <dc:creator>glourys</dc:creator>
  <dc:description/>
  <dc:language>en-US</dc:language>
  <cp:lastModifiedBy>luponed</cp:lastModifiedBy>
  <dcterms:modified xsi:type="dcterms:W3CDTF">2010-07-22T06:34:43Z</dcterms:modified>
  <cp:revision>12</cp:revision>
  <dc:subject/>
  <dc:title>Functions of Behaviour</dc:title>
</cp:coreProperties>
</file>