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FCEB-55BA-43D5-A617-46ED2DBB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9B5-F230-4273-9287-CD354F29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686-8E04-4ADD-8DAD-C845AC2B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4B1A-C50D-488D-9C67-61B18555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538C9-725D-4D97-B6DD-E13D2E6FF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7DADB-5871-4A8F-8BD3-2A3CFE5B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045C-2181-4592-9F5F-6E312E732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D627F-10A9-4CC7-B7E9-2FD44E2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3CE76-DA56-4548-A0C9-50EF5318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D184-9A53-4144-A9D0-E66BF6FEC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E77A-9D47-463C-BDA3-DC538FB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7319-A50E-451A-AD46-8B6EAF05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2CFC-59AE-485F-81F9-D6473CC1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0B52-086E-496A-B2E6-1AC4AB25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1B72D-8014-40C0-BE76-7A20016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CBD0E-623B-4A01-B16F-86309C9BE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76E91-60D7-410D-8916-0DBB7519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6AE7-AA18-4636-8570-9F946DAB4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DCB1-5DBE-45A8-A972-5324E9F5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E938-EFEE-450C-A925-D4AC1668F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33C-51C4-4AB9-8D22-A7E0D218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6C75-499A-4447-A7A6-9CA1621F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6C00-C8D2-42B3-9AEC-ACCF859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874-3E3D-4967-949F-EACECB3A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81B2-90AA-4F66-809F-C8F93EB1D7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25EE2-4D8E-4F37-B6E4-6B92CBD8F45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14" descr="koala_male_scent_gland"/>
          <p:cNvPicPr/>
          <p:nvPr/>
        </p:nvPicPr>
        <p:blipFill>
          <a:blip r:embed="rId1"/>
          <a:stretch/>
        </p:blipFill>
        <p:spPr>
          <a:xfrm>
            <a:off x="3772080" y="2871720"/>
            <a:ext cx="16002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8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2T06:34:43Z</dcterms:modified>
  <cp:revision>12</cp:revision>
  <dc:subject/>
  <dc:title>Functions of Behaviour</dc:title>
</cp:coreProperties>
</file>