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55A-723D-40A7-AB3C-279907F3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24F-F0F3-42AB-BC44-FD3BC46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610-C118-4635-A442-D8356122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9C9-9EAD-4612-B410-252669BB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A3B-9EBD-4109-947E-41B104C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41F-DBCB-4203-93D7-D7D773E9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494-0F33-43F1-AF92-2B5E7F90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215-B3F1-433F-AEC9-8FC2AD05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271-DCC3-43F3-9722-2F52232D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9E1-F226-4000-934F-D5F28D1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8C6-BDE4-445E-B4EA-415D003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AE2-5EAF-438B-BA91-6E92EE5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58B0-045E-47B0-9E12-4E7C4BB96E0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133720"/>
            <a:ext cx="8001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so called biological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 increase in the concentration of a chemical along a food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compounds are usually resistant to being broken down and are not readily exc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352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920" y="1523880"/>
            <a:ext cx="8458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When mercury enters the water, it is changed into a more toxic substance called methyl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thylmercury is absorbed by bacteria and small plants. These bacteria and plants are eaten by small fish, which in turn are eaten by larger fis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By the time a fish-eating bird or mammal eats the larger fish, the concentration of methylmercury in the fish can be up to a million times higher than in the surrounding wa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rcury gets into the environment as a result of human uses of mercury in products and in industry and the combustion of fossil fuels that contain 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Forest fires, the evaporation of seawater and volcanoes also contribute mercury into the environ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An estimated two-thirds of mercury in the environment is the result of human activ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://www.nwf.org/mercury/images/bioaccumulation.gif"/>
          <p:cNvPicPr/>
          <p:nvPr/>
        </p:nvPicPr>
        <p:blipFill>
          <a:blip r:embed="rId1"/>
          <a:stretch/>
        </p:blipFill>
        <p:spPr>
          <a:xfrm>
            <a:off x="2209680" y="0"/>
            <a:ext cx="45370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http://www.csa.com/discoveryguides/mercury/images/bioaccumulation.jpg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xample 2 - D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144792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is a man-made chemical that was widely used to control insects on agricultural crops and insects that carry diseases like malaria and typh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accumulates in the fat of humans, livestock, aquatic food chains, and wild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ny predatory birds were heavily impacted by DDT. The peregrine falcon was severely affected by DDT as it prevented normal calcium deposition during eggshell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caused females to lay thin-shelled eggs that often break before hatc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fws.gov/contaminants/images/DDT.jpg"/>
          <p:cNvPicPr/>
          <p:nvPr/>
        </p:nvPicPr>
        <p:blipFill>
          <a:blip r:embed="rId1"/>
          <a:stretch/>
        </p:blipFill>
        <p:spPr>
          <a:xfrm>
            <a:off x="1905120" y="380880"/>
            <a:ext cx="5079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www.pollutionissues.com/images/paz_01_img0060.jp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rfalconcam.com/imprints/wp-content/uploads/2007/05/maincamera_highres_20070510-1651.jpg"/>
          <p:cNvPicPr/>
          <p:nvPr/>
        </p:nvPicPr>
        <p:blipFill>
          <a:blip r:embed="rId1"/>
          <a:stretch/>
        </p:blipFill>
        <p:spPr>
          <a:xfrm>
            <a:off x="-536400" y="23760"/>
            <a:ext cx="10218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ater.usgs.gov/nawqa/images/fig23.gif"/>
          <p:cNvPicPr/>
          <p:nvPr/>
        </p:nvPicPr>
        <p:blipFill>
          <a:blip r:embed="rId1"/>
          <a:stretch/>
        </p:blipFill>
        <p:spPr>
          <a:xfrm>
            <a:off x="949320" y="23760"/>
            <a:ext cx="72468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16:15Z</dcterms:created>
  <dc:creator>glourys</dc:creator>
  <dc:description/>
  <dc:language>en-US</dc:language>
  <cp:lastModifiedBy>luponed</cp:lastModifiedBy>
  <dcterms:modified xsi:type="dcterms:W3CDTF">2010-10-15T04:11:16Z</dcterms:modified>
  <cp:revision>2</cp:revision>
  <dc:subject/>
  <dc:title>Bioaccumulation</dc:title>
</cp:coreProperties>
</file>