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123-D28C-4809-9749-83AFF8DB0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5B99-1C1A-4450-9E68-39F274717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C7B1-AE6C-4EB0-BA25-FD1E6B9B5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5AF-895A-4D18-AD97-26A993DDD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5BE-1A0B-44D9-AE93-1D3998A57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3850-23F9-46D8-9F33-F0510820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53D-B236-4F52-8A44-00C749FA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78D2-DC70-4F49-B1A2-8D638B36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F56-0575-4223-9CEF-CBEF52AB4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E76-31CC-405B-AE9C-544B623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9D5-E4A2-4D4F-9CDD-158AB65E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7033B-43EC-47B3-8C08-BE3FEE381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EDCD2-D937-4269-8BC4-C509EF70A697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13372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so called 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increase in the concentration of a chemical along a food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compounds are usually resistant to being broken down and are not readily exc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920" y="1523880"/>
            <a:ext cx="8458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When mercury enters the water, it is changed into a more toxic substance called methyl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thylmercury is absorbed by bacteria and small plants. These bacteria and plants are eaten by small fish, which in turn are eaten by larger fi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y the time a fish-eating bird or mammal eats the larger fish, the concentration of methylmercury in the fish can be up to a million times higher than in the surrounding wa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rcury gets into the environment as a result of human uses of mercury in products and in industry and the combustion of fossil fuels that contain 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Forest fires, the evaporation of seawater and volcanoes also contribute mercury into the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An estimated two-thirds of mercury in the environment is the result of human activ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www.nwf.org/mercury/images/bioaccumulation.gif"/>
          <p:cNvPicPr/>
          <p:nvPr/>
        </p:nvPicPr>
        <p:blipFill>
          <a:blip r:embed="rId1"/>
          <a:stretch/>
        </p:blipFill>
        <p:spPr>
          <a:xfrm>
            <a:off x="2209680" y="0"/>
            <a:ext cx="4537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http://www.csa.com/discoveryguides/mercury/images/bioaccumulation.jpg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xample 2 - D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144792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is a man-made chemical that was widely used to control insects on agricultural crops and insects that carry diseases like malaria and typh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accumulates in the fat of humans, livestock, aquatic food chains, and wild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predatory birds were heavily impacted by DDT. The peregrine falcon was severely affected by DDT as it prevented normal calcium deposition during eggshell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caused females to lay thin-shelled eggs that often break before hatc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fws.gov/contaminants/images/DDT.jpg"/>
          <p:cNvPicPr/>
          <p:nvPr/>
        </p:nvPicPr>
        <p:blipFill>
          <a:blip r:embed="rId1"/>
          <a:stretch/>
        </p:blipFill>
        <p:spPr>
          <a:xfrm>
            <a:off x="1905120" y="380880"/>
            <a:ext cx="5079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www.pollutionissues.com/images/paz_01_img0060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rfalconcam.com/imprints/wp-content/uploads/2007/05/maincamera_highres_20070510-1651.jpg"/>
          <p:cNvPicPr/>
          <p:nvPr/>
        </p:nvPicPr>
        <p:blipFill>
          <a:blip r:embed="rId1"/>
          <a:stretch/>
        </p:blipFill>
        <p:spPr>
          <a:xfrm>
            <a:off x="-536400" y="23760"/>
            <a:ext cx="10218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ater.usgs.gov/nawqa/images/fig23.gif"/>
          <p:cNvPicPr/>
          <p:nvPr/>
        </p:nvPicPr>
        <p:blipFill>
          <a:blip r:embed="rId1"/>
          <a:stretch/>
        </p:blipFill>
        <p:spPr>
          <a:xfrm>
            <a:off x="949320" y="23760"/>
            <a:ext cx="72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16:15Z</dcterms:created>
  <dc:creator>glourys</dc:creator>
  <dc:description/>
  <dc:language>en-US</dc:language>
  <cp:lastModifiedBy>luponed</cp:lastModifiedBy>
  <dcterms:modified xsi:type="dcterms:W3CDTF">2010-10-15T04:11:16Z</dcterms:modified>
  <cp:revision>2</cp:revision>
  <dc:subject/>
  <dc:title>Bioaccumulation</dc:title>
</cp:coreProperties>
</file>