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D2C8-AA35-4881-8ECC-03F35920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F0A-AA76-46DF-AB7F-76DAE9A2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8D4-D252-46D2-A37F-9E254C51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5A4-D594-4107-8AFE-D84A4D18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6AC2-0C94-4831-A3AA-B972B657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6C3-4BC5-4BB5-99E3-2B40944C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814-2D1B-45E4-A50C-B096B5D1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72B7-125E-4C2E-B8BA-C72C9992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321-34D7-4C5E-8CFA-A52DCA8F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0C0F-E818-4D21-85EE-10C8B6DB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81E-EC1B-4C64-A3E3-75CE1C78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1C9D-FB21-46F7-BF65-AF84C321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4992-C1EC-410D-98AE-BDA1A92C0FBE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Bioaccu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09480" y="2133720"/>
            <a:ext cx="8001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lso called biological mag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 increase in the concentration of a chemical along a food ch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se compounds are usually resistant to being broken down and are not readily excre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3352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Methylmerc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04920" y="1523880"/>
            <a:ext cx="84582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When mercury enters the water, it is changed into a more toxic substance called methylmerc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Methylmercury is absorbed by bacteria and small plants. These bacteria and plants are eaten by small fish, which in turn are eaten by larger fish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By the time a fish-eating bird or mammal eats the larger fish, the concentration of methylmercury in the fish can be up to a million times higher than in the surrounding wat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Mercury gets into the environment as a result of human uses of mercury in products and in industry and the combustion of fossil fuels that contain merc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Forest fires, the evaporation of seawater and volcanoes also contribute mercury into the environm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An estimated two-thirds of mercury in the environment is the result of human activiti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http://www.nwf.org/mercury/images/bioaccumulation.gif"/>
          <p:cNvPicPr/>
          <p:nvPr/>
        </p:nvPicPr>
        <p:blipFill>
          <a:blip r:embed="rId1"/>
          <a:stretch/>
        </p:blipFill>
        <p:spPr>
          <a:xfrm>
            <a:off x="2209680" y="0"/>
            <a:ext cx="45370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http://www.csa.com/discoveryguides/mercury/images/bioaccumulation.jpg"/>
          <p:cNvPicPr/>
          <p:nvPr/>
        </p:nvPicPr>
        <p:blipFill>
          <a:blip r:embed="rId1"/>
          <a:stretch/>
        </p:blipFill>
        <p:spPr>
          <a:xfrm>
            <a:off x="990720" y="838080"/>
            <a:ext cx="70102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Example 2 - DD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80880" y="1447920"/>
            <a:ext cx="81536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DT is a man-made chemical that was widely used to control insects on agricultural crops and insects that carry diseases like malaria and typh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DT accumulates in the fat of humans, livestock, aquatic food chains, and wildli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ny predatory birds were heavily impacted by DDT. The peregrine falcon was severely affected by DDT as it prevented normal calcium deposition during eggshell 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is caused females to lay thin-shelled eggs that often break before hatch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http://www.fws.gov/contaminants/images/DDT.jpg"/>
          <p:cNvPicPr/>
          <p:nvPr/>
        </p:nvPicPr>
        <p:blipFill>
          <a:blip r:embed="rId1"/>
          <a:stretch/>
        </p:blipFill>
        <p:spPr>
          <a:xfrm>
            <a:off x="1905120" y="380880"/>
            <a:ext cx="5079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http://www.pollutionissues.com/images/paz_01_img0060.jpg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ttp://rfalconcam.com/imprints/wp-content/uploads/2007/05/maincamera_highres_20070510-1651.jpg"/>
          <p:cNvPicPr/>
          <p:nvPr/>
        </p:nvPicPr>
        <p:blipFill>
          <a:blip r:embed="rId1"/>
          <a:stretch/>
        </p:blipFill>
        <p:spPr>
          <a:xfrm>
            <a:off x="-536400" y="23760"/>
            <a:ext cx="102186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ttp://water.usgs.gov/nawqa/images/fig23.gif"/>
          <p:cNvPicPr/>
          <p:nvPr/>
        </p:nvPicPr>
        <p:blipFill>
          <a:blip r:embed="rId1"/>
          <a:stretch/>
        </p:blipFill>
        <p:spPr>
          <a:xfrm>
            <a:off x="949320" y="23760"/>
            <a:ext cx="72468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23:16:15Z</dcterms:created>
  <dc:creator>glourys</dc:creator>
  <dc:description/>
  <dc:language>en-US</dc:language>
  <cp:lastModifiedBy>luponed</cp:lastModifiedBy>
  <dcterms:modified xsi:type="dcterms:W3CDTF">2010-10-15T04:11:16Z</dcterms:modified>
  <cp:revision>2</cp:revision>
  <dc:subject/>
  <dc:title>Bioaccumulation</dc:title>
</cp:coreProperties>
</file>