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6047-7D0C-406E-9332-2D2C1F581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F6A2-F256-4314-AE1D-C9EBDE76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D103-26DE-44B7-911D-B93C44ED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C667E-5C18-421C-8DC6-725E4298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77DF-1D3E-4E6C-8AF9-B13551CB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8D4E-2275-43DB-9425-5B2DDDD4C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6331-FD31-47B2-8FC4-7550CCDE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00340-2F73-42C3-AF9D-6BF86B73F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D61A-205B-4B71-A27A-8E08B1D9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6CE-C1D7-4BB5-9721-0B327E585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EAA-D0DA-4BAF-9180-031CF1F6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064B-B40E-477E-B8EB-F50322FE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2E824-A607-416C-839E-F4E60A1EFC4B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Bioaccumu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609480" y="2133720"/>
            <a:ext cx="800100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lso called biological magn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 increase in the concentration of a chemical along a food ch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compounds are usually resistant to being broken down and are not readily excre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42840" y="228240"/>
            <a:ext cx="335268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Example 1</a:t>
            </a:r>
            <a:br>
              <a:rPr sz="3600"/>
            </a:br>
            <a:r>
              <a:rPr b="0" lang="en-AU" sz="3600" spc="-1" strike="noStrike">
                <a:solidFill>
                  <a:srgbClr val="000000"/>
                </a:solidFill>
                <a:latin typeface="Times New Roman"/>
              </a:rPr>
              <a:t>Methylmercu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304920" y="1523880"/>
            <a:ext cx="8458200" cy="50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When mercury enters the water, it is changed into a more toxic substance called methylmerc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Methylmercury is absorbed by bacteria and small plants. These bacteria and plants are eaten by small fish, which in turn are eaten by larger fish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By the time a fish-eating bird or mammal eats the larger fish, the concentration of methylmercury in the fish can be up to a million times higher than in the surrounding water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Mercury gets into the environment as a result of human uses of mercury in products and in industry and the combustion of fossil fuels that contain mercury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Forest fires, the evaporation of seawater and volcanoes also contribute mercury into the environmen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verdana"/>
              </a:rPr>
              <a:t>An estimated two-thirds of mercury in the environment is the result of human activiti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http://www.nwf.org/mercury/images/bioaccumulation.gif"/>
          <p:cNvPicPr/>
          <p:nvPr/>
        </p:nvPicPr>
        <p:blipFill>
          <a:blip r:embed="rId1"/>
          <a:stretch/>
        </p:blipFill>
        <p:spPr>
          <a:xfrm>
            <a:off x="2209680" y="0"/>
            <a:ext cx="453708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http://www.csa.com/discoveryguides/mercury/images/bioaccumulation.jpg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Times New Roman"/>
              </a:rPr>
              <a:t>Example 2 - DD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380880" y="1447920"/>
            <a:ext cx="815364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DT is a man-made chemical that was widely used to control insects on agricultural crops and insects that carry diseases like malaria and typhu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DDT accumulates in the fat of humans, livestock, aquatic food chains, and wild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any predatory birds were heavily impacted by DDT. The peregrine falcon was severely affected by DDT as it prevented normal calcium deposition during eggshell form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is caused females to lay thin-shelled eggs that often break before hatch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http://www.fws.gov/contaminants/images/DDT.jpg"/>
          <p:cNvPicPr/>
          <p:nvPr/>
        </p:nvPicPr>
        <p:blipFill>
          <a:blip r:embed="rId1"/>
          <a:stretch/>
        </p:blipFill>
        <p:spPr>
          <a:xfrm>
            <a:off x="1905120" y="380880"/>
            <a:ext cx="507996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ttp://www.pollutionissues.com/images/paz_01_img0060.jpg"/>
          <p:cNvPicPr/>
          <p:nvPr/>
        </p:nvPicPr>
        <p:blipFill>
          <a:blip r:embed="rId1"/>
          <a:stretch/>
        </p:blipFill>
        <p:spPr>
          <a:xfrm>
            <a:off x="304920" y="228600"/>
            <a:ext cx="86104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ttp://rfalconcam.com/imprints/wp-content/uploads/2007/05/maincamera_highres_20070510-1651.jpg"/>
          <p:cNvPicPr/>
          <p:nvPr/>
        </p:nvPicPr>
        <p:blipFill>
          <a:blip r:embed="rId1"/>
          <a:stretch/>
        </p:blipFill>
        <p:spPr>
          <a:xfrm>
            <a:off x="-536400" y="23760"/>
            <a:ext cx="102186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http://water.usgs.gov/nawqa/images/fig23.gif"/>
          <p:cNvPicPr/>
          <p:nvPr/>
        </p:nvPicPr>
        <p:blipFill>
          <a:blip r:embed="rId1"/>
          <a:stretch/>
        </p:blipFill>
        <p:spPr>
          <a:xfrm>
            <a:off x="949320" y="23760"/>
            <a:ext cx="7246800" cy="681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23:16:15Z</dcterms:created>
  <dc:creator>glourys</dc:creator>
  <dc:description/>
  <dc:language>en-US</dc:language>
  <cp:lastModifiedBy>luponed</cp:lastModifiedBy>
  <dcterms:modified xsi:type="dcterms:W3CDTF">2010-10-15T04:11:16Z</dcterms:modified>
  <cp:revision>2</cp:revision>
  <dc:subject/>
  <dc:title>Bioaccumulation</dc:title>
</cp:coreProperties>
</file>