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8E4-1313-48FA-A1EC-50E6ACB5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CC0-7FA3-49F4-B9DD-32F86624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32B-22B7-4C05-B5B7-39EFE01D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BAE-5CFD-445F-A1A9-5EB16DC6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10E-EE0C-43BD-B1FB-52A562FA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C81-C120-4303-A8D6-8B750912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0E0-353E-4BB2-9D52-C2455C11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A79-5612-4CB3-B27E-6AD75DB4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2E5-FAAF-4E6A-80C2-5C86F834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968-357F-474B-85CF-06A82382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432-A917-4192-B3E6-89C961E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2F6-4C8B-492A-B3EB-92C00CFD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8575-105C-487E-924E-3E0FED7D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21337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control is the use of parasites, predators or pathogens (disease-causing organisms) to help control pests ranging from nematodes to weeds to verteb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organism must be tested and found to be safe before it is rel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organism often comes from the same country as the pest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duction of the cane toad is an example of biological control that turned out disastr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e toads were introduced from South America to control cane beetles in Queen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e toad is now a major pest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toad4we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frogpic"/>
          <p:cNvPicPr/>
          <p:nvPr/>
        </p:nvPicPr>
        <p:blipFill>
          <a:blip r:embed="rId1"/>
          <a:stretch/>
        </p:blipFill>
        <p:spPr>
          <a:xfrm>
            <a:off x="1433520" y="0"/>
            <a:ext cx="62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hoto: Cane toad distribution map"/>
          <p:cNvPicPr/>
          <p:nvPr/>
        </p:nvPicPr>
        <p:blipFill>
          <a:blip r:embed="rId1"/>
          <a:stretch/>
        </p:blipFill>
        <p:spPr>
          <a:xfrm>
            <a:off x="1476360" y="1052640"/>
            <a:ext cx="6408720" cy="5381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187280" y="33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ed spread of cane t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nimals die when they eat cane toa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Common%20Death%20Adder2"/>
          <p:cNvPicPr/>
          <p:nvPr/>
        </p:nvPicPr>
        <p:blipFill>
          <a:blip r:embed="rId1"/>
          <a:stretch/>
        </p:blipFill>
        <p:spPr>
          <a:xfrm>
            <a:off x="888840" y="1752480"/>
            <a:ext cx="3175200" cy="187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quoll"/>
          <p:cNvPicPr/>
          <p:nvPr/>
        </p:nvPicPr>
        <p:blipFill>
          <a:blip r:embed="rId2"/>
          <a:stretch/>
        </p:blipFill>
        <p:spPr>
          <a:xfrm>
            <a:off x="6372360" y="98100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goanna"/>
          <p:cNvPicPr/>
          <p:nvPr/>
        </p:nvPicPr>
        <p:blipFill>
          <a:blip r:embed="rId3"/>
          <a:stretch/>
        </p:blipFill>
        <p:spPr>
          <a:xfrm>
            <a:off x="977760" y="3938760"/>
            <a:ext cx="299736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elicans_m505526"/>
          <p:cNvPicPr/>
          <p:nvPr/>
        </p:nvPicPr>
        <p:blipFill>
          <a:blip r:embed="rId4"/>
          <a:stretch/>
        </p:blipFill>
        <p:spPr>
          <a:xfrm>
            <a:off x="5364000" y="3500280"/>
            <a:ext cx="27054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ful Ex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148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0s - control of prickly pear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unt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p.)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ctoblastis cactorum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ricklyPear"/>
          <p:cNvPicPr/>
          <p:nvPr/>
        </p:nvPicPr>
        <p:blipFill>
          <a:blip r:embed="rId1"/>
          <a:stretch/>
        </p:blipFill>
        <p:spPr>
          <a:xfrm>
            <a:off x="1042920" y="2549520"/>
            <a:ext cx="71294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actoblastis_cactorum_larvae_620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32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71640" y="333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ctoblastis cactorum grubs eating prickly 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773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0s - control of narrow leaf form of skeleton weed using a rust fung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0s and early 1980s - control of spotted alfalfa aphid in lucerne by parasitic wasp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0s to 1980s - dung beetles to bury dung. Stopped pest flies breeding and pasture foul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Cow 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ome_of_dung_m89754"/>
          <p:cNvPicPr/>
          <p:nvPr/>
        </p:nvPicPr>
        <p:blipFill>
          <a:blip r:embed="rId1"/>
          <a:stretch/>
        </p:blipFill>
        <p:spPr>
          <a:xfrm>
            <a:off x="1476360" y="1773360"/>
            <a:ext cx="61261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wpe13"/>
          <p:cNvPicPr/>
          <p:nvPr/>
        </p:nvPicPr>
        <p:blipFill>
          <a:blip r:embed="rId1"/>
          <a:stretch/>
        </p:blipFill>
        <p:spPr>
          <a:xfrm>
            <a:off x="900000" y="0"/>
            <a:ext cx="7488360" cy="53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4000" y="537372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h Flies develop as maggots in the animal dung. Adults have two stripes on their back.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House F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ca domestic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so in this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y magg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nstar_3"/>
          <p:cNvPicPr/>
          <p:nvPr/>
        </p:nvPicPr>
        <p:blipFill>
          <a:blip r:embed="rId1"/>
          <a:stretch/>
        </p:blipFill>
        <p:spPr>
          <a:xfrm>
            <a:off x="1258920" y="1371600"/>
            <a:ext cx="68421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ndex"/>
          <p:cNvPicPr/>
          <p:nvPr/>
        </p:nvPicPr>
        <p:blipFill>
          <a:blip r:embed="rId1"/>
          <a:stretch/>
        </p:blipFill>
        <p:spPr>
          <a:xfrm>
            <a:off x="1763640" y="549360"/>
            <a:ext cx="597708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476360" y="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ng Beetle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 of Dung Bee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9048"/>
          <p:cNvPicPr/>
          <p:nvPr/>
        </p:nvPicPr>
        <p:blipFill>
          <a:blip r:embed="rId1"/>
          <a:stretch/>
        </p:blipFill>
        <p:spPr>
          <a:xfrm>
            <a:off x="1692360" y="1341360"/>
            <a:ext cx="61196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0:31Z</dcterms:created>
  <dc:creator>Stephen</dc:creator>
  <dc:description/>
  <dc:language>en-US</dc:language>
  <cp:lastModifiedBy>luponed</cp:lastModifiedBy>
  <dcterms:modified xsi:type="dcterms:W3CDTF">2010-10-15T04:11:54Z</dcterms:modified>
  <cp:revision>2</cp:revision>
  <dc:subject/>
  <dc:title>Biological Control</dc:title>
</cp:coreProperties>
</file>