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50E1-99F7-4811-A707-E7A878D3E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F5B0-0E74-48C5-A920-9DE5130D0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F5D6-F345-4F60-85DD-5D04CE03D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7B06-C213-4BC8-8ED1-09F312F10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FD1B-4033-4098-90B5-1DE5D8A2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5CB5-F5DE-41E0-A469-5289C3E85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C03-72D5-4456-9D70-68C138C5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E02D-BA13-4795-8EB0-4387562FB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44F0-5804-41DB-BEE6-6D01020C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F791-60D9-410D-B857-1E4DE8A5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658-D127-4E26-8B27-ED21BA85B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CE59-F3A8-4B90-B1EC-70CB3375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8BBC-4197-400D-8BEB-B6111ECA3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5280" y="213372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control is the use of parasites, predators or pathogens (disease-causing organisms) to help control pests ranging from nematodes to weeds to vertebr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organism must be tested and found to be safe before it is rel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organism often comes from the same country as the pest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roduction of the cane toad is an example of biological control that turned out disastr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e toads were introduced from South America to control cane beetles in Queen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e toad is now a major pest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toad4web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frogpic"/>
          <p:cNvPicPr/>
          <p:nvPr/>
        </p:nvPicPr>
        <p:blipFill>
          <a:blip r:embed="rId1"/>
          <a:stretch/>
        </p:blipFill>
        <p:spPr>
          <a:xfrm>
            <a:off x="1433520" y="0"/>
            <a:ext cx="62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hoto: Cane toad distribution map"/>
          <p:cNvPicPr/>
          <p:nvPr/>
        </p:nvPicPr>
        <p:blipFill>
          <a:blip r:embed="rId1"/>
          <a:stretch/>
        </p:blipFill>
        <p:spPr>
          <a:xfrm>
            <a:off x="1476360" y="1052640"/>
            <a:ext cx="6408720" cy="5381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187280" y="333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ed spread of cane t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nimals die when they eat cane toa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Common%20Death%20Adder2"/>
          <p:cNvPicPr/>
          <p:nvPr/>
        </p:nvPicPr>
        <p:blipFill>
          <a:blip r:embed="rId1"/>
          <a:stretch/>
        </p:blipFill>
        <p:spPr>
          <a:xfrm>
            <a:off x="888840" y="1752480"/>
            <a:ext cx="3175200" cy="187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quoll"/>
          <p:cNvPicPr/>
          <p:nvPr/>
        </p:nvPicPr>
        <p:blipFill>
          <a:blip r:embed="rId2"/>
          <a:stretch/>
        </p:blipFill>
        <p:spPr>
          <a:xfrm>
            <a:off x="6372360" y="981000"/>
            <a:ext cx="2266920" cy="226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goanna"/>
          <p:cNvPicPr/>
          <p:nvPr/>
        </p:nvPicPr>
        <p:blipFill>
          <a:blip r:embed="rId3"/>
          <a:stretch/>
        </p:blipFill>
        <p:spPr>
          <a:xfrm>
            <a:off x="977760" y="3938760"/>
            <a:ext cx="299736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Pelicans_m505526"/>
          <p:cNvPicPr/>
          <p:nvPr/>
        </p:nvPicPr>
        <p:blipFill>
          <a:blip r:embed="rId4"/>
          <a:stretch/>
        </p:blipFill>
        <p:spPr>
          <a:xfrm>
            <a:off x="5364000" y="3500280"/>
            <a:ext cx="270540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ful Ex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148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30s - control of prickly pear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unt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p.)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ctoblastis cactorum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ricklyPear"/>
          <p:cNvPicPr/>
          <p:nvPr/>
        </p:nvPicPr>
        <p:blipFill>
          <a:blip r:embed="rId1"/>
          <a:stretch/>
        </p:blipFill>
        <p:spPr>
          <a:xfrm>
            <a:off x="1042920" y="2549520"/>
            <a:ext cx="71294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actoblastis_cactorum_larvae_620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324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971640" y="33336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ctoblastis cactorum grubs eating prickly 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773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0s - control of narrow leaf form of skeleton weed using a rust fung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0s and early 1980s - control of spotted alfalfa aphid in lucerne by parasitic wasp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0s to 1980s - dung beetles to bury dung. Stopped pest flies breeding and pasture foul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sh Cow 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ome_of_dung_m89754"/>
          <p:cNvPicPr/>
          <p:nvPr/>
        </p:nvPicPr>
        <p:blipFill>
          <a:blip r:embed="rId1"/>
          <a:stretch/>
        </p:blipFill>
        <p:spPr>
          <a:xfrm>
            <a:off x="1476360" y="1773360"/>
            <a:ext cx="61261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wpe13"/>
          <p:cNvPicPr/>
          <p:nvPr/>
        </p:nvPicPr>
        <p:blipFill>
          <a:blip r:embed="rId1"/>
          <a:stretch/>
        </p:blipFill>
        <p:spPr>
          <a:xfrm>
            <a:off x="900000" y="0"/>
            <a:ext cx="7488360" cy="53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24000" y="537372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h Flies develop as maggots in the animal dung. Adults have two stripes on their back.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House F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ca domestic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lso in this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y magg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nstar_3"/>
          <p:cNvPicPr/>
          <p:nvPr/>
        </p:nvPicPr>
        <p:blipFill>
          <a:blip r:embed="rId1"/>
          <a:stretch/>
        </p:blipFill>
        <p:spPr>
          <a:xfrm>
            <a:off x="1258920" y="1371600"/>
            <a:ext cx="68421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ndex"/>
          <p:cNvPicPr/>
          <p:nvPr/>
        </p:nvPicPr>
        <p:blipFill>
          <a:blip r:embed="rId1"/>
          <a:stretch/>
        </p:blipFill>
        <p:spPr>
          <a:xfrm>
            <a:off x="1763640" y="549360"/>
            <a:ext cx="5977080" cy="59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476360" y="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ng Beetle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 of Dung Bee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9048"/>
          <p:cNvPicPr/>
          <p:nvPr/>
        </p:nvPicPr>
        <p:blipFill>
          <a:blip r:embed="rId1"/>
          <a:stretch/>
        </p:blipFill>
        <p:spPr>
          <a:xfrm>
            <a:off x="1692360" y="1341360"/>
            <a:ext cx="61196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0:31Z</dcterms:created>
  <dc:creator>Stephen</dc:creator>
  <dc:description/>
  <dc:language>en-US</dc:language>
  <cp:lastModifiedBy>luponed</cp:lastModifiedBy>
  <dcterms:modified xsi:type="dcterms:W3CDTF">2010-10-15T04:11:54Z</dcterms:modified>
  <cp:revision>2</cp:revision>
  <dc:subject/>
  <dc:title>Biological Control</dc:title>
</cp:coreProperties>
</file>