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8A98-3907-4442-90A4-374DE4432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325F-4E5A-42A1-9CC7-2421D3197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72CA-1927-4134-A0DA-12E50D8D1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634F-CAE4-4EA1-8BE1-B815DD4C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C135-B0D1-4B6C-B9E5-5F3509EA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B70-703B-4ECF-B7EA-6EB3C8A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C72E-C3C0-4377-BE90-CF5918321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56EB-6EBE-45D7-9D3C-AD831C088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A37E-8742-4DCC-BEA4-9058BB47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4A138-FD06-4F0C-9081-457733375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F622-C535-4E4A-A0B0-BF6ABF9C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2400-4EE3-4B14-BC56-BC07E585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1C8E2-4D87-4EF6-8387-C6550BD24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395280" y="2133720"/>
            <a:ext cx="842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control is the use of parasites, predators or pathogens (disease-causing organisms) to help control pests ranging from nematodes to weeds to vertebrat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ological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organism must be tested and found to be safe before it is relea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organism often comes from the same country as the pest organis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troduction of the cane toad is an example of biological control that turned out disastro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e toads were introduced from South America to control cane beetles in Queensl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e toad is now a major pest organ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toad4web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frogpic"/>
          <p:cNvPicPr/>
          <p:nvPr/>
        </p:nvPicPr>
        <p:blipFill>
          <a:blip r:embed="rId1"/>
          <a:stretch/>
        </p:blipFill>
        <p:spPr>
          <a:xfrm>
            <a:off x="1433520" y="0"/>
            <a:ext cx="627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hoto: Cane toad distribution map"/>
          <p:cNvPicPr/>
          <p:nvPr/>
        </p:nvPicPr>
        <p:blipFill>
          <a:blip r:embed="rId1"/>
          <a:stretch/>
        </p:blipFill>
        <p:spPr>
          <a:xfrm>
            <a:off x="1476360" y="1052640"/>
            <a:ext cx="6408720" cy="538164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1187280" y="333360"/>
            <a:ext cx="70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ed spread of cane to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se animals die when they eat cane toad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9" descr="Common%20Death%20Adder2"/>
          <p:cNvPicPr/>
          <p:nvPr/>
        </p:nvPicPr>
        <p:blipFill>
          <a:blip r:embed="rId1"/>
          <a:stretch/>
        </p:blipFill>
        <p:spPr>
          <a:xfrm>
            <a:off x="888840" y="1752480"/>
            <a:ext cx="3175200" cy="1879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quoll"/>
          <p:cNvPicPr/>
          <p:nvPr/>
        </p:nvPicPr>
        <p:blipFill>
          <a:blip r:embed="rId2"/>
          <a:stretch/>
        </p:blipFill>
        <p:spPr>
          <a:xfrm>
            <a:off x="6372360" y="981000"/>
            <a:ext cx="2266920" cy="2266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goanna"/>
          <p:cNvPicPr/>
          <p:nvPr/>
        </p:nvPicPr>
        <p:blipFill>
          <a:blip r:embed="rId3"/>
          <a:stretch/>
        </p:blipFill>
        <p:spPr>
          <a:xfrm>
            <a:off x="977760" y="3938760"/>
            <a:ext cx="2997360" cy="21873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8" descr="Pelicans_m505526"/>
          <p:cNvPicPr/>
          <p:nvPr/>
        </p:nvPicPr>
        <p:blipFill>
          <a:blip r:embed="rId4"/>
          <a:stretch/>
        </p:blipFill>
        <p:spPr>
          <a:xfrm>
            <a:off x="5364000" y="3500280"/>
            <a:ext cx="2705400" cy="30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ccessful Examp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0" y="1484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30s - control of prickly pear 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puntia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p.) b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actoblastis cactorum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PricklyPear"/>
          <p:cNvPicPr/>
          <p:nvPr/>
        </p:nvPicPr>
        <p:blipFill>
          <a:blip r:embed="rId1"/>
          <a:stretch/>
        </p:blipFill>
        <p:spPr>
          <a:xfrm>
            <a:off x="1042920" y="2549520"/>
            <a:ext cx="712944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Cactoblastis_cactorum_larvae_620"/>
          <p:cNvPicPr/>
          <p:nvPr/>
        </p:nvPicPr>
        <p:blipFill>
          <a:blip r:embed="rId1"/>
          <a:stretch/>
        </p:blipFill>
        <p:spPr>
          <a:xfrm>
            <a:off x="395280" y="0"/>
            <a:ext cx="8424720" cy="63244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971640" y="33336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ctoblastis cactorum grubs eating prickly p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/>
          <p:cNvSpPr/>
          <p:nvPr/>
        </p:nvSpPr>
        <p:spPr>
          <a:xfrm>
            <a:off x="0" y="1773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0s - control of narrow leaf form of skeleton weed using a rust fung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70s and early 1980s - control of spotted alfalfa aphid in lucerne by parasitic wasp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60s to 1980s - dung beetles to bury dung. Stopped pest flies breeding and pasture foul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sh Cow Du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Home_of_dung_m89754"/>
          <p:cNvPicPr/>
          <p:nvPr/>
        </p:nvPicPr>
        <p:blipFill>
          <a:blip r:embed="rId1"/>
          <a:stretch/>
        </p:blipFill>
        <p:spPr>
          <a:xfrm>
            <a:off x="1476360" y="1773360"/>
            <a:ext cx="6126120" cy="459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wpe13"/>
          <p:cNvPicPr/>
          <p:nvPr/>
        </p:nvPicPr>
        <p:blipFill>
          <a:blip r:embed="rId1"/>
          <a:stretch/>
        </p:blipFill>
        <p:spPr>
          <a:xfrm>
            <a:off x="900000" y="0"/>
            <a:ext cx="7488360" cy="5367240"/>
          </a:xfrm>
          <a:prstGeom prst="rect">
            <a:avLst/>
          </a:prstGeom>
          <a:ln w="0">
            <a:noFill/>
          </a:ln>
        </p:spPr>
      </p:pic>
      <p:sp>
        <p:nvSpPr>
          <p:cNvPr id="53" name="Text Box 6"/>
          <p:cNvSpPr/>
          <p:nvPr/>
        </p:nvSpPr>
        <p:spPr>
          <a:xfrm>
            <a:off x="324000" y="5373720"/>
            <a:ext cx="8820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sh Flies develop as maggots in the animal dung. Adults have two stripes on their back. 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House F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usca domestic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lso in this famil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y maggo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instar_3"/>
          <p:cNvPicPr/>
          <p:nvPr/>
        </p:nvPicPr>
        <p:blipFill>
          <a:blip r:embed="rId1"/>
          <a:stretch/>
        </p:blipFill>
        <p:spPr>
          <a:xfrm>
            <a:off x="1258920" y="1371600"/>
            <a:ext cx="684216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index"/>
          <p:cNvPicPr/>
          <p:nvPr/>
        </p:nvPicPr>
        <p:blipFill>
          <a:blip r:embed="rId1"/>
          <a:stretch/>
        </p:blipFill>
        <p:spPr>
          <a:xfrm>
            <a:off x="1763640" y="549360"/>
            <a:ext cx="5977080" cy="59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6"/>
          <p:cNvSpPr/>
          <p:nvPr/>
        </p:nvSpPr>
        <p:spPr>
          <a:xfrm>
            <a:off x="1476360" y="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ng Beetle At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Cycle of Dung Bee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9048"/>
          <p:cNvPicPr/>
          <p:nvPr/>
        </p:nvPicPr>
        <p:blipFill>
          <a:blip r:embed="rId1"/>
          <a:stretch/>
        </p:blipFill>
        <p:spPr>
          <a:xfrm>
            <a:off x="1692360" y="1341360"/>
            <a:ext cx="6119640" cy="54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4:00:31Z</dcterms:created>
  <dc:creator>Stephen</dc:creator>
  <dc:description/>
  <dc:language>en-US</dc:language>
  <cp:lastModifiedBy>luponed</cp:lastModifiedBy>
  <dcterms:modified xsi:type="dcterms:W3CDTF">2010-10-15T04:11:54Z</dcterms:modified>
  <cp:revision>2</cp:revision>
  <dc:subject/>
  <dc:title>Biological Control</dc:title>
</cp:coreProperties>
</file>