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C9B0-62D0-4562-94B9-396D3F24E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B933-A6E3-41FD-988A-3829CB70D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0589-BDD9-49CD-AFDA-502BC6676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3782-D9BF-4193-AC74-E1F0E2136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C81B-2E59-4A74-BC29-E609BC1C9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8B7D-17A4-4CD9-B2DA-F79BB18BD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FA8D-2DD9-4326-8789-2B3131BD1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E475-32EE-4EED-903F-B1F21EA3C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756C-16EF-469F-8EAE-4103D0414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6569-DB68-49B2-91E1-9D7FAC95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D0EB-A58D-42E3-B107-12D3988A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776A-CD50-4F49-8431-D8940D0F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EA744-6ADC-43CF-B0CF-C5B505C490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cal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395280" y="2133720"/>
            <a:ext cx="842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logical control is the use of parasites, predators or pathogens (disease-causing organisms) to help control pests ranging from nematodes to weeds to vertebrat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cal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d organism must be tested and found to be safe before it is relea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d organism often comes from the same country as the pest organis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roduction of the cane toad is an example of biological control that turned out disastro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e toads were introduced from South America to control cane beetles in Queens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e toad is now a major pest org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toad4web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frogpic"/>
          <p:cNvPicPr/>
          <p:nvPr/>
        </p:nvPicPr>
        <p:blipFill>
          <a:blip r:embed="rId1"/>
          <a:stretch/>
        </p:blipFill>
        <p:spPr>
          <a:xfrm>
            <a:off x="1433520" y="0"/>
            <a:ext cx="6276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Photo: Cane toad distribution map"/>
          <p:cNvPicPr/>
          <p:nvPr/>
        </p:nvPicPr>
        <p:blipFill>
          <a:blip r:embed="rId1"/>
          <a:stretch/>
        </p:blipFill>
        <p:spPr>
          <a:xfrm>
            <a:off x="1476360" y="1052640"/>
            <a:ext cx="6408720" cy="53816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1187280" y="333360"/>
            <a:ext cx="70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icted spread of cane to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se animals die when they eat cane toad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Common%20Death%20Adder2"/>
          <p:cNvPicPr/>
          <p:nvPr/>
        </p:nvPicPr>
        <p:blipFill>
          <a:blip r:embed="rId1"/>
          <a:stretch/>
        </p:blipFill>
        <p:spPr>
          <a:xfrm>
            <a:off x="888840" y="1752480"/>
            <a:ext cx="3175200" cy="1879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" descr="quoll"/>
          <p:cNvPicPr/>
          <p:nvPr/>
        </p:nvPicPr>
        <p:blipFill>
          <a:blip r:embed="rId2"/>
          <a:stretch/>
        </p:blipFill>
        <p:spPr>
          <a:xfrm>
            <a:off x="6372360" y="981000"/>
            <a:ext cx="2266920" cy="2266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" descr="goanna"/>
          <p:cNvPicPr/>
          <p:nvPr/>
        </p:nvPicPr>
        <p:blipFill>
          <a:blip r:embed="rId3"/>
          <a:stretch/>
        </p:blipFill>
        <p:spPr>
          <a:xfrm>
            <a:off x="977760" y="3938760"/>
            <a:ext cx="2997360" cy="2187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8" descr="Pelicans_m505526"/>
          <p:cNvPicPr/>
          <p:nvPr/>
        </p:nvPicPr>
        <p:blipFill>
          <a:blip r:embed="rId4"/>
          <a:stretch/>
        </p:blipFill>
        <p:spPr>
          <a:xfrm>
            <a:off x="5364000" y="3500280"/>
            <a:ext cx="2705400" cy="30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ccessful Exampl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0" y="1484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30s - control of prickly pear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punti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pp.) b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actoblastis cactorum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PricklyPear"/>
          <p:cNvPicPr/>
          <p:nvPr/>
        </p:nvPicPr>
        <p:blipFill>
          <a:blip r:embed="rId1"/>
          <a:stretch/>
        </p:blipFill>
        <p:spPr>
          <a:xfrm>
            <a:off x="1042920" y="2549520"/>
            <a:ext cx="712944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Cactoblastis_cactorum_larvae_620"/>
          <p:cNvPicPr/>
          <p:nvPr/>
        </p:nvPicPr>
        <p:blipFill>
          <a:blip r:embed="rId1"/>
          <a:stretch/>
        </p:blipFill>
        <p:spPr>
          <a:xfrm>
            <a:off x="395280" y="0"/>
            <a:ext cx="8424720" cy="63244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6"/>
          <p:cNvSpPr/>
          <p:nvPr/>
        </p:nvSpPr>
        <p:spPr>
          <a:xfrm>
            <a:off x="971640" y="333360"/>
            <a:ext cx="46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ctoblastis cactorum grubs eating prickly p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1773360"/>
            <a:ext cx="9144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70s - control of narrow leaf form of skeleton weed using a rust fung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70s and early 1980s - control of spotted alfalfa aphid in lucerne by parasitic wasp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60s to 1980s - dung beetles to bury dung. Stopped pest flies breeding and pasture fouling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sh Cow D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Home_of_dung_m89754"/>
          <p:cNvPicPr/>
          <p:nvPr/>
        </p:nvPicPr>
        <p:blipFill>
          <a:blip r:embed="rId1"/>
          <a:stretch/>
        </p:blipFill>
        <p:spPr>
          <a:xfrm>
            <a:off x="1476360" y="1773360"/>
            <a:ext cx="612612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wpe13"/>
          <p:cNvPicPr/>
          <p:nvPr/>
        </p:nvPicPr>
        <p:blipFill>
          <a:blip r:embed="rId1"/>
          <a:stretch/>
        </p:blipFill>
        <p:spPr>
          <a:xfrm>
            <a:off x="900000" y="0"/>
            <a:ext cx="7488360" cy="53672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324000" y="5373720"/>
            <a:ext cx="882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h Flies develop as maggots in the animal dung. Adults have two stripes on their back.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on House F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usca domestic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lso in this famil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y maggo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instar_3"/>
          <p:cNvPicPr/>
          <p:nvPr/>
        </p:nvPicPr>
        <p:blipFill>
          <a:blip r:embed="rId1"/>
          <a:stretch/>
        </p:blipFill>
        <p:spPr>
          <a:xfrm>
            <a:off x="1258920" y="1371600"/>
            <a:ext cx="684216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index"/>
          <p:cNvPicPr/>
          <p:nvPr/>
        </p:nvPicPr>
        <p:blipFill>
          <a:blip r:embed="rId1"/>
          <a:stretch/>
        </p:blipFill>
        <p:spPr>
          <a:xfrm>
            <a:off x="1763640" y="549360"/>
            <a:ext cx="5977080" cy="59767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1476360" y="0"/>
            <a:ext cx="63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ung Beetle At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fe Cycle of Dung Bee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9048"/>
          <p:cNvPicPr/>
          <p:nvPr/>
        </p:nvPicPr>
        <p:blipFill>
          <a:blip r:embed="rId1"/>
          <a:stretch/>
        </p:blipFill>
        <p:spPr>
          <a:xfrm>
            <a:off x="1692360" y="1341360"/>
            <a:ext cx="6119640" cy="54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4:00:31Z</dcterms:created>
  <dc:creator>Stephen</dc:creator>
  <dc:description/>
  <dc:language>en-US</dc:language>
  <cp:lastModifiedBy>luponed</cp:lastModifiedBy>
  <dcterms:modified xsi:type="dcterms:W3CDTF">2010-10-15T04:11:54Z</dcterms:modified>
  <cp:revision>2</cp:revision>
  <dc:subject/>
  <dc:title>Biological Control</dc:title>
</cp:coreProperties>
</file>