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DB66-7601-4CD2-94AE-3F94A28A1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D266-B35D-42BC-90E3-C1ACD19783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19A9-9AC2-4E55-A844-1D58252A02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E1A1-E96C-4FD5-8A71-707F0AD658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035D-801E-4146-8781-3B0F542B1A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9E45-4E59-418C-80DA-A2D9C76570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D769-AD8E-44BC-8AB9-492FCC4034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F6CB-F73E-4C22-B0A6-C1E0B3F342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D06A-D8E0-4C9E-8CFB-6B55403839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2B54-9B2E-47BB-A740-5B91EEEEA8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F414-93F6-48E7-8D4F-118366F0F3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A55A-9FBE-4C89-826A-0AF82C8D6A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57F7-401D-489A-A79D-56C61B9AFD4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960-F9F5-44FC-920D-28786CE5A6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1476-BD90-4EFF-88A0-81A3AB24E2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86FD-DFF8-4A83-B7B3-FD1E01D8E4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C660-B4D7-40C8-9EFC-312C1234BE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3A4A-3C76-4402-A4C3-BA09E72EF7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4C5D-1E48-4FEB-8569-4FE2E57C3B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A874-683E-4AA8-BE8B-9BABE289CC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88B-83EA-438A-893C-EDF6D62BDE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8232-4DD1-4F24-AD96-19758C1B05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AFDF-EC27-4281-8487-58B8EC08EE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4028-C2B7-41E8-A83C-A465E614B7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A1A0-6ABB-4661-8CE3-57258797B7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302-94AD-4323-8486-C23033CB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8A7-2651-4D39-A08B-8FAA5AA8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D89-5070-48C5-82E0-EEE4C0CF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A3F-15A3-4294-A42B-EEC261BE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E02-46BA-4B83-B545-814E5E50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2C3-C4D8-4916-B4CE-D45DA38C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FA9-6997-469D-A4F6-9C7B3EDE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423-1371-44C9-AAA5-A9E3AD1A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FEA-5E5C-471F-9DA8-FEDF2A19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217-A472-4D0B-8C6F-CD521919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98B-70E8-4C1A-8DCB-34768CDB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9D9-DAC6-4065-9791-09D1E68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3095-40C5-4C85-8310-353DDA97A4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597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01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40080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0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24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6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99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0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2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>
                    <a:gd name="textAreaLeft" fmla="*/ 0 w 2979720"/>
                    <a:gd name="textAreaRight" fmla="*/ 2980080 w 2979720"/>
                    <a:gd name="textAreaTop" fmla="*/ 0 h 1312920"/>
                    <a:gd name="textAreaBottom" fmla="*/ 1313280 h 1312920"/>
                  </a:gdLst>
                  <a:ahLst/>
                  <a:rect l="textAreaLeft" t="textAreaTop" r="textAreaRight" b="textAreaBottom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19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0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2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24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28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>
                        <a:gd name="textAreaLeft" fmla="*/ 0 w 2979360"/>
                        <a:gd name="textAreaRight" fmla="*/ 2979720 w 2979360"/>
                        <a:gd name="textAreaTop" fmla="*/ 0 h 1312920"/>
                        <a:gd name="textAreaBottom" fmla="*/ 1313280 h 1312920"/>
                      </a:gdLst>
                      <a:ahLst/>
                      <a:rect l="textAreaLeft" t="textAreaTop" r="textAreaRight" b="textAreaBottom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uponed</cp:lastModifiedBy>
  <cp:lastPrinted>2009-04-22T19:24:48Z</cp:lastPrinted>
  <dcterms:modified xsi:type="dcterms:W3CDTF">2010-04-21T07:01:0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