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982A-7B6D-4AFB-8A7E-8DEA5498A0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8528-580F-458A-B375-41530FF936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2918-4795-4344-8F1E-D8CA2E0F0F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445F-D4C7-48B6-A6E4-E95D628375D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AEBC-33D6-4E12-86B2-953B8ED321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F969-44DC-47E4-9C87-565634DEC4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C652-AE3D-4675-A9A1-6FB6DF6B502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3EEC-FD58-4788-AB3D-E33AD6EA29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D2D7-18AD-4518-B713-C9C7D0CC2C1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F1CF-3714-4DC2-B5B4-24CFF98A61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5140-D47E-49C1-9AC3-13C273F437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33FF-82D9-47A6-B0BE-0C0B9ADEC00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BC8A-CF76-43FD-864F-B4B91551F42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A82C-9382-420D-B06A-E38FC69C99C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78DF-F763-4C7B-A584-555FD3FD6F7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3B63-1655-430A-9997-FDDDDCF51C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252E-8A6B-4DFB-858A-92EA99E9C1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D016-1B69-4D68-8761-2CFE1F3CFA2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141E-E38C-40DC-99E4-20A20A9322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9FFE-5BE3-4E56-B449-5CFE45F23E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6DA7-A117-4F3E-9DE0-8DF6122757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6426-4806-4453-9CD4-E8F1C596006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0DD7-73C8-4DD9-B04C-98E6AD089A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5805-E5B5-4080-B843-9E582D63012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D52E-FB53-40A0-802E-3F7C2DB0607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166-B50A-4017-A4EE-171DB2DE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BE36-DDEC-44DE-85DA-0D4B14D7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E27-68DB-485E-9855-9DD22A93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1CC-4523-452D-AC48-B5E5D8DB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428-3646-460C-B2F5-6AE40F58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134-A7AF-4AC7-A655-321748CE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2CF-5D10-40ED-A852-029981E8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F91B-CA1B-4529-B13D-1B873A7A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679-D73D-4030-944F-C45431F8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DF5-AAC4-461D-843A-3E747DEF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D55-AD0A-43C1-8E94-6B759F09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D4F-84A2-4078-B98E-E14A70C3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105E-403D-47AB-8D4E-6DBE7A63D4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olaf.edu/people/giannini/flashanimat/transport/secondary%20active%20transport.swf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597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65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7086600" y="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Sodium Potassium Pump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antiport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01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400800" y="15238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0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24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www.worldofteaching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6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1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99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0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2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>
                    <a:gd name="textAreaLeft" fmla="*/ 0 w 2979720"/>
                    <a:gd name="textAreaRight" fmla="*/ 2980080 w 2979720"/>
                    <a:gd name="textAreaTop" fmla="*/ 0 h 1312920"/>
                    <a:gd name="textAreaBottom" fmla="*/ 1313280 h 1312920"/>
                  </a:gdLst>
                  <a:ahLst/>
                  <a:rect l="textAreaLeft" t="textAreaTop" r="textAreaRight" b="textAreaBottom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19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0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2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24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28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>
                        <a:gd name="textAreaLeft" fmla="*/ 0 w 2979360"/>
                        <a:gd name="textAreaRight" fmla="*/ 2979720 w 2979360"/>
                        <a:gd name="textAreaTop" fmla="*/ 0 h 1312920"/>
                        <a:gd name="textAreaBottom" fmla="*/ 1313280 h 1312920"/>
                      </a:gdLst>
                      <a:ahLst/>
                      <a:rect l="textAreaLeft" t="textAreaTop" r="textAreaRight" b="textAreaBottom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39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luponed</cp:lastModifiedBy>
  <cp:lastPrinted>2009-04-22T19:24:48Z</cp:lastPrinted>
  <dcterms:modified xsi:type="dcterms:W3CDTF">2010-04-21T07:01:0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