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4C54-4AD2-4484-BD10-EEA7F8FEC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FE56-6BEC-4CFD-9A18-AABAF58A0D3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8A29-E018-41D4-B418-42908F4B35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4D01-9B76-4F39-A63A-A13DA1F0B0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3274-C2A6-46BE-ACFD-DAE022E5C0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5C8D-DB1F-404C-BC30-08F8EE3D28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5375-AFBB-4DAD-95BC-EBF99B2EC9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A787-80DE-4158-9776-8EB5326941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1E60-E1EF-4595-8B8C-AA9AE24870A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EFD9-831E-4928-8E3E-D264C44999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3BD1-2F09-404A-A826-D7BC1753D25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0C02-F6C6-4D74-AFBF-65F05DCCB81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EB4B-79EE-4083-9CA4-FE5F2A7F9A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9BAD-8548-4E56-BAF2-070ECF6B39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FF20-2E4D-46AD-8D65-F1782F7E3A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8533-5D60-4768-B651-5BD85821C1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864E-B56E-45D9-A5C9-E1C74B36D4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B8D6-CAA4-43F2-9DF9-5891BDAF2F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C951-1B8F-4ABB-92D0-2B61E2D667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2223-DED8-4ABD-9A85-3802C89B3D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5D02-5E70-4CA8-9FF8-838D14E519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9999-BC17-47DB-9435-C35D2C5C05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0EBF-279E-4C2E-A59F-269B2881BE1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8A0D-5FA4-4237-B6C5-E4D15D6057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D187-8C4A-471E-A46F-8BCFC0988C6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09B-EEBF-4BA1-B360-CE7FF406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6E9-8CD6-4C9B-B634-00B2CD9C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D57-B7A7-4EBE-B49B-12185E19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905-0AD8-4ED0-A5BD-167C6241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FA6-7323-421F-BBDE-A57FC15B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BCB-82A8-4F7B-98F6-561589D4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EA0-6245-45ED-9B8C-C335C10A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0B5-58EB-4C54-8F00-007C1276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D40-09E5-47C0-865F-D0FB9182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35A-39DA-411F-A0CA-0D75F3F5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5DA-0687-4404-87C2-05B227DE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0E88-A575-4932-8C44-37ACB315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2C4A-2083-4F9E-8D1E-9F48EC60B9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597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65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01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40080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0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24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6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1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99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0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2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>
                    <a:gd name="textAreaLeft" fmla="*/ 0 w 2979720"/>
                    <a:gd name="textAreaRight" fmla="*/ 2980080 w 2979720"/>
                    <a:gd name="textAreaTop" fmla="*/ 0 h 1312920"/>
                    <a:gd name="textAreaBottom" fmla="*/ 1313280 h 1312920"/>
                  </a:gdLst>
                  <a:ahLst/>
                  <a:rect l="textAreaLeft" t="textAreaTop" r="textAreaRight" b="textAreaBottom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19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0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2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24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28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>
                        <a:gd name="textAreaLeft" fmla="*/ 0 w 2979360"/>
                        <a:gd name="textAreaRight" fmla="*/ 2979720 w 2979360"/>
                        <a:gd name="textAreaTop" fmla="*/ 0 h 1312920"/>
                        <a:gd name="textAreaBottom" fmla="*/ 1313280 h 1312920"/>
                      </a:gdLst>
                      <a:ahLst/>
                      <a:rect l="textAreaLeft" t="textAreaTop" r="textAreaRight" b="textAreaBottom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9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uponed</cp:lastModifiedBy>
  <cp:lastPrinted>2009-04-22T19:24:48Z</cp:lastPrinted>
  <dcterms:modified xsi:type="dcterms:W3CDTF">2010-04-21T07:01:0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