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media/image24.jpeg" ContentType="image/jpeg"/>
  <Override PartName="/ppt/media/image1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46272-3B2A-4378-A0CF-AC7F69AD6114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BFBB2-F329-47B3-B1B4-9F7218791544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C002C-E3D9-43B3-903E-7151445F9B73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F1C4F-D1B5-444D-A86D-04F6297B6A64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79FA7-5DBF-4A3D-918C-0B52EA5400F5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2D46C-0CFF-4079-88AC-28428E1DD407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EB3BB-2D5E-407A-9D95-A2ED843A1C6E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ABC23-6DC9-4F91-99E9-DF763AD03F8A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3BDF8-D05E-4615-9DB0-89DDCED032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3DDB8-4A6E-4AF2-8F8A-767D66E8AA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67A2B-D110-4E3F-94CA-F4A2A93960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39262-5A8D-4001-B15D-00246EEF5E54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0191E-0AFD-4BF7-B858-DCCAA10DB2F9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D16EE-B9A2-43F0-AAD4-B9DD64518EC0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5657A-710E-446F-B1C2-369D47D06EBE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715E1-0E9A-4AB0-803F-C044D82747A1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2D3EC-42DC-439C-B559-8FD08164BAEE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21317-2B60-4711-87A0-5D6B35FA4CCB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DFE9C-C57C-4A38-B48C-5C75E8B250A1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65FD3-7517-4CD1-BB2F-409EBC866277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06157-515E-47B6-8E92-3C5E28B4C959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8AD37-C348-4C80-A5D2-2BB1862D04EA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DE96A-B629-4609-9739-68D35696944C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C974A-96C4-4B32-88EC-6472ABDD2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A6A99-8B84-446E-83FE-96CBE722C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A1294-4B7D-4215-9A8C-528004094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EAEE9-A132-45C5-B46B-3413A16B6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D54E9-9521-4249-950F-DFCDAF7EF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89E5A-5A6A-487E-A2F0-7E151F95C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269C2-A732-4C52-A166-6E7B1505E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41F97-8BDE-40AB-ACE8-35FD7D0EC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C7151-0000-4437-A8DE-B1A6C589F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66ACA-DEA8-4046-8C86-42339AE60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9DCF0-E88B-4E25-B4B6-00A6AD7F3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A291B-A3B9-47F6-9383-A945C1296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62A73-46A1-4294-B85A-07BF025500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Cytoplasmic stream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e wik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Protoctists or Proti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See wik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 83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 able to draw amoeba, euglena and parameci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ok work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ological Drawings - 39-4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ingdoms – 70; 79-8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es of cells-7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ing cell size - 72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croscopes - 75-78 (overview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ll structure 85-86 ( a lot of this is difficult but good exercise to attempt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karyo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cteria produce enzymes that break down the organic matter into simpler substances that can then be absorbed by the bacter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aw and label a generalised bacterial cell. Page 7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would you identify a bacteriu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ll Size very tiny. See page 79 estimate size. Complete page 7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 Specialis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Group the following into something that makes meaning to you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Why did you group them this wa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 Specialis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Group the following into something that makes meaning to you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Why did you group them this wa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 Specialis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Group them into animal and plant cell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Can you identify any of these cells or what their function is ? What features did you use to categorise th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 Specialis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Identify the following 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The protis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Identify the following specialised animal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Sex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Nerve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Muscle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Ciliated columnar epithelial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Red blood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White blood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Fat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Bone tiss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Identify the following specialised plant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Cells from a leaf of a pla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Stom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Cells that store starch e.g. banana cel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Vascular cells (xylem and phloem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Arial"/>
              </a:rPr>
              <a:t>Cells with chromatopla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x Ce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2" descr="sperm.jpg"/>
          <p:cNvPicPr/>
          <p:nvPr/>
        </p:nvPicPr>
        <p:blipFill>
          <a:blip r:embed="rId1"/>
          <a:stretch/>
        </p:blipFill>
        <p:spPr>
          <a:xfrm>
            <a:off x="1476360" y="1341360"/>
            <a:ext cx="1944720" cy="19335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8" descr="ova.jpg"/>
          <p:cNvPicPr/>
          <p:nvPr/>
        </p:nvPicPr>
        <p:blipFill>
          <a:blip r:embed="rId2"/>
          <a:stretch/>
        </p:blipFill>
        <p:spPr>
          <a:xfrm>
            <a:off x="4859280" y="1413000"/>
            <a:ext cx="2232000" cy="16891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0" descr="sperm2.jpg"/>
          <p:cNvPicPr/>
          <p:nvPr/>
        </p:nvPicPr>
        <p:blipFill>
          <a:blip r:embed="rId3"/>
          <a:stretch/>
        </p:blipFill>
        <p:spPr>
          <a:xfrm>
            <a:off x="1258920" y="3716280"/>
            <a:ext cx="2232000" cy="22129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7" descr="ova2.jpg"/>
          <p:cNvPicPr/>
          <p:nvPr/>
        </p:nvPicPr>
        <p:blipFill>
          <a:blip r:embed="rId4"/>
          <a:stretch/>
        </p:blipFill>
        <p:spPr>
          <a:xfrm>
            <a:off x="5940360" y="3284640"/>
            <a:ext cx="1800360" cy="15685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6" descr="ova3.jpg"/>
          <p:cNvPicPr/>
          <p:nvPr/>
        </p:nvPicPr>
        <p:blipFill>
          <a:blip r:embed="rId5"/>
          <a:stretch/>
        </p:blipFill>
        <p:spPr>
          <a:xfrm>
            <a:off x="5867280" y="5229360"/>
            <a:ext cx="860400" cy="80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rve ce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11" descr="nerve2.jpg"/>
          <p:cNvPicPr/>
          <p:nvPr/>
        </p:nvPicPr>
        <p:blipFill>
          <a:blip r:embed="rId1"/>
          <a:stretch/>
        </p:blipFill>
        <p:spPr>
          <a:xfrm>
            <a:off x="611280" y="2421000"/>
            <a:ext cx="1873080" cy="14986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9" descr="nerve4.jpg"/>
          <p:cNvPicPr/>
          <p:nvPr/>
        </p:nvPicPr>
        <p:blipFill>
          <a:blip r:embed="rId2"/>
          <a:stretch/>
        </p:blipFill>
        <p:spPr>
          <a:xfrm>
            <a:off x="3348000" y="2565360"/>
            <a:ext cx="1663560" cy="20876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2" descr="nerve.jpg"/>
          <p:cNvPicPr/>
          <p:nvPr/>
        </p:nvPicPr>
        <p:blipFill>
          <a:blip r:embed="rId3"/>
          <a:stretch/>
        </p:blipFill>
        <p:spPr>
          <a:xfrm>
            <a:off x="5724360" y="2205000"/>
            <a:ext cx="238788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ining Ce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ining is a technique used in microscopy to enhance contrast in the microscope imag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scle ce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3" descr="smoothmuscle1.jpg"/>
          <p:cNvPicPr/>
          <p:nvPr/>
        </p:nvPicPr>
        <p:blipFill>
          <a:blip r:embed="rId1"/>
          <a:stretch/>
        </p:blipFill>
        <p:spPr>
          <a:xfrm>
            <a:off x="971640" y="1484280"/>
            <a:ext cx="1533600" cy="3600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5867280" y="1484280"/>
            <a:ext cx="2551320" cy="32400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4" descr="smooth muscle2.jpg"/>
          <p:cNvPicPr/>
          <p:nvPr/>
        </p:nvPicPr>
        <p:blipFill>
          <a:blip r:embed="rId3"/>
          <a:stretch/>
        </p:blipFill>
        <p:spPr>
          <a:xfrm>
            <a:off x="2700360" y="4076640"/>
            <a:ext cx="2592360" cy="17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iliated columnar epithelial ce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17" descr="colepith2.jpg"/>
          <p:cNvPicPr/>
          <p:nvPr/>
        </p:nvPicPr>
        <p:blipFill>
          <a:blip r:embed="rId1"/>
          <a:stretch/>
        </p:blipFill>
        <p:spPr>
          <a:xfrm>
            <a:off x="1042920" y="2060640"/>
            <a:ext cx="2232000" cy="14936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4643280" y="1700280"/>
            <a:ext cx="2448000" cy="19922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6" descr="colepithelial 3.jpg"/>
          <p:cNvPicPr/>
          <p:nvPr/>
        </p:nvPicPr>
        <p:blipFill>
          <a:blip r:embed="rId3"/>
          <a:stretch/>
        </p:blipFill>
        <p:spPr>
          <a:xfrm>
            <a:off x="1547640" y="4292640"/>
            <a:ext cx="2089440" cy="15685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5" descr="columnarepithelial.jpg"/>
          <p:cNvPicPr/>
          <p:nvPr/>
        </p:nvPicPr>
        <p:blipFill>
          <a:blip r:embed="rId4"/>
          <a:stretch/>
        </p:blipFill>
        <p:spPr>
          <a:xfrm>
            <a:off x="5508720" y="4124160"/>
            <a:ext cx="223200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ood Ce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5" descr="rbc.jpg"/>
          <p:cNvPicPr/>
          <p:nvPr/>
        </p:nvPicPr>
        <p:blipFill>
          <a:blip r:embed="rId1"/>
          <a:stretch/>
        </p:blipFill>
        <p:spPr>
          <a:xfrm>
            <a:off x="539640" y="2781360"/>
            <a:ext cx="2880000" cy="23605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20" descr="blood3.jpg"/>
          <p:cNvPicPr/>
          <p:nvPr/>
        </p:nvPicPr>
        <p:blipFill>
          <a:blip r:embed="rId2"/>
          <a:stretch/>
        </p:blipFill>
        <p:spPr>
          <a:xfrm>
            <a:off x="5148360" y="1484280"/>
            <a:ext cx="3024000" cy="19573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21" descr="blood2.jpg"/>
          <p:cNvPicPr/>
          <p:nvPr/>
        </p:nvPicPr>
        <p:blipFill>
          <a:blip r:embed="rId3"/>
          <a:stretch/>
        </p:blipFill>
        <p:spPr>
          <a:xfrm>
            <a:off x="5651640" y="4724280"/>
            <a:ext cx="2879640" cy="186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ne Tiss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9" descr="bone.jpg"/>
          <p:cNvPicPr/>
          <p:nvPr/>
        </p:nvPicPr>
        <p:blipFill>
          <a:blip r:embed="rId1"/>
          <a:stretch/>
        </p:blipFill>
        <p:spPr>
          <a:xfrm>
            <a:off x="684360" y="2421000"/>
            <a:ext cx="302400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t Ce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13" descr="fat cells.jpg"/>
          <p:cNvPicPr/>
          <p:nvPr/>
        </p:nvPicPr>
        <p:blipFill>
          <a:blip r:embed="rId1"/>
          <a:stretch/>
        </p:blipFill>
        <p:spPr>
          <a:xfrm>
            <a:off x="395280" y="2276640"/>
            <a:ext cx="3313080" cy="23637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4" descr="fat2.jpg"/>
          <p:cNvPicPr/>
          <p:nvPr/>
        </p:nvPicPr>
        <p:blipFill>
          <a:blip r:embed="rId2"/>
          <a:stretch/>
        </p:blipFill>
        <p:spPr>
          <a:xfrm>
            <a:off x="4716360" y="2492280"/>
            <a:ext cx="3095640" cy="23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nt Ce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af Ce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95280" y="1989000"/>
            <a:ext cx="3529080" cy="26640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5292720" y="1989000"/>
            <a:ext cx="2843280" cy="30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s that store starch e.g. banana cell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3276720" y="2492280"/>
            <a:ext cx="2808000" cy="211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ascular cells (xylem and phloem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900000" y="1916280"/>
            <a:ext cx="2590920" cy="20793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5003640" y="1989000"/>
            <a:ext cx="190044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Cells with chromoplas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050920" y="1989000"/>
            <a:ext cx="2791080" cy="17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unting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refers to attaching the samples to a glass microscope slide for observ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for samples of loose cells (e.g.blood or pap smear) the sample can be applied directly to a sli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for larger tissues thinner sections are mad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i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odine – more contrast between cell structure. Also goes blue black when starch is pres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hyl blue – stains nuclei bl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were able to see the following in most cells under the light microsco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ll w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ll Membran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ytopla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cle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cuo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st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ollowing cell structures are only clearly visible through an electron microsco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tochond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lgi Apparat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 Endoplasmic reticul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ugh Endoplasmic reticul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ytopla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Cytosol –is the liquid p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Cytoplasm is the part that contains all the organelle struc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nt Vacuo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vacuole--plant0"/>
          <p:cNvPicPr/>
          <p:nvPr/>
        </p:nvPicPr>
        <p:blipFill>
          <a:blip r:embed="rId1"/>
          <a:stretch/>
        </p:blipFill>
        <p:spPr>
          <a:xfrm>
            <a:off x="611280" y="2349360"/>
            <a:ext cx="2550960" cy="31687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" descr="vacuole--plant0"/>
          <p:cNvPicPr/>
          <p:nvPr/>
        </p:nvPicPr>
        <p:blipFill>
          <a:blip r:embed="rId2"/>
          <a:stretch/>
        </p:blipFill>
        <p:spPr>
          <a:xfrm>
            <a:off x="3708360" y="1700280"/>
            <a:ext cx="5086440" cy="40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lastids – organelles found in the cells of plants.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Chloroplasts – found in plants. Cont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chlorophyll. Responsible for photosynthes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Leucoplasts – non-pigmented plastids found predominantly in the roots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non-photosynthetic parts of plan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They become specialised for bulk storag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of starch (e.g.banana), protein and lipi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Chromoplasts – for pigment synthesi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and storage (e.g. red capsicum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Often found in fruits and flower part of pla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chloroplasts"/>
          <p:cNvPicPr/>
          <p:nvPr/>
        </p:nvPicPr>
        <p:blipFill>
          <a:blip r:embed="rId1"/>
          <a:stretch/>
        </p:blipFill>
        <p:spPr>
          <a:xfrm>
            <a:off x="6877080" y="1413000"/>
            <a:ext cx="1440000" cy="10825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5" descr="banana"/>
          <p:cNvPicPr/>
          <p:nvPr/>
        </p:nvPicPr>
        <p:blipFill>
          <a:blip r:embed="rId2"/>
          <a:stretch/>
        </p:blipFill>
        <p:spPr>
          <a:xfrm>
            <a:off x="6877080" y="3141720"/>
            <a:ext cx="1592280" cy="11970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6" descr="chromoplast"/>
          <p:cNvPicPr/>
          <p:nvPr/>
        </p:nvPicPr>
        <p:blipFill>
          <a:blip r:embed="rId3"/>
          <a:stretch/>
        </p:blipFill>
        <p:spPr>
          <a:xfrm>
            <a:off x="6877080" y="4581360"/>
            <a:ext cx="1655640" cy="10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8T07:05:27Z</dcterms:created>
  <dc:creator>Daniela</dc:creator>
  <dc:description/>
  <dc:language>en-US</dc:language>
  <cp:lastModifiedBy>Daniela</cp:lastModifiedBy>
  <dcterms:modified xsi:type="dcterms:W3CDTF">2010-03-03T10:16:13Z</dcterms:modified>
  <cp:revision>16</cp:revision>
  <dc:subject/>
  <dc:title>Cells </dc:title>
</cp:coreProperties>
</file>