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D87B-49F9-4297-84F5-5C6203BE16B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60E9-828C-4BE9-9703-06D9FC29EE2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C8F6-DE68-4D93-8F98-B85FF4D4D43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1B6F-3D42-4EE9-8FC2-24746FC95E4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1A0D-C3C0-47DB-919E-1052E0C3EDA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8DA2-182F-4203-AF29-4EEF1644804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2B80-E254-4CC5-B304-EBF933A45F4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EB48-294B-4703-ABC9-B45CC991C16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8A29-0006-4376-9CF8-8E188AC9A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C63C-2B9C-49CE-A821-B8897FFF3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D0AD-66C5-4077-9D2D-D52A8E3DC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44DD-A49D-4A8B-930C-2089C592E69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FBAB-DC7C-424B-B124-3E19F1481C8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F167-8DB4-4B34-88D8-56D53E9B587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EDC0-5131-4CCB-9AF7-EE95756D584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0A2F-366E-457C-A241-AB62995F258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11EA-54CB-4D81-9B80-3C8E204986F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A3AB-A5DE-4C8E-99B0-2B2505E91EC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A205-5AA4-4512-B1D3-B255FE044A8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DDBE-49D5-4723-BC7E-BA0CAD87CAA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8AD8-F476-4BDB-B949-FC6A987CA79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7248-F8E7-4BCF-8FD9-7C501B3DA22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FC9E-8E17-4B5C-94AF-47293A3B1CF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2D9-066C-4690-BB41-D60B666E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7F9-F4E4-4D09-8499-0061DE26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ADB-8399-4FE3-9EED-3D3CA766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CA2-D299-4D17-A10B-C471FDE1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33F-CCE4-4F64-9CC1-D861C2C3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F0C-1B94-4D05-B0C2-8EB1308A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270-B962-443D-91DE-A0FEECEF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A0A-FC2B-4E32-903E-AB0B2810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E87-8CA6-4A08-AFC7-084B49D8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3A4-D84E-4647-A4E6-B61D2F7A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AA3-9364-4D8B-AA4F-B499AC01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7FFB-BBB5-44A3-897C-E7A689EC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C623-FAA0-4D57-B975-E4992B806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toctists or Pro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83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draw amoeba, euglena and parame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w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Drawings - 39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doms – 70; 79-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ells-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ng cell size - 7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copes - 75-78 (overvi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tructure 85-86 ( a lot of this is difficult but good exercise to attemp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produce enzymes that break down the organic matter into simpler substances that can then be absorbed by the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nd label a generalised bacterial cell. Page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identify a bacteri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 very tiny. See page 79 estimate size. Complete page 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 following into something that makes mean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id you group them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 following into something that makes mean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id you group them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m into animal and plant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you identify any of these cells or what their function is ? What features did you use to categoris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dentify the follow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ro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dentify the following specialise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iliated columnar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a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o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dentify the following specialised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from a leaf of a 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that store starch e.g. banana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ascular cells (xylem and phlo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with chromatopl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sperm.jpg"/>
          <p:cNvPicPr/>
          <p:nvPr/>
        </p:nvPicPr>
        <p:blipFill>
          <a:blip r:embed="rId1"/>
          <a:stretch/>
        </p:blipFill>
        <p:spPr>
          <a:xfrm>
            <a:off x="1476360" y="1341360"/>
            <a:ext cx="1944720" cy="193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ova.jpg"/>
          <p:cNvPicPr/>
          <p:nvPr/>
        </p:nvPicPr>
        <p:blipFill>
          <a:blip r:embed="rId2"/>
          <a:stretch/>
        </p:blipFill>
        <p:spPr>
          <a:xfrm>
            <a:off x="4859280" y="1413000"/>
            <a:ext cx="2232000" cy="1689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0" descr="sperm2.jpg"/>
          <p:cNvPicPr/>
          <p:nvPr/>
        </p:nvPicPr>
        <p:blipFill>
          <a:blip r:embed="rId3"/>
          <a:stretch/>
        </p:blipFill>
        <p:spPr>
          <a:xfrm>
            <a:off x="1258920" y="3716280"/>
            <a:ext cx="2232000" cy="2212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ova2.jpg"/>
          <p:cNvPicPr/>
          <p:nvPr/>
        </p:nvPicPr>
        <p:blipFill>
          <a:blip r:embed="rId4"/>
          <a:stretch/>
        </p:blipFill>
        <p:spPr>
          <a:xfrm>
            <a:off x="5940360" y="3284640"/>
            <a:ext cx="1800360" cy="1568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ova3.jpg"/>
          <p:cNvPicPr/>
          <p:nvPr/>
        </p:nvPicPr>
        <p:blipFill>
          <a:blip r:embed="rId5"/>
          <a:stretch/>
        </p:blipFill>
        <p:spPr>
          <a:xfrm>
            <a:off x="5867280" y="5229360"/>
            <a:ext cx="8604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nerve2.jpg"/>
          <p:cNvPicPr/>
          <p:nvPr/>
        </p:nvPicPr>
        <p:blipFill>
          <a:blip r:embed="rId1"/>
          <a:stretch/>
        </p:blipFill>
        <p:spPr>
          <a:xfrm>
            <a:off x="611280" y="2421000"/>
            <a:ext cx="1873080" cy="149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nerve4.jpg"/>
          <p:cNvPicPr/>
          <p:nvPr/>
        </p:nvPicPr>
        <p:blipFill>
          <a:blip r:embed="rId2"/>
          <a:stretch/>
        </p:blipFill>
        <p:spPr>
          <a:xfrm>
            <a:off x="3348000" y="2565360"/>
            <a:ext cx="16635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nerve.jpg"/>
          <p:cNvPicPr/>
          <p:nvPr/>
        </p:nvPicPr>
        <p:blipFill>
          <a:blip r:embed="rId3"/>
          <a:stretch/>
        </p:blipFill>
        <p:spPr>
          <a:xfrm>
            <a:off x="5724360" y="2205000"/>
            <a:ext cx="2387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ining is a technique used in microscopy to enhance contrast in the microscope im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smoothmuscle1.jpg"/>
          <p:cNvPicPr/>
          <p:nvPr/>
        </p:nvPicPr>
        <p:blipFill>
          <a:blip r:embed="rId1"/>
          <a:stretch/>
        </p:blipFill>
        <p:spPr>
          <a:xfrm>
            <a:off x="971640" y="1484280"/>
            <a:ext cx="1533600" cy="36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551320" cy="32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smooth muscle2.jpg"/>
          <p:cNvPicPr/>
          <p:nvPr/>
        </p:nvPicPr>
        <p:blipFill>
          <a:blip r:embed="rId3"/>
          <a:stretch/>
        </p:blipFill>
        <p:spPr>
          <a:xfrm>
            <a:off x="2700360" y="4076640"/>
            <a:ext cx="25923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liated columnar epithelial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colepith2.jpg"/>
          <p:cNvPicPr/>
          <p:nvPr/>
        </p:nvPicPr>
        <p:blipFill>
          <a:blip r:embed="rId1"/>
          <a:stretch/>
        </p:blipFill>
        <p:spPr>
          <a:xfrm>
            <a:off x="1042920" y="2060640"/>
            <a:ext cx="2232000" cy="149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2448000" cy="199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colepithelial 3.jpg"/>
          <p:cNvPicPr/>
          <p:nvPr/>
        </p:nvPicPr>
        <p:blipFill>
          <a:blip r:embed="rId3"/>
          <a:stretch/>
        </p:blipFill>
        <p:spPr>
          <a:xfrm>
            <a:off x="1547640" y="4292640"/>
            <a:ext cx="2089440" cy="156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olumnarepithelial.jpg"/>
          <p:cNvPicPr/>
          <p:nvPr/>
        </p:nvPicPr>
        <p:blipFill>
          <a:blip r:embed="rId4"/>
          <a:stretch/>
        </p:blipFill>
        <p:spPr>
          <a:xfrm>
            <a:off x="5508720" y="4124160"/>
            <a:ext cx="2232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rbc.jpg"/>
          <p:cNvPicPr/>
          <p:nvPr/>
        </p:nvPicPr>
        <p:blipFill>
          <a:blip r:embed="rId1"/>
          <a:stretch/>
        </p:blipFill>
        <p:spPr>
          <a:xfrm>
            <a:off x="539640" y="2781360"/>
            <a:ext cx="2880000" cy="2360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blood3.jpg"/>
          <p:cNvPicPr/>
          <p:nvPr/>
        </p:nvPicPr>
        <p:blipFill>
          <a:blip r:embed="rId2"/>
          <a:stretch/>
        </p:blipFill>
        <p:spPr>
          <a:xfrm>
            <a:off x="5148360" y="1484280"/>
            <a:ext cx="3024000" cy="1957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blood2.jpg"/>
          <p:cNvPicPr/>
          <p:nvPr/>
        </p:nvPicPr>
        <p:blipFill>
          <a:blip r:embed="rId3"/>
          <a:stretch/>
        </p:blipFill>
        <p:spPr>
          <a:xfrm>
            <a:off x="5651640" y="4724280"/>
            <a:ext cx="28796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e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bone.jpg"/>
          <p:cNvPicPr/>
          <p:nvPr/>
        </p:nvPicPr>
        <p:blipFill>
          <a:blip r:embed="rId1"/>
          <a:stretch/>
        </p:blipFill>
        <p:spPr>
          <a:xfrm>
            <a:off x="684360" y="2421000"/>
            <a:ext cx="3024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fat cells.jpg"/>
          <p:cNvPicPr/>
          <p:nvPr/>
        </p:nvPicPr>
        <p:blipFill>
          <a:blip r:embed="rId1"/>
          <a:stretch/>
        </p:blipFill>
        <p:spPr>
          <a:xfrm>
            <a:off x="395280" y="2276640"/>
            <a:ext cx="3313080" cy="2363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fat2.jpg"/>
          <p:cNvPicPr/>
          <p:nvPr/>
        </p:nvPicPr>
        <p:blipFill>
          <a:blip r:embed="rId2"/>
          <a:stretch/>
        </p:blipFill>
        <p:spPr>
          <a:xfrm>
            <a:off x="4716360" y="2492280"/>
            <a:ext cx="3095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8432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s that store starch e.g. banana ce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808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scular cells (xylem and phloe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590920" cy="207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1900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ells with chrom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279108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ing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ers to attaching the samples to a glass microscope slide for obser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samples of loose cells (e.g.blood or pap smear) the sample can be applied directly to a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larger tissues thinner sections are m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ne – more contrast between cell structure. Also goes blue black when starch i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yl blue – stains nuclei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ere able to see the following in most cells under the light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cell structures are only clearly visible through an electron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ytosol –is the liquid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ytoplasm is the part that contains all the organell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Vacu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vacuole--plant0"/>
          <p:cNvPicPr/>
          <p:nvPr/>
        </p:nvPicPr>
        <p:blipFill>
          <a:blip r:embed="rId1"/>
          <a:stretch/>
        </p:blipFill>
        <p:spPr>
          <a:xfrm>
            <a:off x="611280" y="2349360"/>
            <a:ext cx="2550960" cy="316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vacuole--plant0"/>
          <p:cNvPicPr/>
          <p:nvPr/>
        </p:nvPicPr>
        <p:blipFill>
          <a:blip r:embed="rId2"/>
          <a:stretch/>
        </p:blipFill>
        <p:spPr>
          <a:xfrm>
            <a:off x="3708360" y="1700280"/>
            <a:ext cx="50864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astids – organelles found in the cells of plants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loroplasts – found in plants. Co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lorophyll. Responsible for photo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ucoplasts – non-pigmented plastids found predominantly in the roo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n-photosynthetic parts of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y become specialised for bulk sto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 starch (e.g.banana), protein and lip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romoplasts – for pigment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 storage (e.g. red capsicu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ten found in fruits and flower part of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hloroplasts"/>
          <p:cNvPicPr/>
          <p:nvPr/>
        </p:nvPicPr>
        <p:blipFill>
          <a:blip r:embed="rId1"/>
          <a:stretch/>
        </p:blipFill>
        <p:spPr>
          <a:xfrm>
            <a:off x="6877080" y="1413000"/>
            <a:ext cx="1440000" cy="108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banana"/>
          <p:cNvPicPr/>
          <p:nvPr/>
        </p:nvPicPr>
        <p:blipFill>
          <a:blip r:embed="rId2"/>
          <a:stretch/>
        </p:blipFill>
        <p:spPr>
          <a:xfrm>
            <a:off x="6877080" y="3141720"/>
            <a:ext cx="1592280" cy="119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hromoplast"/>
          <p:cNvPicPr/>
          <p:nvPr/>
        </p:nvPicPr>
        <p:blipFill>
          <a:blip r:embed="rId3"/>
          <a:stretch/>
        </p:blipFill>
        <p:spPr>
          <a:xfrm>
            <a:off x="6877080" y="4581360"/>
            <a:ext cx="1655640" cy="10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7:05:27Z</dcterms:created>
  <dc:creator>Daniela</dc:creator>
  <dc:description/>
  <dc:language>en-US</dc:language>
  <cp:lastModifiedBy>Daniela</cp:lastModifiedBy>
  <dcterms:modified xsi:type="dcterms:W3CDTF">2010-03-03T10:16:13Z</dcterms:modified>
  <cp:revision>16</cp:revision>
  <dc:subject/>
  <dc:title>Cells </dc:title>
</cp:coreProperties>
</file>