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F1120-5059-4284-8BA3-DE4143507F83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B0330-1592-4AB4-9337-DF40D5940749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DF365-8270-4F1E-8656-A8567A259804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C9F7F-6A27-4BFD-AFBA-9BB362DEF69A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7CCCE-32F0-43F0-8182-1FBAFD8D6CB0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AB864-CE31-4428-B438-090EAE7CB030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B64F2-DE61-4B8C-A94F-3F8B14100FCF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49909-04FB-4437-B14A-A1F677F7C3A8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54552-737E-446C-96EF-799C5DA10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A67B8-17DD-4CFA-851A-6DC2195AE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C0933-2884-480B-8E8B-66471438F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7722D-9AE3-4A9F-8064-A6A59BFE1F3E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F05F9-3273-4B3F-9E24-C5B6E19DD6CC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D8F2-F5A5-47E3-9442-1DB1A3237BB7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AE4E6-3952-492F-A535-0B8EE140C94B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16986-7853-4CE7-8201-159E5037E1E8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037B2-62D6-4DE6-9547-6E61A22F4A06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7E1AF-0E16-4001-9D5A-110B06FE4D97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8B9F5-4F1F-4F09-B643-A1345375E398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2C77F-48AB-4836-9E75-BF8F26F764BB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C12E3-5BE4-4347-835F-6D9451362E5C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CA8FB-2902-439C-B710-A2D56CC23F98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D009A-6ADB-48BC-A358-12CE4267918B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5AFD-38F7-4076-9B45-5856D99EB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FAD6-5C8C-4544-96E0-A1C3E7750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B08A-02BC-4CCF-8D49-257BBEFF6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304C-5D95-4986-B4E9-B0E63E4CF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EA11-F311-4368-B476-5C3EF7105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DFF4-754F-4878-A394-0397BB284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0335-6C6D-4EA0-BD96-923A5E21C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3F4B-CD6C-4607-89E0-A67F0D247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ACDD-129E-4384-B718-18EAE08FF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2A32-2251-4F5F-A856-2AF27B62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10C6-7CC0-421C-AF7E-BF13CC0D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1FB8-B53D-49DF-81B0-315186A6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A3482-2E55-4CA9-A612-F7DBD62A5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ytoplasmic strea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wi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Protoctists or Prot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ee wi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83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able to draw amoeba, euglena and parameci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k work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logical Drawings - 39-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ngdoms – 70; 79-8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cells-7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ing cell size - 7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scopes - 75-78 (overvie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structure 85-86 ( a lot of this is difficult but good exercise to attemp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kary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teria produce enzymes that break down the organic matter into simpler substances that can then be absorbed by the bacte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nd label a generalised bacterial cell. Page 7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ould you identify a bacteriu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Size very tiny. See page 79 estimate size. Complete page 7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 Specia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Group the following into something that makes meaning to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hy did you group them this w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 Specia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Group the following into something that makes meaning to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hy did you group them this w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 Specia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Group them into animal and plant cel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an you identify any of these cells or what their function is ? What features did you use to categorise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 Specia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dentify the following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prot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Identify the following specialised anim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Sex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Nerv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Muscl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Ciliated columnar epitheli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Fa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Bone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Identify the following specialised pl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ells from a leaf of a pl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Stom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ells that store starch e.g. banana ce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Vascular cells (xylem and phlo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ells with chromatopla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x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sperm.jpg"/>
          <p:cNvPicPr/>
          <p:nvPr/>
        </p:nvPicPr>
        <p:blipFill>
          <a:blip r:embed="rId1"/>
          <a:stretch/>
        </p:blipFill>
        <p:spPr>
          <a:xfrm>
            <a:off x="1476360" y="1341360"/>
            <a:ext cx="1944720" cy="1933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ova.jpg"/>
          <p:cNvPicPr/>
          <p:nvPr/>
        </p:nvPicPr>
        <p:blipFill>
          <a:blip r:embed="rId2"/>
          <a:stretch/>
        </p:blipFill>
        <p:spPr>
          <a:xfrm>
            <a:off x="4859280" y="1413000"/>
            <a:ext cx="2232000" cy="1689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0" descr="sperm2.jpg"/>
          <p:cNvPicPr/>
          <p:nvPr/>
        </p:nvPicPr>
        <p:blipFill>
          <a:blip r:embed="rId3"/>
          <a:stretch/>
        </p:blipFill>
        <p:spPr>
          <a:xfrm>
            <a:off x="1258920" y="3716280"/>
            <a:ext cx="2232000" cy="2212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ova2.jpg"/>
          <p:cNvPicPr/>
          <p:nvPr/>
        </p:nvPicPr>
        <p:blipFill>
          <a:blip r:embed="rId4"/>
          <a:stretch/>
        </p:blipFill>
        <p:spPr>
          <a:xfrm>
            <a:off x="5940360" y="3284640"/>
            <a:ext cx="1800360" cy="1568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ova3.jpg"/>
          <p:cNvPicPr/>
          <p:nvPr/>
        </p:nvPicPr>
        <p:blipFill>
          <a:blip r:embed="rId5"/>
          <a:stretch/>
        </p:blipFill>
        <p:spPr>
          <a:xfrm>
            <a:off x="5867280" y="5229360"/>
            <a:ext cx="86040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rve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1" descr="nerve2.jpg"/>
          <p:cNvPicPr/>
          <p:nvPr/>
        </p:nvPicPr>
        <p:blipFill>
          <a:blip r:embed="rId1"/>
          <a:stretch/>
        </p:blipFill>
        <p:spPr>
          <a:xfrm>
            <a:off x="611280" y="2421000"/>
            <a:ext cx="1873080" cy="1498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nerve4.jpg"/>
          <p:cNvPicPr/>
          <p:nvPr/>
        </p:nvPicPr>
        <p:blipFill>
          <a:blip r:embed="rId2"/>
          <a:stretch/>
        </p:blipFill>
        <p:spPr>
          <a:xfrm>
            <a:off x="3348000" y="2565360"/>
            <a:ext cx="1663560" cy="2087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nerve.jpg"/>
          <p:cNvPicPr/>
          <p:nvPr/>
        </p:nvPicPr>
        <p:blipFill>
          <a:blip r:embed="rId3"/>
          <a:stretch/>
        </p:blipFill>
        <p:spPr>
          <a:xfrm>
            <a:off x="5724360" y="2205000"/>
            <a:ext cx="23878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ining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ining is a technique used in microscopy to enhance contrast in the microscope im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scle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smoothmuscle1.jpg"/>
          <p:cNvPicPr/>
          <p:nvPr/>
        </p:nvPicPr>
        <p:blipFill>
          <a:blip r:embed="rId1"/>
          <a:stretch/>
        </p:blipFill>
        <p:spPr>
          <a:xfrm>
            <a:off x="971640" y="1484280"/>
            <a:ext cx="1533600" cy="3600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867280" y="1484280"/>
            <a:ext cx="2551320" cy="3240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smooth muscle2.jpg"/>
          <p:cNvPicPr/>
          <p:nvPr/>
        </p:nvPicPr>
        <p:blipFill>
          <a:blip r:embed="rId3"/>
          <a:stretch/>
        </p:blipFill>
        <p:spPr>
          <a:xfrm>
            <a:off x="2700360" y="4076640"/>
            <a:ext cx="259236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liated columnar epithelial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7" descr="colepith2.jpg"/>
          <p:cNvPicPr/>
          <p:nvPr/>
        </p:nvPicPr>
        <p:blipFill>
          <a:blip r:embed="rId1"/>
          <a:stretch/>
        </p:blipFill>
        <p:spPr>
          <a:xfrm>
            <a:off x="1042920" y="2060640"/>
            <a:ext cx="2232000" cy="1493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643280" y="1700280"/>
            <a:ext cx="2448000" cy="1992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6" descr="colepithelial 3.jpg"/>
          <p:cNvPicPr/>
          <p:nvPr/>
        </p:nvPicPr>
        <p:blipFill>
          <a:blip r:embed="rId3"/>
          <a:stretch/>
        </p:blipFill>
        <p:spPr>
          <a:xfrm>
            <a:off x="1547640" y="4292640"/>
            <a:ext cx="2089440" cy="1568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5" descr="columnarepithelial.jpg"/>
          <p:cNvPicPr/>
          <p:nvPr/>
        </p:nvPicPr>
        <p:blipFill>
          <a:blip r:embed="rId4"/>
          <a:stretch/>
        </p:blipFill>
        <p:spPr>
          <a:xfrm>
            <a:off x="5508720" y="4124160"/>
            <a:ext cx="22320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od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rbc.jpg"/>
          <p:cNvPicPr/>
          <p:nvPr/>
        </p:nvPicPr>
        <p:blipFill>
          <a:blip r:embed="rId1"/>
          <a:stretch/>
        </p:blipFill>
        <p:spPr>
          <a:xfrm>
            <a:off x="539640" y="2781360"/>
            <a:ext cx="2880000" cy="2360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0" descr="blood3.jpg"/>
          <p:cNvPicPr/>
          <p:nvPr/>
        </p:nvPicPr>
        <p:blipFill>
          <a:blip r:embed="rId2"/>
          <a:stretch/>
        </p:blipFill>
        <p:spPr>
          <a:xfrm>
            <a:off x="5148360" y="1484280"/>
            <a:ext cx="3024000" cy="19573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1" descr="blood2.jpg"/>
          <p:cNvPicPr/>
          <p:nvPr/>
        </p:nvPicPr>
        <p:blipFill>
          <a:blip r:embed="rId3"/>
          <a:stretch/>
        </p:blipFill>
        <p:spPr>
          <a:xfrm>
            <a:off x="5651640" y="4724280"/>
            <a:ext cx="287964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ne Tiss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9" descr="bone.jpg"/>
          <p:cNvPicPr/>
          <p:nvPr/>
        </p:nvPicPr>
        <p:blipFill>
          <a:blip r:embed="rId1"/>
          <a:stretch/>
        </p:blipFill>
        <p:spPr>
          <a:xfrm>
            <a:off x="684360" y="2421000"/>
            <a:ext cx="30240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3" descr="fat cells.jpg"/>
          <p:cNvPicPr/>
          <p:nvPr/>
        </p:nvPicPr>
        <p:blipFill>
          <a:blip r:embed="rId1"/>
          <a:stretch/>
        </p:blipFill>
        <p:spPr>
          <a:xfrm>
            <a:off x="395280" y="2276640"/>
            <a:ext cx="3313080" cy="23637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4" descr="fat2.jpg"/>
          <p:cNvPicPr/>
          <p:nvPr/>
        </p:nvPicPr>
        <p:blipFill>
          <a:blip r:embed="rId2"/>
          <a:stretch/>
        </p:blipFill>
        <p:spPr>
          <a:xfrm>
            <a:off x="4716360" y="2492280"/>
            <a:ext cx="309564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f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3529080" cy="2664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292720" y="1989000"/>
            <a:ext cx="284328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s that store starch e.g. banana cell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276720" y="2492280"/>
            <a:ext cx="2808000" cy="21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scular cells (xylem and phloem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2590920" cy="2079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003640" y="1989000"/>
            <a:ext cx="190044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ells with chromopla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050920" y="1989000"/>
            <a:ext cx="2791080" cy="17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unting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efers to attaching the samples to a glass microscope slide for observ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for samples of loose cells (e.g.blood or pap smear) the sample can be applied directly to a sl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for larger tissues thinner sections are ma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dine – more contrast between cell structure. Also goes blue black when starch is pres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yl blue – stains nuclei b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ere able to see the following in most cells under the light micro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Membra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topla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cu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st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cell structures are only clearly visible through an electron micro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lgi Appar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 Endoplasmic reticu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gh Endoplasmic reticu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topla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ytosol –is the liquid p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ytoplasm is the part that contains all the organelle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 Vacu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vacuole--plant0"/>
          <p:cNvPicPr/>
          <p:nvPr/>
        </p:nvPicPr>
        <p:blipFill>
          <a:blip r:embed="rId1"/>
          <a:stretch/>
        </p:blipFill>
        <p:spPr>
          <a:xfrm>
            <a:off x="611280" y="2349360"/>
            <a:ext cx="2550960" cy="3168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vacuole--plant0"/>
          <p:cNvPicPr/>
          <p:nvPr/>
        </p:nvPicPr>
        <p:blipFill>
          <a:blip r:embed="rId2"/>
          <a:stretch/>
        </p:blipFill>
        <p:spPr>
          <a:xfrm>
            <a:off x="3708360" y="1700280"/>
            <a:ext cx="508644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lastids – organelles found in the cells of plants.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hloroplasts – found in plants. Con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hlorophyll. Responsible for photosynthe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eucoplasts – non-pigmented plastids found predominantly in the root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non-photosynthetic parts of pla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y become specialised for bulk stor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of starch (e.g.banana), protein and lip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hromoplasts – for pigment synthe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nd storage (e.g. red capsicum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Often found in fruits and flower part of pl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chloroplasts"/>
          <p:cNvPicPr/>
          <p:nvPr/>
        </p:nvPicPr>
        <p:blipFill>
          <a:blip r:embed="rId1"/>
          <a:stretch/>
        </p:blipFill>
        <p:spPr>
          <a:xfrm>
            <a:off x="6877080" y="1413000"/>
            <a:ext cx="1440000" cy="1082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banana"/>
          <p:cNvPicPr/>
          <p:nvPr/>
        </p:nvPicPr>
        <p:blipFill>
          <a:blip r:embed="rId2"/>
          <a:stretch/>
        </p:blipFill>
        <p:spPr>
          <a:xfrm>
            <a:off x="6877080" y="3141720"/>
            <a:ext cx="1592280" cy="1197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chromoplast"/>
          <p:cNvPicPr/>
          <p:nvPr/>
        </p:nvPicPr>
        <p:blipFill>
          <a:blip r:embed="rId3"/>
          <a:stretch/>
        </p:blipFill>
        <p:spPr>
          <a:xfrm>
            <a:off x="6877080" y="4581360"/>
            <a:ext cx="1655640" cy="10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07:05:27Z</dcterms:created>
  <dc:creator>Daniela</dc:creator>
  <dc:description/>
  <dc:language>en-US</dc:language>
  <cp:lastModifiedBy>Daniela</cp:lastModifiedBy>
  <dcterms:modified xsi:type="dcterms:W3CDTF">2010-03-03T10:16:13Z</dcterms:modified>
  <cp:revision>16</cp:revision>
  <dc:subject/>
  <dc:title>Cells </dc:title>
</cp:coreProperties>
</file>