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BEAA-D312-4CF0-A09C-CC2AFC1FCD8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2A42-A34D-4BEA-86C1-18706E8EC44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A2C0-7CE2-477C-BE08-A8D91D3E9CE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3C05B-AE4E-4CCE-8752-B0275746539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A4AB8-0502-4CE5-8F3C-FC4B8F286F6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9309-471A-4A84-8E1C-CAFC11343A6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F68F-D071-4334-9B6B-8B40451F618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EEED3-3ADD-461E-897B-928050D2DBE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9A82-2078-4B55-8370-C7EA05CC0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967C-BA55-4FE0-8518-C9ECF5FF7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37268-8614-4C07-9271-856A9B4B7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C19C-F322-443F-9D97-EB02183C9CF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1E6D7-9983-4063-9B40-D252C28978F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31E6-D1D1-45FD-8ABA-CEA9528EBD5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2771-85DC-4F48-BFAD-C9DE606DBB2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B684-1904-4FC3-BC2D-8177BBC28B5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1424-2DD7-48FD-A553-33725480AE3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F9A2-1E6B-4C06-A392-786913B5A96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42CA-0CEF-4F75-8C09-F2C70F01E34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EA5A-2CEC-4459-8BB7-157F98096D8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50C8D-6570-451A-8142-14F59E00906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0BE4-7B38-4010-957C-EE5FD45A379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DD49F-C68B-4A2F-8DB7-D964F03F9A2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71DF-99FA-41E9-A26A-86C5E4E62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EBBA-028D-42FA-8F86-71E7444AE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0CA2-04DA-4A4B-99BC-54FF2A7B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BA01-7842-45E8-816A-2F84BB1AA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449C-B227-4FD0-8E66-A88392B39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11F-4D1D-438C-B910-BFB4A5F11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FA44-3358-4F57-AB65-71986D190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0E1F-1874-4253-9939-FAD2B2BB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60BE-3691-403D-A849-A4B29C74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3F9-D945-484C-A0B2-2361C3C7E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88912-5549-4FF1-B76C-A04283A68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779-0D42-4E2C-A8F8-2A3B1020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2E00B-3B1C-4374-9E30-39C4A75DA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toctists or Pro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83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draw amoeba, euglena and parame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wor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Drawings - 39-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doms – 70; 79-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ells-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ing cell size - 7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copes - 75-78 (overvi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tructure 85-86 ( a lot of this is difficult but good exercise to attemp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produce enzymes that break down the organic matter into simpler substances that can then be absorbed by the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nd label a generalised bacterial cell. Page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identify a bacteri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 very tiny. See page 79 estimate size. Complete page 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 following into something that makes meaning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id you group them this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 following into something that makes meaning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id you group them this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m into animal and plant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you identify any of these cells or what their function is ? What features did you use to categoris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dentify the follow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pro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dentify the following specialise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iliated columnar 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a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o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dentify the following specialised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from a leaf of a pl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that store starch e.g. banana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ascular cells (xylem and phlo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with chromatopla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sperm.jpg"/>
          <p:cNvPicPr/>
          <p:nvPr/>
        </p:nvPicPr>
        <p:blipFill>
          <a:blip r:embed="rId1"/>
          <a:stretch/>
        </p:blipFill>
        <p:spPr>
          <a:xfrm>
            <a:off x="1476360" y="1341360"/>
            <a:ext cx="1944720" cy="193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ova.jpg"/>
          <p:cNvPicPr/>
          <p:nvPr/>
        </p:nvPicPr>
        <p:blipFill>
          <a:blip r:embed="rId2"/>
          <a:stretch/>
        </p:blipFill>
        <p:spPr>
          <a:xfrm>
            <a:off x="4859280" y="1413000"/>
            <a:ext cx="2232000" cy="1689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0" descr="sperm2.jpg"/>
          <p:cNvPicPr/>
          <p:nvPr/>
        </p:nvPicPr>
        <p:blipFill>
          <a:blip r:embed="rId3"/>
          <a:stretch/>
        </p:blipFill>
        <p:spPr>
          <a:xfrm>
            <a:off x="1258920" y="3716280"/>
            <a:ext cx="2232000" cy="2212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ova2.jpg"/>
          <p:cNvPicPr/>
          <p:nvPr/>
        </p:nvPicPr>
        <p:blipFill>
          <a:blip r:embed="rId4"/>
          <a:stretch/>
        </p:blipFill>
        <p:spPr>
          <a:xfrm>
            <a:off x="5940360" y="3284640"/>
            <a:ext cx="1800360" cy="1568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ova3.jpg"/>
          <p:cNvPicPr/>
          <p:nvPr/>
        </p:nvPicPr>
        <p:blipFill>
          <a:blip r:embed="rId5"/>
          <a:stretch/>
        </p:blipFill>
        <p:spPr>
          <a:xfrm>
            <a:off x="5867280" y="5229360"/>
            <a:ext cx="8604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nerve2.jpg"/>
          <p:cNvPicPr/>
          <p:nvPr/>
        </p:nvPicPr>
        <p:blipFill>
          <a:blip r:embed="rId1"/>
          <a:stretch/>
        </p:blipFill>
        <p:spPr>
          <a:xfrm>
            <a:off x="611280" y="2421000"/>
            <a:ext cx="1873080" cy="149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nerve4.jpg"/>
          <p:cNvPicPr/>
          <p:nvPr/>
        </p:nvPicPr>
        <p:blipFill>
          <a:blip r:embed="rId2"/>
          <a:stretch/>
        </p:blipFill>
        <p:spPr>
          <a:xfrm>
            <a:off x="3348000" y="2565360"/>
            <a:ext cx="16635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nerve.jpg"/>
          <p:cNvPicPr/>
          <p:nvPr/>
        </p:nvPicPr>
        <p:blipFill>
          <a:blip r:embed="rId3"/>
          <a:stretch/>
        </p:blipFill>
        <p:spPr>
          <a:xfrm>
            <a:off x="5724360" y="2205000"/>
            <a:ext cx="2387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ining is a technique used in microscopy to enhance contrast in the microscope im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smoothmuscle1.jpg"/>
          <p:cNvPicPr/>
          <p:nvPr/>
        </p:nvPicPr>
        <p:blipFill>
          <a:blip r:embed="rId1"/>
          <a:stretch/>
        </p:blipFill>
        <p:spPr>
          <a:xfrm>
            <a:off x="971640" y="1484280"/>
            <a:ext cx="1533600" cy="360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551320" cy="32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smooth muscle2.jpg"/>
          <p:cNvPicPr/>
          <p:nvPr/>
        </p:nvPicPr>
        <p:blipFill>
          <a:blip r:embed="rId3"/>
          <a:stretch/>
        </p:blipFill>
        <p:spPr>
          <a:xfrm>
            <a:off x="2700360" y="4076640"/>
            <a:ext cx="25923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liated columnar epithelial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colepith2.jpg"/>
          <p:cNvPicPr/>
          <p:nvPr/>
        </p:nvPicPr>
        <p:blipFill>
          <a:blip r:embed="rId1"/>
          <a:stretch/>
        </p:blipFill>
        <p:spPr>
          <a:xfrm>
            <a:off x="1042920" y="2060640"/>
            <a:ext cx="2232000" cy="149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2448000" cy="199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colepithelial 3.jpg"/>
          <p:cNvPicPr/>
          <p:nvPr/>
        </p:nvPicPr>
        <p:blipFill>
          <a:blip r:embed="rId3"/>
          <a:stretch/>
        </p:blipFill>
        <p:spPr>
          <a:xfrm>
            <a:off x="1547640" y="4292640"/>
            <a:ext cx="2089440" cy="156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olumnarepithelial.jpg"/>
          <p:cNvPicPr/>
          <p:nvPr/>
        </p:nvPicPr>
        <p:blipFill>
          <a:blip r:embed="rId4"/>
          <a:stretch/>
        </p:blipFill>
        <p:spPr>
          <a:xfrm>
            <a:off x="5508720" y="4124160"/>
            <a:ext cx="2232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rbc.jpg"/>
          <p:cNvPicPr/>
          <p:nvPr/>
        </p:nvPicPr>
        <p:blipFill>
          <a:blip r:embed="rId1"/>
          <a:stretch/>
        </p:blipFill>
        <p:spPr>
          <a:xfrm>
            <a:off x="539640" y="2781360"/>
            <a:ext cx="2880000" cy="2360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blood3.jpg"/>
          <p:cNvPicPr/>
          <p:nvPr/>
        </p:nvPicPr>
        <p:blipFill>
          <a:blip r:embed="rId2"/>
          <a:stretch/>
        </p:blipFill>
        <p:spPr>
          <a:xfrm>
            <a:off x="5148360" y="1484280"/>
            <a:ext cx="3024000" cy="1957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blood2.jpg"/>
          <p:cNvPicPr/>
          <p:nvPr/>
        </p:nvPicPr>
        <p:blipFill>
          <a:blip r:embed="rId3"/>
          <a:stretch/>
        </p:blipFill>
        <p:spPr>
          <a:xfrm>
            <a:off x="5651640" y="4724280"/>
            <a:ext cx="28796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e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bone.jpg"/>
          <p:cNvPicPr/>
          <p:nvPr/>
        </p:nvPicPr>
        <p:blipFill>
          <a:blip r:embed="rId1"/>
          <a:stretch/>
        </p:blipFill>
        <p:spPr>
          <a:xfrm>
            <a:off x="684360" y="2421000"/>
            <a:ext cx="3024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3" descr="fat cells.jpg"/>
          <p:cNvPicPr/>
          <p:nvPr/>
        </p:nvPicPr>
        <p:blipFill>
          <a:blip r:embed="rId1"/>
          <a:stretch/>
        </p:blipFill>
        <p:spPr>
          <a:xfrm>
            <a:off x="395280" y="2276640"/>
            <a:ext cx="3313080" cy="2363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fat2.jpg"/>
          <p:cNvPicPr/>
          <p:nvPr/>
        </p:nvPicPr>
        <p:blipFill>
          <a:blip r:embed="rId2"/>
          <a:stretch/>
        </p:blipFill>
        <p:spPr>
          <a:xfrm>
            <a:off x="4716360" y="2492280"/>
            <a:ext cx="3095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3529080" cy="26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28432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s that store starch e.g. banana ce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8080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scular cells (xylem and phloe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590920" cy="207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1900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ells with chrom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279108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ing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ers to attaching the samples to a glass microscope slide for obser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 samples of loose cells (e.g.blood or pap smear) the sample can be applied directly to a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 larger tissues thinner sections are m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dine – more contrast between cell structure. Also goes blue black when starch i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yl blue – stains nuclei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ere able to see the following in most cells under the light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cell structures are only clearly visible through an electron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 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ytosol –is the liquid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ytoplasm is the part that contains all the organelle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Vacu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vacuole--plant0"/>
          <p:cNvPicPr/>
          <p:nvPr/>
        </p:nvPicPr>
        <p:blipFill>
          <a:blip r:embed="rId1"/>
          <a:stretch/>
        </p:blipFill>
        <p:spPr>
          <a:xfrm>
            <a:off x="611280" y="2349360"/>
            <a:ext cx="2550960" cy="316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vacuole--plant0"/>
          <p:cNvPicPr/>
          <p:nvPr/>
        </p:nvPicPr>
        <p:blipFill>
          <a:blip r:embed="rId2"/>
          <a:stretch/>
        </p:blipFill>
        <p:spPr>
          <a:xfrm>
            <a:off x="3708360" y="1700280"/>
            <a:ext cx="50864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lastids – organelles found in the cells of plants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loroplasts – found in plants. Co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lorophyll. Responsible for photo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ucoplasts – non-pigmented plastids found predominantly in the roo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n-photosynthetic parts of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y become specialised for bulk sto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 starch (e.g.banana), protein and lip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romoplasts – for pigment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d storage (e.g. red capsicu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ten found in fruits and flower part of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hloroplasts"/>
          <p:cNvPicPr/>
          <p:nvPr/>
        </p:nvPicPr>
        <p:blipFill>
          <a:blip r:embed="rId1"/>
          <a:stretch/>
        </p:blipFill>
        <p:spPr>
          <a:xfrm>
            <a:off x="6877080" y="1413000"/>
            <a:ext cx="1440000" cy="1082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banana"/>
          <p:cNvPicPr/>
          <p:nvPr/>
        </p:nvPicPr>
        <p:blipFill>
          <a:blip r:embed="rId2"/>
          <a:stretch/>
        </p:blipFill>
        <p:spPr>
          <a:xfrm>
            <a:off x="6877080" y="3141720"/>
            <a:ext cx="1592280" cy="119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hromoplast"/>
          <p:cNvPicPr/>
          <p:nvPr/>
        </p:nvPicPr>
        <p:blipFill>
          <a:blip r:embed="rId3"/>
          <a:stretch/>
        </p:blipFill>
        <p:spPr>
          <a:xfrm>
            <a:off x="6877080" y="4581360"/>
            <a:ext cx="1655640" cy="10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7:05:27Z</dcterms:created>
  <dc:creator>Daniela</dc:creator>
  <dc:description/>
  <dc:language>en-US</dc:language>
  <cp:lastModifiedBy>Daniela</cp:lastModifiedBy>
  <dcterms:modified xsi:type="dcterms:W3CDTF">2010-03-03T10:16:13Z</dcterms:modified>
  <cp:revision>16</cp:revision>
  <dc:subject/>
  <dc:title>Cells </dc:title>
</cp:coreProperties>
</file>