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png" ContentType="image/png"/>
  <Override PartName="/ppt/media/image3.png" ContentType="image/png"/>
  <Override PartName="/ppt/media/image17.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2"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5"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6"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0D31-9800-4E0D-B180-F36E5E8688A8}"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CFFC-D0AA-4D81-B736-EF6AC811E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198A-52C3-4D50-9EA5-69C4F15D784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B261-2D0D-4DB8-B15F-6D7836D3C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E66F-40F5-4FF2-AFFE-BA53B0F86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AE94-19E5-4556-8F4A-06A7AFC95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ve them some visuals – here’s the whole ball of wax – followed by the different piec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EE8F-A8A5-4240-AC77-B14B658B2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F0864-3088-4F33-AA47-3FB2C100F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C9B65-DBE4-4539-B719-64E3F799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47F1DA-0290-4034-88C0-ACCB316AC9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924DFE-696D-4EFA-AFBF-620877EC31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4883EB-EC88-423D-B4EF-A32D4DD0C2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E7B7F-BE2A-4C68-AA56-3A0539D2D8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421296-710D-4DAE-918D-AC77200167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193360-9FC9-4204-BB07-39710DF1B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CF0A09-9A9C-4374-88D1-7B32081104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534335-4789-4881-B8D2-5FD91D3B4D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BEB661-C6C5-4931-9BA1-B190800428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32F4A5-282D-4592-AF3B-60BA015E76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16D97-1AAD-499E-9967-55AD2EB40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0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EB4D5E-3BE2-4B69-9EA1-F7F710A640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50BD0C-0A85-4FE6-9A5F-1D01B3E4B6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7AB029-1A2D-4A4B-8B02-B374042943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316BF8-F4CD-444E-A7D5-BA18261B18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DEBBFC-C125-4672-89BD-6128B65E6B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01FA9F-9CCB-4EE0-BB1F-7412E1EA51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6DF83A-2EC8-4BC7-B9AA-773B6D8621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3029A9-818A-486C-9840-9616BAAEC3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AD3579-3CB2-4AD6-B0D4-754D290FF1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2A9147-E513-4C0C-957C-6B4AFC1824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BAE6C-0251-4958-A331-DFBBE04AC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800C5D-0797-4CAA-B272-C7AAABD2D3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B3C652-57FC-4B74-9D84-93FAE361B1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A2FEC4-7D6C-41A9-A4DD-3B054B2528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7CB9B7-DAF1-4271-80C4-19DE6DCCCE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D13B37-1F8E-488C-83A2-0D82E4E1D2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EF3637-4F9B-4352-86C0-A62C3F39AD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421A7B-EDF0-4C2E-84B1-5BA487852F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941953-421F-4815-B628-4FBCC4081D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402309-3024-47CA-8DEE-E6D2D7CE3B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0CB324-4569-4584-A63A-57D2280973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93B41-34CC-4ABB-8FF3-4B7EFCDAA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F08263-1BA2-44F1-90EE-E048AFB1BD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B42E88-8872-42A2-8CAD-7951162159B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E8A5D2-88DF-4A48-84D2-FC6D7D02E5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23A169-BD65-4AD3-B330-0DE18499B1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4056E3-EB8A-4836-ADD1-A9E166DF27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9B63A1-5545-4D72-8EBA-29E571C595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E53035-5966-4054-B142-D22B0303C5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C731C4-4D0F-4233-8C65-D0E8347EED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F024DE-9245-4704-8C67-B6E4FA1226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FC9D84-40D0-4580-A410-6FC4D9F92D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4FE1B-18E7-4F67-A916-0C33FFCFF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BBFA4D-339B-4DDA-AEB7-3C1D676ACD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4B7EC8-9A1C-472D-BDDA-DABB370A45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632E56-A29E-416B-BBC6-0307792C59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95F12E-2070-433C-ADF5-91B042B5EA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038383-22E6-47B5-BEB7-B930F75580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EB5D1F9-150B-4159-8B3B-191CDD1338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80CB9C-6913-48E4-8B95-CB60D9747A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738B46-0879-450A-A59A-9979826B3C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4F1477-FBC3-46D2-93C2-9B0002F3FE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BFBE57-A4F4-428E-BA91-F7127BC9B7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2CEC0-0709-48DF-B9A8-BDEF528D7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9E2720-DAB6-4600-BAA9-02B3FB21C6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5F1A6A-FDE2-4859-883B-556188E207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CC38E4-2BB6-4193-B349-8B6C9E386B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78DA47-4FBB-450E-A5A1-047CBA9027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C81205-41F9-42C0-824E-DDA8E2BD6A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320049-8F17-4536-81EC-B147CCA39B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129ED8-E9DC-43EA-9EAD-333D80887E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19D1452-FFD7-4734-B2A4-6F52CE1A69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96657B-D51E-424E-86E3-E4E20C9448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4FC698-DC01-4A57-BB17-325FBA6B37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5E92A-1478-4487-838B-372529C42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0DE5F1-D1DF-485F-B72B-E9BF0746E3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22915E-37A2-4355-B567-A60F9E41BE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8BFDA5-B6AB-4D51-9B59-2DDC65128B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56AC39-36F5-4B9A-A785-C4E73834C2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5A62BC-39BE-410F-9DF5-DF8CBB0A44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1DB1D5-C6B6-4690-95FF-8C6CE838FC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A443BA-E025-48EE-9DD7-31D4C1BE1C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5413177-73FB-4B08-BE08-E724A10EF46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6BBA5DA-3333-457A-BCB6-F05F607B23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0A461A5-BA59-436A-8C36-F7B127AEA9F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FAA4B-237B-468D-ABF3-2784ECD9F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7D280F-83C0-4F36-910A-055338BBEA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E619DD-F353-44EC-A6B1-8C6DB9170D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1E57A1-5443-4BBE-8527-10B2A5EB62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7D9CDB-A12B-44D5-92F0-083C3F224C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6F20EF7-C18C-455F-8733-C724EAE7B1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702ED1-AEB5-4F10-9CA2-6F743F956C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7772C4-C8FB-48B3-B3D4-0246A9B20F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E65B00-6776-4013-B15B-CC1C84F439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F818C59-17E1-4682-9D4A-151D4D73C1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19572DE-4F21-4AD2-860C-9C683356F80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5CD79-6F38-4F07-A451-18313CAD2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9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46E6014-3111-416E-90F9-833F22E8976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4091340-BFB9-4793-BB5A-06C9E8A5217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0FABB2D-0342-4080-A7E3-9F0E14692A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E6C6BF-2F04-48C7-B65C-1220E5A58A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8EDFF11-EEEE-47E1-B6AB-9BA71183E7A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5AB4A4-CE16-4949-A01E-8E844540728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7A851E-5032-4EC0-B536-B07E62FD3F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D24487-B85D-452E-97CA-6FD1C98D45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6297CF-BAFC-44F0-A845-C9BFF41D24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88DCCEF-B6BE-42CC-8ACE-E2E8A1778C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97932-58E6-44FA-AD4A-7A8E901EB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85B2DB1-68CB-46A9-ACA6-7B1E55AA1A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21DA8B6-4D27-4E6D-AC12-09F883B833C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C190302-CEC6-408A-AFD0-7775DE0C0E3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DF25F2FD-F975-4637-AFA6-B159DC049E8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CEE980E0-AFDD-4186-A340-003772E79C7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28F93C31-22E8-4956-8E02-467A2DA44AD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4FD05ED9-9AFC-423A-BBD2-849626D7787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27C5E99E-C9C4-42A5-9CBF-9E827429FB6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8A01129F-45B9-4405-BBB1-41FBDF38B72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B4C1BB1B-EABC-402F-B664-D50365162ED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F66DB-AFEA-4558-B8DB-A625D061A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36B74-8E10-4D03-BD88-B2A7C36FB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C4AC5CE7-55C8-4509-AD8C-354BC09E210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2856B961-EA21-48E7-9536-3F0FC2605C6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2487EA4D-4D28-4499-A26B-7F16B62F75B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88836AA6-8A43-42E3-A645-C87E36F5DBA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9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15D8F865-DF2A-476E-9DED-F5DFCAB8573B}"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34E75C52-86CE-40C2-855F-E67BB8F09B6B}"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AD6EE3CF-8866-4709-9093-8413FADC1DE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869E2579-2EED-413B-9729-4788C50450E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D06717E6-CE28-4708-86DC-AFD2AB3E416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A4E62880-9BD9-4388-B1BB-E8FE09D5591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C00DE-AA75-4679-BF1E-0C3439512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977CA216-2259-4C64-884A-F004C3ACC88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BB103C4E-0515-4E89-938F-E0A89B593D3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FF8C4CBD-AE2E-4EAA-9700-989EFBFD871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1896B205-F456-48CD-8ADC-FB33301678D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C10181C8-9D7C-4B9D-9AA4-AAD9C7C0D11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75BC45EC-DAC4-45FF-B774-C87190763FDA}"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4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12830709-B52E-4246-A0B9-BB189DD2EF79}"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45A1D33-6098-4718-83E2-1F86399C06A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8135C01-7720-48A0-BBBC-E420E0F56BA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3B1CCC-9BC0-47BF-A66C-F4FDB72FE5D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D6FC1-5EAE-431F-98AD-FE0A36DB1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C93D7C-1F1F-4FE8-A693-F5339ADA78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5A27684-D1FE-4C6F-9ACA-B12B2431B0C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D4A1282-7932-4A24-A28F-E43D93905EC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2417A2-7916-4F99-9ADA-375C67C5965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3D94DE9-E3E3-4687-83DE-068E2B7F1F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10CF339-47C4-48FB-8886-4319A56F52A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80C01F4-DB9B-48B3-AF57-6776C3D7AA5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C796C96-7999-49EB-B59D-100624070E6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9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FC6A118-3370-41D1-ABE2-287E1C8944C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8"/>
          </p:nvPr>
        </p:nvSpPr>
        <p:spPr/>
        <p:txBody>
          <a:bodyPr/>
          <a:p>
            <a:fld id="{E94AC38C-DA0E-44DA-83EE-F97749B5DB50}"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3C8FE-BE3F-4465-8BE2-B52B9A42E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08C453B4-B80C-4990-92D8-4740D39BD10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3F01F755-60C8-452E-BD13-BC42754FC86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61162A52-8E07-4EF4-904E-4753AA3DCE6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2B7E42FC-D6D0-4316-A738-5AFCEF9A14F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87AE6EF5-29B0-4306-B943-BD7FCE8112DD}"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2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18D3D9AC-2F82-45E4-8A7B-3437D26BEBF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2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C4DB566A-7E01-446B-8ECF-8E65BF0AC22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3785B769-26AE-4D8B-A1C8-83BCA61DDA1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D7974902-DE5F-40C0-86EC-62495A996FA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8"/>
          </p:nvPr>
        </p:nvSpPr>
        <p:spPr/>
        <p:txBody>
          <a:bodyPr/>
          <a:p>
            <a:fld id="{7A76BC7F-717F-47E2-B452-87B0ED0AF1A4}"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2970D-053D-4BD1-9BAB-D2931D7A2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8"/>
          </p:nvPr>
        </p:nvSpPr>
        <p:spPr/>
        <p:txBody>
          <a:bodyPr/>
          <a:p>
            <a:fld id="{18EFE386-7012-4B08-A660-B7B98856010B}"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BF3BFF-A8FF-48DE-8D73-FD423873DD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CFBF5-7AA4-4B20-BBB7-EFDD8A438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C42CA-E7F4-43D2-80F8-DCA75791F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92CD2-FF75-4378-80BC-736B66CF0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2E166-C6A1-4511-A04E-7812AA8018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1055-2336-43E9-851B-5955FCFF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3D81D3-C021-4218-A612-56A7BFA75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2316D-B8A1-4189-A8FD-C9EDB047B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55C27-932D-48AA-B2AA-AEF5C09BB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C9C46-11AE-4A51-83E6-BFDE80479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B81385-2CFE-4D8C-9635-C2960CE42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DD4C02-AE57-4C65-A329-EDD43915CC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A27F8-8303-4F78-92BE-13E9EE6F82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B07D18-F212-4D25-B42C-3089267CBC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95575-E28E-4DCC-B89A-FE6937CA6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29EBB-AE3F-4450-94D5-97F257486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65647-E07B-4D95-B1C7-BADFE577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33A61-AA28-4F8E-A849-BE94720DE4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EBF91-26CA-4F52-AE82-98A09B4B07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6ABAD5-E24F-44B3-94A0-926A2E860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8715D-F21A-496A-B1EF-D740BA0EC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15814-97F4-467D-BB29-CB577D74DC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9392D-2C49-4C7D-8662-BD9E4FFDE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B900D-E6B1-416D-B538-6FA858843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506227-1E54-4DDF-96E3-20F5F729F7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E8B6EF-5A6E-4C03-8593-420F9DA311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3CB659-C701-4F90-B943-CF873CE8DB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7807-3114-4CE2-A2A5-8067EA55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C4D28A-AD5C-4ACE-9717-9A0861B35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32511-C6AF-4491-8BF1-CEFCB61009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52BF1-C060-42EA-AD57-7FDB3FDA4B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B1C115-6147-417C-89AA-300367551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CF363D-E421-43A2-A159-2B64D25065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7ACD8-01ED-4BF5-99AD-F8A5CE6AB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E918F-BFE5-49B2-B81A-E7FA842C3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C36C4-76CB-4BE2-82E4-0E9D933DB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1177D5-8CD2-481A-94D6-53F0F3E76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318045-7830-40A6-89A4-EB0D344E7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6E456-015D-4614-83E4-479E1A416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67F2E2-0AB6-4933-B564-8E4F58E74C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5B90D0-BAC4-4DE6-8A04-9F9AC339BC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515502-AFA5-4BCE-BDA9-CB557EBFFB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2260F5-DDC6-478F-983A-F5FB395EF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A393BF-F586-4E0C-977D-5F7E2A448B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4D8866-26AD-4843-9B08-5FA15456D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F1FC0-AC7A-4539-B458-C1890C3F2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CF02C-2510-41E7-93AF-1EBD21B2E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06813-FF33-4E18-BA6D-CE14A452A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C81D8-B15B-4117-BA94-5918EF69E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7A8F0-2EE9-4A78-A006-21B91F451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414B05-B449-4158-A28A-1307B66E0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F53F12-01AE-4E1F-946D-069F85FB51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74C3A6-A698-4AE1-885A-1967F4126C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E78936-A970-41F2-886C-8DDD1D3F9B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AC7877-205D-4301-AF1A-6411D7EB8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0CBF2C-CB69-499D-B2A0-6104BDB8B0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42A5A-AD30-4BE5-B4C0-62A669274A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24F004-C203-4040-B1DF-F995E3E8B4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51C3EB-1BCC-42E6-B056-1EBC99D69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38F6F-27C0-4FAF-ACA3-8FDEAB6FD2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2368-8A14-47A3-A2F5-F3003E6BD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24B4D-A896-42D2-8DF0-2A911371C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8CE55-0215-488A-860A-D0D54641A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31485-1A1B-4472-9A8E-F8FD247921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419FEB-3A58-413F-AA5B-787FD59386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E24D2D-8241-477B-806F-22B516517E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9CF443-AE74-4359-81D4-458A6B44F3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742D06-37CE-43B4-B6D9-1F11929D45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CFE5EE-609B-45B6-80D6-29D0CFD680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92ACB-D0C4-4CDA-B442-7A0211CD0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7BD6F-B106-44B6-A079-D8872F7D2F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6B9F1-FE5B-4D1A-9C9F-845DDBEAD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27513E-E025-4A15-86CE-2FDAEDAA06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0B3EB-346A-4E8C-9C19-C15FC7C1B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E5674-584C-4BB2-BB8B-F108C66D0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9E4D3-C8AC-48A4-B7B3-6E50D1C670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092C36-987F-42CE-8219-22D99B2A76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4A51F9-35A0-48AC-9AD3-1F0138EAFB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89595F-1857-42C3-8F24-1846DBB4AF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6C2E06-712D-4DA9-8267-9620BAC19B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2DAD01-7116-4FE2-8734-8082D5C247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6F6BA1-6437-48DA-8701-0146868817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E389-4045-4B7B-8486-54335B8EE983}"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0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05"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06"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30"/>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AC85-77BC-4DB1-98F5-2F0C9FF22833}"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4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55"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56"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DE44-5841-4D90-A6CF-A3EBF48067E8}"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07" name="PlaceHolder 3"/>
          <p:cNvSpPr>
            <a:spLocks noGrp="1"/>
          </p:cNvSpPr>
          <p:nvPr>
            <p:ph type="ftr" idx="3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09" name="PlaceHolder 5"/>
          <p:cNvSpPr>
            <a:spLocks noGrp="1"/>
          </p:cNvSpPr>
          <p:nvPr>
            <p:ph type="sldNum" idx="3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07E3-A1BA-4544-9744-40F5875B22A8}"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8" name="PlaceHolder 3"/>
          <p:cNvSpPr>
            <a:spLocks noGrp="1"/>
          </p:cNvSpPr>
          <p:nvPr>
            <p:ph type="dt" idx="37"/>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59"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A143-AC77-47B4-96E9-09E65D54063B}"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97"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0"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11" name="PlaceHolder 4"/>
          <p:cNvSpPr>
            <a:spLocks noGrp="1"/>
          </p:cNvSpPr>
          <p:nvPr>
            <p:ph type="ftr" idx="41"/>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42"/>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9E02-B76F-43F5-9B01-1F769D23C855}"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5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0"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61"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45"/>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936C-5130-48B9-B4B2-3FC949BF2F9F}"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7" name="PlaceHolder 3"/>
          <p:cNvSpPr>
            <a:spLocks noGrp="1"/>
          </p:cNvSpPr>
          <p:nvPr>
            <p:ph type="dt" idx="4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8" name="PlaceHolder 4"/>
          <p:cNvSpPr>
            <a:spLocks noGrp="1"/>
          </p:cNvSpPr>
          <p:nvPr>
            <p:ph type="ftr" idx="4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5"/>
          <p:cNvSpPr>
            <a:spLocks noGrp="1"/>
          </p:cNvSpPr>
          <p:nvPr>
            <p:ph type="sldNum" idx="48"/>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7162-364A-4350-8352-D0BA31DA0ECC}"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9" name="PlaceHolder 3"/>
          <p:cNvSpPr>
            <a:spLocks noGrp="1"/>
          </p:cNvSpPr>
          <p:nvPr>
            <p:ph type="sldNum" idx="49"/>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4A22-4B51-48A4-885B-211FC9E53CEB}"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60" name="PlaceHolder 4"/>
          <p:cNvSpPr>
            <a:spLocks noGrp="1"/>
          </p:cNvSpPr>
          <p:nvPr>
            <p:ph type="dt" idx="5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61" name="PlaceHolder 5"/>
          <p:cNvSpPr>
            <a:spLocks noGrp="1"/>
          </p:cNvSpPr>
          <p:nvPr>
            <p:ph type="ftr" idx="51"/>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11" name="PlaceHolder 3"/>
          <p:cNvSpPr>
            <a:spLocks noGrp="1"/>
          </p:cNvSpPr>
          <p:nvPr>
            <p:ph type="sldNum" idx="52"/>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3D92-A8A8-4BFD-BAF6-859E48EEADC8}"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12" name="PlaceHolder 4"/>
          <p:cNvSpPr>
            <a:spLocks noGrp="1"/>
          </p:cNvSpPr>
          <p:nvPr>
            <p:ph type="dt" idx="53"/>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13" name="PlaceHolder 5"/>
          <p:cNvSpPr>
            <a:spLocks noGrp="1"/>
          </p:cNvSpPr>
          <p:nvPr>
            <p:ph type="ftr" idx="54"/>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61"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62"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5"/>
          <p:cNvSpPr>
            <a:spLocks noGrp="1"/>
          </p:cNvSpPr>
          <p:nvPr>
            <p:ph type="sldNum" idx="57"/>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523D-C889-4202-845E-4D5425B942A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137A-2104-4D86-9716-E07714843595}"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5"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11" name="PlaceHolder 3"/>
          <p:cNvSpPr>
            <a:spLocks noGrp="1"/>
          </p:cNvSpPr>
          <p:nvPr>
            <p:ph type="sldNum" idx="58"/>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7849-BB3E-4095-9BCA-A082527BA5B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912" name="PlaceHolder 4"/>
          <p:cNvSpPr>
            <a:spLocks noGrp="1"/>
          </p:cNvSpPr>
          <p:nvPr>
            <p:ph type="dt" idx="5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13" name="PlaceHolder 5"/>
          <p:cNvSpPr>
            <a:spLocks noGrp="1"/>
          </p:cNvSpPr>
          <p:nvPr>
            <p:ph type="ftr" idx="6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50DA-0120-443D-B094-FD4E42A14DB0}"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8"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F442-AF70-4B90-ADCB-02CABA2F7DA0}"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1"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C670-3504-4F87-9D9F-5503BB4D9BE4}"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2"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36BC-6839-4B5F-AA45-C9B03EEBDB9C}"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7"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8" name="PlaceHolder 4"/>
          <p:cNvSpPr>
            <a:spLocks noGrp="1"/>
          </p:cNvSpPr>
          <p:nvPr>
            <p:ph type="ftr" idx="20"/>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9162-C2FA-4616-87EA-758ACBBBB570}"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06"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22"/>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313" name="PlaceHolder 4"/>
          <p:cNvSpPr>
            <a:spLocks noGrp="1"/>
          </p:cNvSpPr>
          <p:nvPr>
            <p:ph type="ftr" idx="23"/>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5"/>
          <p:cNvSpPr>
            <a:spLocks noGrp="1"/>
          </p:cNvSpPr>
          <p:nvPr>
            <p:ph type="sldNum" idx="24"/>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6CB2-4491-4E4C-B7F1-AC4FFEA7BE98}"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5" name="PlaceHolder 3"/>
          <p:cNvSpPr>
            <a:spLocks noGrp="1"/>
          </p:cNvSpPr>
          <p:nvPr>
            <p:ph type="dt" idx="25"/>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356" name="PlaceHolder 4"/>
          <p:cNvSpPr>
            <a:spLocks noGrp="1"/>
          </p:cNvSpPr>
          <p:nvPr>
            <p:ph type="ftr" idx="26"/>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656A-98D5-47BE-BF46-6AF101CE7ACB}"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0" y="776160"/>
            <a:ext cx="8602560" cy="14702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49cdc"/>
                </a:solidFill>
                <a:latin typeface="Calibri"/>
              </a:rPr>
              <a:t>CYCLING OF MATTE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9" name="Rectangle 2" descr=""/>
          <p:cNvPicPr/>
          <p:nvPr/>
        </p:nvPicPr>
        <p:blipFill>
          <a:blip r:embed="rId1"/>
          <a:stretch/>
        </p:blipFill>
        <p:spPr>
          <a:xfrm>
            <a:off x="189000" y="146160"/>
            <a:ext cx="8504280" cy="1261800"/>
          </a:xfrm>
          <a:prstGeom prst="rect">
            <a:avLst/>
          </a:prstGeom>
          <a:ln w="0">
            <a:noFill/>
          </a:ln>
        </p:spPr>
      </p:pic>
      <p:sp>
        <p:nvSpPr>
          <p:cNvPr id="1010" name="Rectangle 3"/>
          <p:cNvSpPr/>
          <p:nvPr/>
        </p:nvSpPr>
        <p:spPr>
          <a:xfrm>
            <a:off x="3109320" y="2120760"/>
            <a:ext cx="2995200" cy="3080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ater Cycle</a:t>
            </a:r>
            <a:endParaRPr b="0" lang="en-US" sz="2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ock Cycle</a:t>
            </a:r>
            <a:endParaRPr b="0" lang="en-US" sz="2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emical Cycles</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arbon</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Nitrogen</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Phosphorous</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ulf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nutrient</a:t>
            </a:r>
            <a:r>
              <a:rPr b="0" lang="en-US" sz="2400" spc="-1" strike="noStrike">
                <a:solidFill>
                  <a:srgbClr val="000000"/>
                </a:solidFill>
                <a:latin typeface="Corbel"/>
              </a:rPr>
              <a:t>: any atom, ion, or molecule an organism needs to live, grow, or reproduce.</a:t>
            </a:r>
            <a:endParaRPr b="0" lang="en-US" sz="24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macronutrients</a:t>
            </a:r>
            <a:r>
              <a:rPr b="0" lang="en-US" sz="2000" spc="-1" strike="noStrike">
                <a:solidFill>
                  <a:srgbClr val="000000"/>
                </a:solidFill>
                <a:latin typeface="Corbel"/>
              </a:rPr>
              <a:t> needed in relatively large amounts</a:t>
            </a:r>
            <a:br>
              <a:rPr sz="2000"/>
            </a:br>
            <a:r>
              <a:rPr b="0" lang="en-US" sz="2000" spc="-1" strike="noStrike">
                <a:solidFill>
                  <a:srgbClr val="000000"/>
                </a:solidFill>
                <a:latin typeface="Corbel"/>
              </a:rPr>
              <a:t>e.g., C, O, H, N, P, S, K, Ca, Mg, Fe</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micronutrients</a:t>
            </a:r>
            <a:r>
              <a:rPr b="0" lang="en-US" sz="2000" spc="-1" strike="noStrike">
                <a:solidFill>
                  <a:srgbClr val="000000"/>
                </a:solidFill>
                <a:latin typeface="Corbel"/>
              </a:rPr>
              <a:t> needed in relatively small amounts</a:t>
            </a:r>
            <a:br>
              <a:rPr sz="2000"/>
            </a:br>
            <a:r>
              <a:rPr b="0" lang="en-US" sz="2000" spc="-1" strike="noStrike">
                <a:solidFill>
                  <a:srgbClr val="000000"/>
                </a:solidFill>
                <a:latin typeface="Corbel"/>
              </a:rPr>
              <a:t>e.g., Na, Zn, Cu, Cl, </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nutrient cycles</a:t>
            </a:r>
            <a:r>
              <a:rPr b="0" lang="en-US" sz="2000" spc="-1" strike="noStrike">
                <a:solidFill>
                  <a:srgbClr val="000000"/>
                </a:solidFill>
                <a:latin typeface="Corbel"/>
              </a:rPr>
              <a:t> (= biogeochemical cycles) involve continual flow of nutrients from nonliving (air, water, soil, rock) to living organisms (biota) &amp; back again.</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utrient cycles driven directly or indirectly by solar radiation &amp; gravity.</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rbel"/>
              </a:rPr>
              <a:t>Major cycles</a:t>
            </a:r>
            <a:r>
              <a:rPr b="0" lang="en-US" sz="2000" spc="-1" strike="noStrike">
                <a:solidFill>
                  <a:srgbClr val="000000"/>
                </a:solidFill>
                <a:latin typeface="Corbel"/>
              </a:rPr>
              <a:t>: hydrologic (water), carbon, oxygen, nitrogen, phosphorus and sulfur.</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1012" name="Title 3" descr=""/>
          <p:cNvPicPr/>
          <p:nvPr/>
        </p:nvPicPr>
        <p:blipFill>
          <a:blip r:embed="rId1"/>
          <a:stretch/>
        </p:blipFill>
        <p:spPr>
          <a:xfrm>
            <a:off x="201600" y="-6480"/>
            <a:ext cx="8504280" cy="12686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In any ecosystem, the various organisms depend for survival on other organisms and on their surroundings.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Organisms obtain the matter that they need to build their organic substance form other organisms and from their surrounding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4" name="Title 3" descr=""/>
          <p:cNvPicPr/>
          <p:nvPr/>
        </p:nvPicPr>
        <p:blipFill>
          <a:blip r:embed="rId1"/>
          <a:stretch/>
        </p:blipFill>
        <p:spPr>
          <a:xfrm>
            <a:off x="201600" y="-6480"/>
            <a:ext cx="8686800" cy="12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Unlike energy, matter cycles within any ecosystem and is reused.</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Matter, such as water, carbon, nitrogen and phosphorus, continually cycles within an ecosyste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6" name="Title 3" descr=""/>
          <p:cNvPicPr/>
          <p:nvPr/>
        </p:nvPicPr>
        <p:blipFill>
          <a:blip r:embed="rId1"/>
          <a:stretch/>
        </p:blipFill>
        <p:spPr>
          <a:xfrm>
            <a:off x="201600" y="-6480"/>
            <a:ext cx="8686800" cy="126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These elements are sometimes found in producers and consumer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At other times these elements are found in non-living components – rocks, soil, dissolved in wate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8" name="Title 3" descr=""/>
          <p:cNvPicPr/>
          <p:nvPr/>
        </p:nvPicPr>
        <p:blipFill>
          <a:blip r:embed="rId1"/>
          <a:stretch/>
        </p:blipFill>
        <p:spPr>
          <a:xfrm>
            <a:off x="189000" y="152280"/>
            <a:ext cx="8686800" cy="12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ounded Rectangle 1"/>
          <p:cNvSpPr/>
          <p:nvPr/>
        </p:nvSpPr>
        <p:spPr>
          <a:xfrm>
            <a:off x="928800" y="714240"/>
            <a:ext cx="1500120" cy="914400"/>
          </a:xfrm>
          <a:prstGeom prst="roundRect">
            <a:avLst>
              <a:gd name="adj" fmla="val 16667"/>
            </a:avLst>
          </a:prstGeom>
          <a:solidFill>
            <a:srgbClr val="ccb40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Producers</a:t>
            </a:r>
            <a:endParaRPr b="0" lang="en-US" sz="1800" spc="-1" strike="noStrike">
              <a:solidFill>
                <a:srgbClr val="000000"/>
              </a:solidFill>
              <a:latin typeface="Arial"/>
            </a:endParaRPr>
          </a:p>
        </p:txBody>
      </p:sp>
      <p:sp>
        <p:nvSpPr>
          <p:cNvPr id="1020" name="Rounded Rectangle 2"/>
          <p:cNvSpPr/>
          <p:nvPr/>
        </p:nvSpPr>
        <p:spPr>
          <a:xfrm>
            <a:off x="3714840" y="714240"/>
            <a:ext cx="1428840" cy="914400"/>
          </a:xfrm>
          <a:prstGeom prst="roundRect">
            <a:avLst>
              <a:gd name="adj" fmla="val 16667"/>
            </a:avLst>
          </a:prstGeom>
          <a:solidFill>
            <a:srgbClr val="00b05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Herbivores</a:t>
            </a:r>
            <a:endParaRPr b="0" lang="en-US" sz="1800" spc="-1" strike="noStrike">
              <a:solidFill>
                <a:srgbClr val="000000"/>
              </a:solidFill>
              <a:latin typeface="Arial"/>
            </a:endParaRPr>
          </a:p>
        </p:txBody>
      </p:sp>
      <p:sp>
        <p:nvSpPr>
          <p:cNvPr id="1021" name="Rounded Rectangle 3"/>
          <p:cNvSpPr/>
          <p:nvPr/>
        </p:nvSpPr>
        <p:spPr>
          <a:xfrm>
            <a:off x="6572160" y="714240"/>
            <a:ext cx="1428840" cy="914400"/>
          </a:xfrm>
          <a:prstGeom prst="roundRect">
            <a:avLst>
              <a:gd name="adj" fmla="val 16667"/>
            </a:avLst>
          </a:prstGeom>
          <a:solidFill>
            <a:srgbClr val="8fb08c"/>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Carnivores</a:t>
            </a:r>
            <a:endParaRPr b="0" lang="en-US" sz="1800" spc="-1" strike="noStrike">
              <a:solidFill>
                <a:srgbClr val="000000"/>
              </a:solidFill>
              <a:latin typeface="Arial"/>
            </a:endParaRPr>
          </a:p>
        </p:txBody>
      </p:sp>
      <p:sp>
        <p:nvSpPr>
          <p:cNvPr id="1022" name="Rounded Rectangle 4"/>
          <p:cNvSpPr/>
          <p:nvPr/>
        </p:nvSpPr>
        <p:spPr>
          <a:xfrm>
            <a:off x="5000760" y="3214800"/>
            <a:ext cx="1643040" cy="914400"/>
          </a:xfrm>
          <a:prstGeom prst="roundRect">
            <a:avLst>
              <a:gd name="adj" fmla="val 16667"/>
            </a:avLst>
          </a:prstGeom>
          <a:solidFill>
            <a:srgbClr val="2a373d"/>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Decomposers</a:t>
            </a:r>
            <a:endParaRPr b="0" lang="en-US" sz="1800" spc="-1" strike="noStrike">
              <a:solidFill>
                <a:srgbClr val="000000"/>
              </a:solidFill>
              <a:latin typeface="Arial"/>
            </a:endParaRPr>
          </a:p>
        </p:txBody>
      </p:sp>
      <p:sp>
        <p:nvSpPr>
          <p:cNvPr id="1023" name="Oval 5"/>
          <p:cNvSpPr/>
          <p:nvPr/>
        </p:nvSpPr>
        <p:spPr>
          <a:xfrm>
            <a:off x="1143000" y="3571920"/>
            <a:ext cx="1571760" cy="914400"/>
          </a:xfrm>
          <a:prstGeom prst="ellipse">
            <a:avLst/>
          </a:prstGeom>
          <a:solidFill>
            <a:srgbClr val="ffff0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Georgia"/>
              </a:rPr>
              <a:t>Nutrient Pool</a:t>
            </a:r>
            <a:endParaRPr b="0" lang="en-US" sz="1800" spc="-1" strike="noStrike">
              <a:solidFill>
                <a:srgbClr val="000000"/>
              </a:solidFill>
              <a:latin typeface="Arial"/>
            </a:endParaRPr>
          </a:p>
        </p:txBody>
      </p:sp>
      <p:sp>
        <p:nvSpPr>
          <p:cNvPr id="1024" name="Right Arrow 6"/>
          <p:cNvSpPr/>
          <p:nvPr/>
        </p:nvSpPr>
        <p:spPr>
          <a:xfrm>
            <a:off x="2571840" y="1000080"/>
            <a:ext cx="977760" cy="484200"/>
          </a:xfrm>
          <a:prstGeom prst="righ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ight Arrow 7"/>
          <p:cNvSpPr/>
          <p:nvPr/>
        </p:nvSpPr>
        <p:spPr>
          <a:xfrm>
            <a:off x="5357880" y="928800"/>
            <a:ext cx="977760" cy="484200"/>
          </a:xfrm>
          <a:prstGeom prst="righ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Bent Arrow 8"/>
          <p:cNvSpPr/>
          <p:nvPr/>
        </p:nvSpPr>
        <p:spPr>
          <a:xfrm rot="9411000">
            <a:off x="6792480" y="2204640"/>
            <a:ext cx="1293840" cy="1158840"/>
          </a:xfrm>
          <a:custGeom>
            <a:avLst/>
            <a:gdLst/>
            <a:ahLst/>
            <a:rect l="l" t="t" r="r" b="b"/>
            <a:pathLst>
              <a:path w="1293812" h="1158875">
                <a:moveTo>
                  <a:pt x="0" y="1158875"/>
                </a:moveTo>
                <a:lnTo>
                  <a:pt x="0" y="651867"/>
                </a:lnTo>
                <a:lnTo>
                  <a:pt x="0" y="651867"/>
                </a:lnTo>
                <a:arcTo wR="507008" hR="507008" stAng="-10799993" swAng="5400000"/>
                <a:lnTo>
                  <a:pt x="1004093" y="144859"/>
                </a:lnTo>
                <a:lnTo>
                  <a:pt x="1004093" y="0"/>
                </a:lnTo>
                <a:lnTo>
                  <a:pt x="1293812" y="289719"/>
                </a:lnTo>
                <a:lnTo>
                  <a:pt x="1004093" y="579438"/>
                </a:lnTo>
                <a:lnTo>
                  <a:pt x="1004093" y="434578"/>
                </a:lnTo>
                <a:lnTo>
                  <a:pt x="507008" y="434578"/>
                </a:lnTo>
                <a:lnTo>
                  <a:pt x="507008" y="434578"/>
                </a:lnTo>
                <a:arcTo wR="217289" hR="217289" stAng="-5400000" swAng="-5400000"/>
                <a:lnTo>
                  <a:pt x="289719" y="1158875"/>
                </a:lnTo>
                <a:close/>
              </a:path>
            </a:pathLst>
          </a:custGeom>
          <a:solidFill>
            <a:srgbClr val="d16349"/>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eft Arrow 9"/>
          <p:cNvSpPr/>
          <p:nvPr/>
        </p:nvSpPr>
        <p:spPr>
          <a:xfrm>
            <a:off x="2928960" y="3714840"/>
            <a:ext cx="1857240" cy="484200"/>
          </a:xfrm>
          <a:prstGeom prst="lef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Up Arrow 10"/>
          <p:cNvSpPr/>
          <p:nvPr/>
        </p:nvSpPr>
        <p:spPr>
          <a:xfrm>
            <a:off x="1500120" y="1857240"/>
            <a:ext cx="484200" cy="1571760"/>
          </a:xfrm>
          <a:prstGeom prst="up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Down Arrow 11"/>
          <p:cNvSpPr/>
          <p:nvPr/>
        </p:nvSpPr>
        <p:spPr>
          <a:xfrm rot="17995200">
            <a:off x="3349440" y="1433520"/>
            <a:ext cx="484200" cy="2436480"/>
          </a:xfrm>
          <a:prstGeom prst="down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TextBox 13"/>
          <p:cNvSpPr/>
          <p:nvPr/>
        </p:nvSpPr>
        <p:spPr>
          <a:xfrm>
            <a:off x="597240" y="5500800"/>
            <a:ext cx="403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19049"/>
                </a:solidFill>
                <a:latin typeface="Georgia"/>
              </a:rPr>
              <a:t>The Cycling of M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020"/>
                                        </p:tgtEl>
                                        <p:attrNameLst>
                                          <p:attrName>style.visibility</p:attrName>
                                        </p:attrNameLst>
                                      </p:cBhvr>
                                      <p:to>
                                        <p:strVal val="visible"/>
                                      </p:to>
                                    </p:set>
                                    <p:animEffect filter="checkerboard(across)" transition="in">
                                      <p:cBhvr additive="repl">
                                        <p:cTn id="33" dur="500"/>
                                        <p:tgtEl>
                                          <p:spTgt spid="102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021"/>
                                        </p:tgtEl>
                                        <p:attrNameLst>
                                          <p:attrName>style.visibility</p:attrName>
                                        </p:attrNameLst>
                                      </p:cBhvr>
                                      <p:to>
                                        <p:strVal val="visible"/>
                                      </p:to>
                                    </p:set>
                                    <p:animEffect filter="checkerboard(across)" transition="in">
                                      <p:cBhvr additive="repl">
                                        <p:cTn id="38" dur="500"/>
                                        <p:tgtEl>
                                          <p:spTgt spid="102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22"/>
                                        </p:tgtEl>
                                        <p:attrNameLst>
                                          <p:attrName>style.visibility</p:attrName>
                                        </p:attrNameLst>
                                      </p:cBhvr>
                                      <p:to>
                                        <p:strVal val="visible"/>
                                      </p:to>
                                    </p:set>
                                    <p:animEffect filter="checkerboard(across)" transition="in">
                                      <p:cBhvr additive="repl">
                                        <p:cTn id="43" dur="500"/>
                                        <p:tgtEl>
                                          <p:spTgt spid="10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23"/>
                                        </p:tgtEl>
                                        <p:attrNameLst>
                                          <p:attrName>style.visibility</p:attrName>
                                        </p:attrNameLst>
                                      </p:cBhvr>
                                      <p:to>
                                        <p:strVal val="visible"/>
                                      </p:to>
                                    </p:set>
                                    <p:animEffect filter="checkerboard(across)" transition="in">
                                      <p:cBhvr additive="repl">
                                        <p:cTn id="48"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Title 1" descr=""/>
          <p:cNvPicPr/>
          <p:nvPr/>
        </p:nvPicPr>
        <p:blipFill>
          <a:blip r:embed="rId1"/>
          <a:stretch/>
        </p:blipFill>
        <p:spPr>
          <a:xfrm>
            <a:off x="189000" y="152280"/>
            <a:ext cx="8547120" cy="1262160"/>
          </a:xfrm>
          <a:prstGeom prst="rect">
            <a:avLst/>
          </a:prstGeom>
          <a:ln w="0">
            <a:noFill/>
          </a:ln>
        </p:spPr>
      </p:pic>
      <p:sp>
        <p:nvSpPr>
          <p:cNvPr id="1032"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orbel"/>
              </a:rPr>
              <a:t>one of the most important to humans because it is important to our existence: </a:t>
            </a:r>
            <a:endParaRPr b="0" lang="en-US" sz="30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one of the primary elements forming human tissues.</a:t>
            </a: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necessary to plants, the basis of human food and because it is important to the climate system which sets the background for our environment:</a:t>
            </a: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 carbon dioxide (CO 2 ) and methane (CH 4 ) are greenhouse gases which help set global temperatures.</a:t>
            </a:r>
            <a:r>
              <a:rPr b="0" lang="en-US" sz="2600" spc="-1" strike="noStrike">
                <a:solidFill>
                  <a:srgbClr val="000000"/>
                </a:solidFill>
                <a:latin typeface="Corbel"/>
              </a:rPr>
              <a:t> </a:t>
            </a:r>
            <a:endParaRPr b="0" lang="en-US" sz="26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032">
                                            <p:txEl>
                                              <p:pRg st="0" end="0"/>
                                            </p:txEl>
                                          </p:spTgt>
                                        </p:tgtEl>
                                        <p:attrNameLst>
                                          <p:attrName>style.visibility</p:attrName>
                                        </p:attrNameLst>
                                      </p:cBhvr>
                                      <p:to>
                                        <p:strVal val="visible"/>
                                      </p:to>
                                    </p:set>
                                    <p:animEffect filter="checkerboard(across)" transition="in">
                                      <p:cBhvr additive="repl">
                                        <p:cTn id="55" dur="500"/>
                                        <p:tgtEl>
                                          <p:spTgt spid="103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032">
                                            <p:txEl>
                                              <p:pRg st="1" end="1"/>
                                            </p:txEl>
                                          </p:spTgt>
                                        </p:tgtEl>
                                        <p:attrNameLst>
                                          <p:attrName>style.visibility</p:attrName>
                                        </p:attrNameLst>
                                      </p:cBhvr>
                                      <p:to>
                                        <p:strVal val="visible"/>
                                      </p:to>
                                    </p:set>
                                    <p:animEffect filter="checkerboard(across)" transition="in">
                                      <p:cBhvr additive="repl">
                                        <p:cTn id="60" dur="500"/>
                                        <p:tgtEl>
                                          <p:spTgt spid="103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032">
                                            <p:txEl>
                                              <p:pRg st="3" end="3"/>
                                            </p:txEl>
                                          </p:spTgt>
                                        </p:tgtEl>
                                        <p:attrNameLst>
                                          <p:attrName>style.visibility</p:attrName>
                                        </p:attrNameLst>
                                      </p:cBhvr>
                                      <p:to>
                                        <p:strVal val="visible"/>
                                      </p:to>
                                    </p:set>
                                    <p:animEffect filter="checkerboard(across)" transition="in">
                                      <p:cBhvr additive="repl">
                                        <p:cTn id="65" dur="500"/>
                                        <p:tgtEl>
                                          <p:spTgt spid="103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32">
                                            <p:txEl>
                                              <p:pRg st="5" end="5"/>
                                            </p:txEl>
                                          </p:spTgt>
                                        </p:tgtEl>
                                        <p:attrNameLst>
                                          <p:attrName>style.visibility</p:attrName>
                                        </p:attrNameLst>
                                      </p:cBhvr>
                                      <p:to>
                                        <p:strVal val="visible"/>
                                      </p:to>
                                    </p:set>
                                    <p:animEffect filter="checkerboard(across)" transition="in">
                                      <p:cBhvr additive="repl">
                                        <p:cTn id="70" dur="5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Title 1" descr=""/>
          <p:cNvPicPr/>
          <p:nvPr/>
        </p:nvPicPr>
        <p:blipFill>
          <a:blip r:embed="rId1"/>
          <a:stretch/>
        </p:blipFill>
        <p:spPr>
          <a:xfrm>
            <a:off x="189000" y="152280"/>
            <a:ext cx="8504280" cy="1262160"/>
          </a:xfrm>
          <a:prstGeom prst="rect">
            <a:avLst/>
          </a:prstGeom>
          <a:ln w="0">
            <a:noFill/>
          </a:ln>
        </p:spPr>
      </p:pic>
      <p:sp>
        <p:nvSpPr>
          <p:cNvPr id="1034" name=""/>
          <p:cNvSpPr txBox="1"/>
          <p:nvPr/>
        </p:nvSpPr>
        <p:spPr>
          <a:xfrm>
            <a:off x="323640" y="3284640"/>
            <a:ext cx="1439640" cy="201600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See p 313 Biozone for diagram of Carbon cycle</a:t>
            </a:r>
            <a:endParaRPr b="0" lang="en-US" sz="1600" spc="-1" strike="noStrike">
              <a:solidFill>
                <a:srgbClr val="000000"/>
              </a:solidFill>
              <a:latin typeface="Corbel"/>
            </a:endParaRPr>
          </a:p>
        </p:txBody>
      </p:sp>
      <p:pic>
        <p:nvPicPr>
          <p:cNvPr id="1035" name="Picture 3" descr="carbon.jpg"/>
          <p:cNvPicPr/>
          <p:nvPr/>
        </p:nvPicPr>
        <p:blipFill>
          <a:blip r:embed="rId2"/>
          <a:stretch/>
        </p:blipFill>
        <p:spPr>
          <a:xfrm>
            <a:off x="1908000" y="1125360"/>
            <a:ext cx="7029720" cy="539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Title 1" descr=""/>
          <p:cNvPicPr/>
          <p:nvPr/>
        </p:nvPicPr>
        <p:blipFill>
          <a:blip r:embed="rId1"/>
          <a:stretch/>
        </p:blipFill>
        <p:spPr>
          <a:xfrm>
            <a:off x="219240" y="-6480"/>
            <a:ext cx="8474040" cy="1427400"/>
          </a:xfrm>
          <a:prstGeom prst="rect">
            <a:avLst/>
          </a:prstGeom>
          <a:ln w="0">
            <a:noFill/>
          </a:ln>
        </p:spPr>
      </p:pic>
      <p:sp>
        <p:nvSpPr>
          <p:cNvPr id="1037" name=""/>
          <p:cNvSpPr txBox="1"/>
          <p:nvPr/>
        </p:nvSpPr>
        <p:spPr>
          <a:xfrm>
            <a:off x="457200" y="1774800"/>
            <a:ext cx="8229600" cy="4626000"/>
          </a:xfrm>
          <a:prstGeom prst="rect">
            <a:avLst/>
          </a:prstGeom>
          <a:noFill/>
          <a:ln w="0">
            <a:noFill/>
          </a:ln>
        </p:spPr>
        <p:txBody>
          <a:bodyPr lIns="54720" tIns="91440" anchor="t">
            <a:normAutofit/>
          </a:bodyPr>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Explain how elements can be cycled and exchanged between living and non living parts of an ecosystem.</a:t>
            </a:r>
            <a:endParaRPr b="0" lang="en-US" sz="3200" spc="-1" strike="noStrike">
              <a:solidFill>
                <a:srgbClr val="000000"/>
              </a:solidFill>
              <a:latin typeface="Corbel"/>
            </a:endParaRPr>
          </a:p>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What might happen to a carbon atom from a glucose molecule in the blood of a human?</a:t>
            </a:r>
            <a:endParaRPr b="0" lang="en-US" sz="3200" spc="-1" strike="noStrike">
              <a:solidFill>
                <a:srgbClr val="000000"/>
              </a:solidFill>
              <a:latin typeface="Corbel"/>
            </a:endParaRPr>
          </a:p>
          <a:p>
            <a:pPr marL="514440" indent="-514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8" name="Title 1" descr=""/>
          <p:cNvPicPr/>
          <p:nvPr/>
        </p:nvPicPr>
        <p:blipFill>
          <a:blip r:embed="rId1"/>
          <a:stretch/>
        </p:blipFill>
        <p:spPr>
          <a:xfrm>
            <a:off x="189000" y="152280"/>
            <a:ext cx="8504280" cy="1262160"/>
          </a:xfrm>
          <a:prstGeom prst="rect">
            <a:avLst/>
          </a:prstGeom>
          <a:ln w="0">
            <a:noFill/>
          </a:ln>
        </p:spPr>
      </p:pic>
      <p:pic>
        <p:nvPicPr>
          <p:cNvPr id="1039" name="Content Placeholder 3" descr="nitrogen.jpg"/>
          <p:cNvPicPr/>
          <p:nvPr/>
        </p:nvPicPr>
        <p:blipFill>
          <a:blip r:embed="rId2"/>
          <a:stretch/>
        </p:blipFill>
        <p:spPr>
          <a:xfrm>
            <a:off x="3708360" y="1557360"/>
            <a:ext cx="4896000" cy="4957920"/>
          </a:xfrm>
          <a:prstGeom prst="rect">
            <a:avLst/>
          </a:prstGeom>
          <a:ln w="0">
            <a:noFill/>
          </a:ln>
        </p:spPr>
      </p:pic>
      <p:sp>
        <p:nvSpPr>
          <p:cNvPr id="1040" name="Content Placeholder 2"/>
          <p:cNvSpPr/>
          <p:nvPr/>
        </p:nvSpPr>
        <p:spPr>
          <a:xfrm>
            <a:off x="457200" y="1773360"/>
            <a:ext cx="2530440" cy="460836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Nitrogen is an essential part of proteins and nucleic acid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Earth’s atmosphere about 80% Nitrogen</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Molecular N so stable that in short supply in biological system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Bacteria play an important part intransferring nitrogen between abiotic and biotic system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ee p 317 Biozone for diagram of Carbon cycle</a:t>
            </a:r>
            <a:endParaRPr b="0" lang="en-US" sz="14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See page 315 Biozone for diagram of Carbon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rth:</a:t>
            </a:r>
            <a:br>
              <a:rPr sz="4000"/>
            </a:br>
            <a:r>
              <a:rPr b="0" lang="en-US" sz="4000" spc="-1" strike="noStrike">
                <a:solidFill>
                  <a:srgbClr val="000000"/>
                </a:solidFill>
                <a:latin typeface="Calibri"/>
              </a:rPr>
              <a:t>Matter does not come and go</a:t>
            </a:r>
            <a:endParaRPr b="0" lang="en-US" sz="4000" spc="-1" strike="noStrike">
              <a:solidFill>
                <a:srgbClr val="000000"/>
              </a:solidFill>
              <a:latin typeface="Calibri"/>
            </a:endParaRPr>
          </a:p>
        </p:txBody>
      </p:sp>
      <p:pic>
        <p:nvPicPr>
          <p:cNvPr id="959" name="Picture 3" descr=""/>
          <p:cNvPicPr/>
          <p:nvPr/>
        </p:nvPicPr>
        <p:blipFill>
          <a:blip r:embed="rId1"/>
          <a:stretch/>
        </p:blipFill>
        <p:spPr>
          <a:xfrm>
            <a:off x="2438280" y="1673280"/>
            <a:ext cx="4724640" cy="4689360"/>
          </a:xfrm>
          <a:prstGeom prst="rect">
            <a:avLst/>
          </a:prstGeom>
          <a:ln w="0">
            <a:noFill/>
          </a:ln>
        </p:spPr>
      </p:pic>
      <p:pic>
        <p:nvPicPr>
          <p:cNvPr id="960" name="Picture 5" descr=""/>
          <p:cNvPicPr/>
          <p:nvPr/>
        </p:nvPicPr>
        <p:blipFill>
          <a:blip r:embed="rId2"/>
          <a:stretch/>
        </p:blipFill>
        <p:spPr>
          <a:xfrm>
            <a:off x="6477120" y="4979880"/>
            <a:ext cx="2492280" cy="1667160"/>
          </a:xfrm>
          <a:prstGeom prst="rect">
            <a:avLst/>
          </a:prstGeom>
          <a:ln w="0">
            <a:noFill/>
          </a:ln>
        </p:spPr>
      </p:pic>
      <p:sp>
        <p:nvSpPr>
          <p:cNvPr id="961" name="Rectangle 6"/>
          <p:cNvSpPr/>
          <p:nvPr/>
        </p:nvSpPr>
        <p:spPr>
          <a:xfrm>
            <a:off x="532080" y="2986200"/>
            <a:ext cx="1637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Earth is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Clo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to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Title 1" descr=""/>
          <p:cNvPicPr/>
          <p:nvPr/>
        </p:nvPicPr>
        <p:blipFill>
          <a:blip r:embed="rId1"/>
          <a:stretch/>
        </p:blipFill>
        <p:spPr>
          <a:xfrm>
            <a:off x="189000" y="152280"/>
            <a:ext cx="8504280" cy="1262160"/>
          </a:xfrm>
          <a:prstGeom prst="rect">
            <a:avLst/>
          </a:prstGeom>
          <a:ln w="0">
            <a:noFill/>
          </a:ln>
        </p:spPr>
      </p:pic>
      <p:sp>
        <p:nvSpPr>
          <p:cNvPr id="1042" name=""/>
          <p:cNvSpPr txBox="1"/>
          <p:nvPr/>
        </p:nvSpPr>
        <p:spPr>
          <a:xfrm>
            <a:off x="250560" y="1844640"/>
            <a:ext cx="4033800" cy="468000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he atmosphere does not play a significant role in the movement of Phosphorus because P an P- based compounds are usually solids at the typical ranges of  temperature and pressure found on Earth</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 is required by organisms at greater amounts than Nitrogen.</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Of all the nutrients P is most likely to limit growth of plants.</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Cycles slowly through ecosystems released into soil and water by weathering of rocks.</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 dissolved in soil absorbed by plant roots into food chain.</a:t>
            </a:r>
            <a:endParaRPr b="0" lang="en-US" sz="1800" spc="-1" strike="noStrike">
              <a:solidFill>
                <a:srgbClr val="000000"/>
              </a:solidFill>
              <a:latin typeface="Corbel"/>
            </a:endParaRPr>
          </a:p>
        </p:txBody>
      </p:sp>
      <p:pic>
        <p:nvPicPr>
          <p:cNvPr id="1043" name="Picture 4" descr="phosphorus.gif"/>
          <p:cNvPicPr/>
          <p:nvPr/>
        </p:nvPicPr>
        <p:blipFill>
          <a:blip r:embed="rId2"/>
          <a:stretch/>
        </p:blipFill>
        <p:spPr>
          <a:xfrm>
            <a:off x="4500720" y="1844640"/>
            <a:ext cx="4243320" cy="40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Title 1" descr=""/>
          <p:cNvPicPr/>
          <p:nvPr/>
        </p:nvPicPr>
        <p:blipFill>
          <a:blip r:embed="rId1"/>
          <a:stretch/>
        </p:blipFill>
        <p:spPr>
          <a:xfrm>
            <a:off x="189000" y="152280"/>
            <a:ext cx="8504280" cy="1262160"/>
          </a:xfrm>
          <a:prstGeom prst="rect">
            <a:avLst/>
          </a:prstGeom>
          <a:ln w="0">
            <a:noFill/>
          </a:ln>
        </p:spPr>
      </p:pic>
      <p:pic>
        <p:nvPicPr>
          <p:cNvPr id="1045" name="Content Placeholder 3" descr="diag_water_cycle_1_-53945.gif"/>
          <p:cNvPicPr/>
          <p:nvPr/>
        </p:nvPicPr>
        <p:blipFill>
          <a:blip r:embed="rId2"/>
          <a:stretch/>
        </p:blipFill>
        <p:spPr>
          <a:xfrm>
            <a:off x="3276720" y="2565360"/>
            <a:ext cx="5338800" cy="3321000"/>
          </a:xfrm>
          <a:prstGeom prst="rect">
            <a:avLst/>
          </a:prstGeom>
          <a:ln w="0">
            <a:noFill/>
          </a:ln>
        </p:spPr>
      </p:pic>
      <p:sp>
        <p:nvSpPr>
          <p:cNvPr id="1046" name="Content Placeholder 2"/>
          <p:cNvSpPr/>
          <p:nvPr/>
        </p:nvSpPr>
        <p:spPr>
          <a:xfrm>
            <a:off x="250920" y="1844640"/>
            <a:ext cx="4033800" cy="468000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Water moves around by the following process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recipit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Evapo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ranspi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Surface run off</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nfilt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ercol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t is found in the following </a:t>
            </a: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	</a:t>
            </a:r>
            <a:r>
              <a:rPr b="0" lang="en-AU" sz="1800" spc="-1" strike="noStrike">
                <a:solidFill>
                  <a:srgbClr val="000000"/>
                </a:solidFill>
                <a:latin typeface="Corbel"/>
              </a:rPr>
              <a:t>stat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ce (at the pol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Water (in sea and river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Gas (clouds)</a:t>
            </a:r>
            <a:endParaRPr b="0" lang="en-US" sz="1800" spc="-1" strike="noStrike">
              <a:solidFill>
                <a:srgbClr val="000000"/>
              </a:solidFill>
              <a:latin typeface="Aria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p 319 Biozone for </a:t>
            </a:r>
            <a:endParaRPr b="0" lang="en-US" sz="1600" spc="-1" strike="noStrike">
              <a:solidFill>
                <a:srgbClr val="000000"/>
              </a:solidFill>
              <a:latin typeface="Aria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diagram of Carbon cycle</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9cdc"/>
                </a:solidFill>
                <a:latin typeface="Calibri"/>
              </a:rPr>
              <a:t>Cycles of Matter</a:t>
            </a:r>
            <a:endParaRPr b="0" lang="en-US" sz="4400" spc="-1" strike="noStrike">
              <a:solidFill>
                <a:srgbClr val="000000"/>
              </a:solidFill>
              <a:latin typeface="Calibri"/>
            </a:endParaRPr>
          </a:p>
        </p:txBody>
      </p:sp>
      <p:sp>
        <p:nvSpPr>
          <p:cNvPr id="963" name=""/>
          <p:cNvSpPr txBox="1"/>
          <p:nvPr/>
        </p:nvSpPr>
        <p:spPr>
          <a:xfrm>
            <a:off x="457200" y="1600200"/>
            <a:ext cx="8229600" cy="4525920"/>
          </a:xfrm>
          <a:prstGeom prst="rect">
            <a:avLst/>
          </a:prstGeom>
          <a:noFill/>
          <a:ln w="0">
            <a:noFill/>
          </a:ln>
        </p:spPr>
        <p:txBody>
          <a:bodyPr anchor="t">
            <a:normAutofit/>
          </a:bodyPr>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ke the one-way flow of energy, </a:t>
            </a:r>
            <a:r>
              <a:rPr b="0" lang="en-US" sz="3200" spc="-1" strike="noStrike">
                <a:solidFill>
                  <a:srgbClr val="b7dee8"/>
                </a:solidFill>
                <a:latin typeface="Calibri"/>
              </a:rPr>
              <a:t>matter</a:t>
            </a:r>
            <a:r>
              <a:rPr b="0" lang="en-US" sz="3200" spc="-1" strike="noStrike">
                <a:solidFill>
                  <a:srgbClr val="000000"/>
                </a:solidFill>
                <a:latin typeface="Calibri"/>
              </a:rPr>
              <a:t> is recycled within and between ecosystems.</a:t>
            </a:r>
            <a:endParaRPr b="0" lang="en-US" sz="32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ycles are the water cycle, Nutrient Cycle, Carbon Cycle, nitrogen cycle and phosphorus cy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63">
                                            <p:txEl>
                                              <p:pRg st="1" end="1"/>
                                            </p:txEl>
                                          </p:spTgt>
                                        </p:tgtEl>
                                        <p:attrNameLst>
                                          <p:attrName>style.visibility</p:attrName>
                                        </p:attrNameLst>
                                      </p:cBhvr>
                                      <p:to>
                                        <p:strVal val="visible"/>
                                      </p:to>
                                    </p:set>
                                    <p:animEffect filter="checkerboard(across)" transition="in">
                                      <p:cBhvr additive="repl">
                                        <p:cTn id="7" dur="500"/>
                                        <p:tgtEl>
                                          <p:spTgt spid="9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Title 1" descr=""/>
          <p:cNvPicPr/>
          <p:nvPr/>
        </p:nvPicPr>
        <p:blipFill>
          <a:blip r:embed="rId1"/>
          <a:stretch/>
        </p:blipFill>
        <p:spPr>
          <a:xfrm>
            <a:off x="219240" y="-6480"/>
            <a:ext cx="8474040" cy="1420920"/>
          </a:xfrm>
          <a:prstGeom prst="rect">
            <a:avLst/>
          </a:prstGeom>
          <a:ln w="0">
            <a:noFill/>
          </a:ln>
        </p:spPr>
      </p:pic>
      <p:sp>
        <p:nvSpPr>
          <p:cNvPr id="96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Matter is what all things are made of.  By matter we mean: elements (carbon, nitrogen, oxygen) or molecules (wate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Matter is neither created nor destroyed. All matter cycles through the earth cycl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Title 1" descr=""/>
          <p:cNvPicPr/>
          <p:nvPr/>
        </p:nvPicPr>
        <p:blipFill>
          <a:blip r:embed="rId1"/>
          <a:stretch/>
        </p:blipFill>
        <p:spPr>
          <a:xfrm>
            <a:off x="189000" y="-79200"/>
            <a:ext cx="8613720" cy="1493640"/>
          </a:xfrm>
          <a:prstGeom prst="rect">
            <a:avLst/>
          </a:prstGeom>
          <a:ln w="0">
            <a:noFill/>
          </a:ln>
        </p:spPr>
      </p:pic>
      <p:sp>
        <p:nvSpPr>
          <p:cNvPr id="967"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the movement (or cycling) of matter through a system.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we can subdivide the Earth system into the atmosphere, hydrosphere, lithosphere, and biosphere.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Biogeochemical cycles are part of the larger cycles that describe the functioning of the whole Earth (not just the surface parts).</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67">
                                            <p:txEl>
                                              <p:pRg st="2" end="2"/>
                                            </p:txEl>
                                          </p:spTgt>
                                        </p:tgtEl>
                                        <p:attrNameLst>
                                          <p:attrName>style.visibility</p:attrName>
                                        </p:attrNameLst>
                                      </p:cBhvr>
                                      <p:to>
                                        <p:strVal val="visible"/>
                                      </p:to>
                                    </p:set>
                                    <p:animEffect filter="checkerboard(across)" transition="in">
                                      <p:cBhvr additive="repl">
                                        <p:cTn id="14" dur="500"/>
                                        <p:tgtEl>
                                          <p:spTgt spid="967">
                                            <p:txEl>
                                              <p:pRg st="2" end="2"/>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67">
                                            <p:txEl>
                                              <p:pRg st="4" end="4"/>
                                            </p:txEl>
                                          </p:spTgt>
                                        </p:tgtEl>
                                        <p:attrNameLst>
                                          <p:attrName>style.visibility</p:attrName>
                                        </p:attrNameLst>
                                      </p:cBhvr>
                                      <p:to>
                                        <p:strVal val="visible"/>
                                      </p:to>
                                    </p:set>
                                    <p:animEffect filter="checkerboard(across)" transition="in">
                                      <p:cBhvr additive="repl">
                                        <p:cTn id="19" dur="500"/>
                                        <p:tgtEl>
                                          <p:spTgt spid="9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Rectangle 2" descr=""/>
          <p:cNvPicPr/>
          <p:nvPr/>
        </p:nvPicPr>
        <p:blipFill>
          <a:blip r:embed="rId1"/>
          <a:stretch/>
        </p:blipFill>
        <p:spPr>
          <a:xfrm>
            <a:off x="49320" y="365040"/>
            <a:ext cx="7710480" cy="860400"/>
          </a:xfrm>
          <a:prstGeom prst="rect">
            <a:avLst/>
          </a:prstGeom>
          <a:ln w="0">
            <a:noFill/>
          </a:ln>
        </p:spPr>
      </p:pic>
      <p:sp>
        <p:nvSpPr>
          <p:cNvPr id="969" name=""/>
          <p:cNvSpPr txBox="1"/>
          <p:nvPr/>
        </p:nvSpPr>
        <p:spPr>
          <a:xfrm>
            <a:off x="457200" y="1628280"/>
            <a:ext cx="4619520" cy="4753080"/>
          </a:xfrm>
          <a:prstGeom prst="rect">
            <a:avLst/>
          </a:prstGeom>
          <a:noFill/>
          <a:ln w="0">
            <a:noFill/>
          </a:ln>
        </p:spPr>
        <p:txBody>
          <a:bodyPr lIns="54720" tIns="91440" anchor="t">
            <a:normAutofit fontScale="89000"/>
          </a:bodyPr>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Hydrosphere</a:t>
            </a:r>
            <a:r>
              <a:rPr b="0" lang="en-US" sz="3200" spc="-1" strike="noStrike">
                <a:solidFill>
                  <a:srgbClr val="000000"/>
                </a:solidFill>
                <a:latin typeface="Corbel"/>
              </a:rPr>
              <a:t>- water layer. Liquid, Ice, Vapor.</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Lithosphere</a:t>
            </a:r>
            <a:r>
              <a:rPr b="0" lang="en-US" sz="3200" spc="-1" strike="noStrike">
                <a:solidFill>
                  <a:srgbClr val="000000"/>
                </a:solidFill>
                <a:latin typeface="Corbel"/>
              </a:rPr>
              <a:t>- Earth’s crust and upper mantle.</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Fossil fuels, minerals, soil chemicals.</a:t>
            </a:r>
            <a:endParaRPr b="0" lang="en-US" sz="3200" spc="-1" strike="noStrike">
              <a:solidFill>
                <a:srgbClr val="000000"/>
              </a:solidFill>
              <a:latin typeface="Corbel"/>
            </a:endParaRPr>
          </a:p>
          <a:p>
            <a:pPr marL="542160" indent="-542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Biosphere</a:t>
            </a:r>
            <a:r>
              <a:rPr b="0" lang="en-US" sz="3200" spc="-1" strike="noStrike">
                <a:solidFill>
                  <a:srgbClr val="000000"/>
                </a:solidFill>
                <a:latin typeface="Corbel"/>
              </a:rPr>
              <a:t>- biotic &amp; </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iotic factors. </a:t>
            </a:r>
            <a:endParaRPr b="0" lang="en-US" sz="3200" spc="-1" strike="noStrike">
              <a:solidFill>
                <a:srgbClr val="000000"/>
              </a:solidFill>
              <a:latin typeface="Corbel"/>
            </a:endParaRPr>
          </a:p>
        </p:txBody>
      </p:sp>
      <p:pic>
        <p:nvPicPr>
          <p:cNvPr id="970" name="Picture 4" descr="images.jpg"/>
          <p:cNvPicPr/>
          <p:nvPr/>
        </p:nvPicPr>
        <p:blipFill>
          <a:blip r:embed="rId2"/>
          <a:stretch/>
        </p:blipFill>
        <p:spPr>
          <a:xfrm>
            <a:off x="5076720" y="2565360"/>
            <a:ext cx="3303720" cy="330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0" y="1142640"/>
            <a:ext cx="8686800" cy="5715000"/>
          </a:xfrm>
          <a:prstGeom prst="rect">
            <a:avLst/>
          </a:prstGeom>
          <a:noFill/>
          <a:ln w="0">
            <a:noFill/>
          </a:ln>
        </p:spPr>
        <p:txBody>
          <a:bodyPr lIns="54720" tIns="91440" anchor="t">
            <a:normAutofit fontScale="98000"/>
          </a:bodyPr>
          <a:p>
            <a:pPr marL="429120" indent="-312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CA" sz="2400" spc="-1" strike="noStrike">
                <a:solidFill>
                  <a:srgbClr val="ff0000"/>
                </a:solidFill>
                <a:latin typeface="Times New Roman"/>
                <a:ea typeface="Times New Roman"/>
              </a:rPr>
              <a:t>BIO:</a:t>
            </a:r>
            <a:r>
              <a:rPr b="0" lang="en-CA" sz="2400" spc="-1" strike="noStrike">
                <a:solidFill>
                  <a:srgbClr val="ff0000"/>
                </a:solidFill>
                <a:latin typeface="Times New Roman"/>
                <a:ea typeface="Times New Roman"/>
              </a:rPr>
              <a:t> </a:t>
            </a:r>
            <a:r>
              <a:rPr b="0" lang="en-CA" sz="2400" spc="-1" strike="noStrike">
                <a:solidFill>
                  <a:srgbClr val="000000"/>
                </a:solidFill>
                <a:latin typeface="Times New Roman"/>
                <a:ea typeface="Times New Roman"/>
              </a:rPr>
              <a:t>Biology. Life. Living things. These cycles all play a role in the lives of living things. The cycles might limit the organisms of Earth or they might happen along side, changing the environment. </a:t>
            </a:r>
            <a:br>
              <a:rPr sz="2400"/>
            </a:br>
            <a:br>
              <a:rPr sz="2400"/>
            </a:br>
            <a:r>
              <a:rPr b="1" lang="en-CA" sz="2400" spc="-1" strike="noStrike">
                <a:solidFill>
                  <a:srgbClr val="ff0000"/>
                </a:solidFill>
                <a:latin typeface="Times New Roman"/>
                <a:ea typeface="Times New Roman"/>
              </a:rPr>
              <a:t>GEO</a:t>
            </a:r>
            <a:r>
              <a:rPr b="1" lang="en-CA" sz="2400" spc="-1" strike="noStrike">
                <a:solidFill>
                  <a:srgbClr val="000000"/>
                </a:solidFill>
                <a:latin typeface="Times New Roman"/>
                <a:ea typeface="Times New Roman"/>
              </a:rPr>
              <a:t>:</a:t>
            </a:r>
            <a:r>
              <a:rPr b="0" lang="en-CA" sz="2400" spc="-1" strike="noStrike">
                <a:solidFill>
                  <a:srgbClr val="000000"/>
                </a:solidFill>
                <a:latin typeface="Times New Roman"/>
                <a:ea typeface="Times New Roman"/>
              </a:rPr>
              <a:t> Earth. Rocks. Land. This refers to the non-living processes at work. Oxygen cycles through many systems. It's in you and plants for the 'bio' part of the cycle. Oxygen might also wind up in rocks… The 'geo' part of its cycle. </a:t>
            </a:r>
            <a:br>
              <a:rPr sz="2400"/>
            </a:br>
            <a:br>
              <a:rPr sz="2400"/>
            </a:br>
            <a:r>
              <a:rPr b="1" lang="en-CA" sz="2400" spc="-1" strike="noStrike">
                <a:solidFill>
                  <a:srgbClr val="ff0000"/>
                </a:solidFill>
                <a:latin typeface="Times New Roman"/>
                <a:ea typeface="Times New Roman"/>
              </a:rPr>
              <a:t>CHEMICAL</a:t>
            </a:r>
            <a:r>
              <a:rPr b="1" lang="en-CA" sz="2400" spc="-1" strike="noStrike">
                <a:solidFill>
                  <a:srgbClr val="000000"/>
                </a:solidFill>
                <a:latin typeface="Times New Roman"/>
                <a:ea typeface="Times New Roman"/>
              </a:rPr>
              <a:t>:</a:t>
            </a:r>
            <a:r>
              <a:rPr b="0" lang="en-CA" sz="2400" spc="-1" strike="noStrike">
                <a:solidFill>
                  <a:srgbClr val="000000"/>
                </a:solidFill>
                <a:latin typeface="Times New Roman"/>
                <a:ea typeface="Times New Roman"/>
              </a:rPr>
              <a:t> Molecules. Reactions. Atoms. All cycles include these small pathways. Complete molecules are not always passed from one point to the next. Sometimes chemical reactions take place that changes the molecules and locations of the atoms. Think about oxidation as an example of the 'chemical' part of these pathways. </a:t>
            </a:r>
            <a:br>
              <a:rPr sz="2400"/>
            </a:br>
            <a:br>
              <a:rPr sz="2400"/>
            </a:br>
            <a:r>
              <a:rPr b="0" lang="en-CA" sz="2400" spc="-1" strike="noStrike">
                <a:solidFill>
                  <a:srgbClr val="60b5cc"/>
                </a:solidFill>
                <a:latin typeface="Corbel"/>
              </a:rPr>
              <a:t>To sum it up, these pathways are all made of different biological, geological, and chemical processes that help make the world go 'round and life exist on Earth. </a:t>
            </a:r>
            <a:br>
              <a:rPr sz="1600"/>
            </a:br>
            <a:endParaRPr b="0" lang="en-US" sz="2400" spc="-1" strike="noStrike">
              <a:solidFill>
                <a:srgbClr val="000000"/>
              </a:solidFill>
              <a:latin typeface="Corbel"/>
            </a:endParaRPr>
          </a:p>
        </p:txBody>
      </p:sp>
      <p:pic>
        <p:nvPicPr>
          <p:cNvPr id="972" name="Rectangle 4" descr=""/>
          <p:cNvPicPr/>
          <p:nvPr/>
        </p:nvPicPr>
        <p:blipFill>
          <a:blip r:embed="rId1"/>
          <a:stretch/>
        </p:blipFill>
        <p:spPr>
          <a:xfrm>
            <a:off x="189000" y="152280"/>
            <a:ext cx="8504280" cy="1262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971">
                                            <p:txEl>
                                              <p:pRg st="0" end="0"/>
                                            </p:txEl>
                                          </p:spTgt>
                                        </p:tgtEl>
                                        <p:attrNameLst>
                                          <p:attrName>style.visibility</p:attrName>
                                        </p:attrNameLst>
                                      </p:cBhvr>
                                      <p:to>
                                        <p:strVal val="visible"/>
                                      </p:to>
                                    </p:set>
                                    <p:animEffect filter="wipe(down)" transition="in">
                                      <p:cBhvr additive="repl">
                                        <p:cTn id="26" dur="500"/>
                                        <p:tgtEl>
                                          <p:spTgt spid="9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5"/>
          <p:cNvSpPr/>
          <p:nvPr/>
        </p:nvSpPr>
        <p:spPr>
          <a:xfrm rot="2858400">
            <a:off x="5930640" y="2544480"/>
            <a:ext cx="3854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eneralized Biogeochemical Cycle</a:t>
            </a:r>
            <a:br>
              <a:rPr sz="1200"/>
            </a:br>
            <a:br>
              <a:rPr sz="1200"/>
            </a:br>
            <a:endParaRPr b="0" lang="en-US" sz="1800" spc="-1" strike="noStrike">
              <a:solidFill>
                <a:srgbClr val="000000"/>
              </a:solidFill>
              <a:latin typeface="Arial"/>
            </a:endParaRPr>
          </a:p>
        </p:txBody>
      </p:sp>
      <p:pic>
        <p:nvPicPr>
          <p:cNvPr id="974" name="Picture 4" descr="http://www.colorado.edu/GeolSci/courses/GEOL1070/chap04/GR000000.JPG"/>
          <p:cNvPicPr/>
          <p:nvPr/>
        </p:nvPicPr>
        <p:blipFill>
          <a:blip r:embed="rId1"/>
          <a:stretch/>
        </p:blipFill>
        <p:spPr>
          <a:xfrm>
            <a:off x="0" y="0"/>
            <a:ext cx="5929200" cy="6734160"/>
          </a:xfrm>
          <a:prstGeom prst="rect">
            <a:avLst/>
          </a:prstGeom>
          <a:ln w="0">
            <a:noFill/>
          </a:ln>
        </p:spPr>
      </p:pic>
      <p:sp>
        <p:nvSpPr>
          <p:cNvPr id="975" name="Rectangle 6"/>
          <p:cNvSpPr/>
          <p:nvPr/>
        </p:nvSpPr>
        <p:spPr>
          <a:xfrm>
            <a:off x="3202200" y="610920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6" name="Rectangle 2" descr=""/>
          <p:cNvPicPr/>
          <p:nvPr/>
        </p:nvPicPr>
        <p:blipFill>
          <a:blip r:embed="rId1"/>
          <a:stretch/>
        </p:blipFill>
        <p:spPr>
          <a:xfrm>
            <a:off x="444600" y="85680"/>
            <a:ext cx="8022960" cy="1425600"/>
          </a:xfrm>
          <a:prstGeom prst="rect">
            <a:avLst/>
          </a:prstGeom>
          <a:ln w="0">
            <a:noFill/>
          </a:ln>
        </p:spPr>
      </p:pic>
      <p:grpSp>
        <p:nvGrpSpPr>
          <p:cNvPr id="977" name="Group 19"/>
          <p:cNvGrpSpPr/>
          <p:nvPr/>
        </p:nvGrpSpPr>
        <p:grpSpPr>
          <a:xfrm>
            <a:off x="8229600" y="2362320"/>
            <a:ext cx="762120" cy="1600200"/>
            <a:chOff x="8229600" y="2362320"/>
            <a:chExt cx="762120" cy="1600200"/>
          </a:xfrm>
        </p:grpSpPr>
        <p:sp>
          <p:nvSpPr>
            <p:cNvPr id="978" name="Rectangle 20"/>
            <p:cNvSpPr/>
            <p:nvPr/>
          </p:nvSpPr>
          <p:spPr>
            <a:xfrm>
              <a:off x="8534520" y="3124440"/>
              <a:ext cx="15228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AutoShape 21"/>
            <p:cNvSpPr/>
            <p:nvPr/>
          </p:nvSpPr>
          <p:spPr>
            <a:xfrm>
              <a:off x="8229600" y="2362320"/>
              <a:ext cx="76212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0" name="Group 33"/>
          <p:cNvGrpSpPr/>
          <p:nvPr/>
        </p:nvGrpSpPr>
        <p:grpSpPr>
          <a:xfrm>
            <a:off x="0" y="1628640"/>
            <a:ext cx="9151920" cy="4953240"/>
            <a:chOff x="0" y="1628640"/>
            <a:chExt cx="9151920" cy="4953240"/>
          </a:xfrm>
        </p:grpSpPr>
        <p:sp>
          <p:nvSpPr>
            <p:cNvPr id="981" name="AutoShape 5"/>
            <p:cNvSpPr/>
            <p:nvPr/>
          </p:nvSpPr>
          <p:spPr>
            <a:xfrm>
              <a:off x="2209680" y="1628640"/>
              <a:ext cx="1828800" cy="1066680"/>
            </a:xfrm>
            <a:prstGeom prst="cloudCallout">
              <a:avLst>
                <a:gd name="adj1" fmla="val -46875"/>
                <a:gd name="adj2" fmla="val 186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32"/>
            <p:cNvGrpSpPr/>
            <p:nvPr/>
          </p:nvGrpSpPr>
          <p:grpSpPr>
            <a:xfrm>
              <a:off x="0" y="1780920"/>
              <a:ext cx="9151920" cy="4800960"/>
              <a:chOff x="0" y="1780920"/>
              <a:chExt cx="9151920" cy="4800960"/>
            </a:xfrm>
          </p:grpSpPr>
          <p:sp>
            <p:nvSpPr>
              <p:cNvPr id="983" name="Freeform 3"/>
              <p:cNvSpPr/>
              <p:nvPr/>
            </p:nvSpPr>
            <p:spPr>
              <a:xfrm>
                <a:off x="1218960" y="3774960"/>
                <a:ext cx="7932960" cy="2806920"/>
              </a:xfrm>
              <a:custGeom>
                <a:avLst/>
                <a:gdLst>
                  <a:gd name="textAreaLeft" fmla="*/ 0 w 7932960"/>
                  <a:gd name="textAreaRight" fmla="*/ 7933320 w 7932960"/>
                  <a:gd name="textAreaTop" fmla="*/ 0 h 2806920"/>
                  <a:gd name="textAreaBottom" fmla="*/ 2807280 h 2806920"/>
                </a:gdLst>
                <a:ahLst/>
                <a:rect l="textAreaLeft" t="textAreaTop" r="textAreaRight" b="textAreaBottom"/>
                <a:pathLst>
                  <a:path w="4997" h="1768">
                    <a:moveTo>
                      <a:pt x="720" y="1576"/>
                    </a:moveTo>
                    <a:lnTo>
                      <a:pt x="2304" y="1336"/>
                    </a:lnTo>
                    <a:lnTo>
                      <a:pt x="2928" y="520"/>
                    </a:lnTo>
                    <a:lnTo>
                      <a:pt x="4560" y="88"/>
                    </a:lnTo>
                    <a:cubicBezTo>
                      <a:pt x="4996" y="136"/>
                      <a:pt x="4939" y="0"/>
                      <a:pt x="4997" y="149"/>
                    </a:cubicBezTo>
                    <a:lnTo>
                      <a:pt x="4992" y="1768"/>
                    </a:lnTo>
                    <a:lnTo>
                      <a:pt x="0" y="1768"/>
                    </a:lnTo>
                    <a:lnTo>
                      <a:pt x="720" y="1576"/>
                    </a:lnTo>
                    <a:close/>
                  </a:path>
                </a:pathLst>
              </a:custGeom>
              <a:solidFill>
                <a:srgbClr val="d2a9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4"/>
              <p:cNvSpPr/>
              <p:nvPr/>
            </p:nvSpPr>
            <p:spPr>
              <a:xfrm>
                <a:off x="0" y="5133960"/>
                <a:ext cx="5486400" cy="1447920"/>
              </a:xfrm>
              <a:custGeom>
                <a:avLst/>
                <a:gdLst>
                  <a:gd name="textAreaLeft" fmla="*/ 0 w 5486400"/>
                  <a:gd name="textAreaRight" fmla="*/ 5486760 w 5486400"/>
                  <a:gd name="textAreaTop" fmla="*/ 0 h 1447920"/>
                  <a:gd name="textAreaBottom" fmla="*/ 1448280 h 1447920"/>
                </a:gdLst>
                <a:ahLst/>
                <a:rect l="textAreaLeft" t="textAreaTop" r="textAreaRight" b="textAreaBottom"/>
                <a:pathLst>
                  <a:path w="3456" h="912">
                    <a:moveTo>
                      <a:pt x="3456" y="0"/>
                    </a:moveTo>
                    <a:lnTo>
                      <a:pt x="3072" y="480"/>
                    </a:lnTo>
                    <a:lnTo>
                      <a:pt x="768" y="912"/>
                    </a:lnTo>
                    <a:lnTo>
                      <a:pt x="0" y="912"/>
                    </a:lnTo>
                    <a:lnTo>
                      <a:pt x="0" y="48"/>
                    </a:lnTo>
                    <a:lnTo>
                      <a:pt x="3456" y="0"/>
                    </a:lnTo>
                    <a:close/>
                  </a:path>
                </a:pathLst>
              </a:custGeom>
              <a:solidFill>
                <a:srgbClr val="f0ad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AutoShape 6"/>
              <p:cNvSpPr/>
              <p:nvPr/>
            </p:nvSpPr>
            <p:spPr>
              <a:xfrm>
                <a:off x="685800" y="1780920"/>
                <a:ext cx="1828800" cy="1066680"/>
              </a:xfrm>
              <a:prstGeom prst="cloudCallout">
                <a:avLst>
                  <a:gd name="adj1" fmla="val -46875"/>
                  <a:gd name="adj2" fmla="val 186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6" name="Group 7"/>
              <p:cNvGrpSpPr/>
              <p:nvPr/>
            </p:nvGrpSpPr>
            <p:grpSpPr>
              <a:xfrm>
                <a:off x="7010640" y="2619000"/>
                <a:ext cx="761760" cy="1600200"/>
                <a:chOff x="7010640" y="2619000"/>
                <a:chExt cx="761760" cy="1600200"/>
              </a:xfrm>
            </p:grpSpPr>
            <p:sp>
              <p:nvSpPr>
                <p:cNvPr id="987" name="Rectangle 8"/>
                <p:cNvSpPr/>
                <p:nvPr/>
              </p:nvSpPr>
              <p:spPr>
                <a:xfrm>
                  <a:off x="7315200" y="338112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AutoShape 9"/>
                <p:cNvSpPr/>
                <p:nvPr/>
              </p:nvSpPr>
              <p:spPr>
                <a:xfrm>
                  <a:off x="7010640" y="261900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9" name="Group 10"/>
              <p:cNvGrpSpPr/>
              <p:nvPr/>
            </p:nvGrpSpPr>
            <p:grpSpPr>
              <a:xfrm>
                <a:off x="7315200" y="2542680"/>
                <a:ext cx="761760" cy="1600200"/>
                <a:chOff x="7315200" y="2542680"/>
                <a:chExt cx="761760" cy="1600200"/>
              </a:xfrm>
            </p:grpSpPr>
            <p:sp>
              <p:nvSpPr>
                <p:cNvPr id="990" name="Rectangle 11"/>
                <p:cNvSpPr/>
                <p:nvPr/>
              </p:nvSpPr>
              <p:spPr>
                <a:xfrm>
                  <a:off x="7619760" y="330480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2"/>
                <p:cNvSpPr/>
                <p:nvPr/>
              </p:nvSpPr>
              <p:spPr>
                <a:xfrm>
                  <a:off x="7315200" y="254268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2" name="Group 13"/>
              <p:cNvGrpSpPr/>
              <p:nvPr/>
            </p:nvGrpSpPr>
            <p:grpSpPr>
              <a:xfrm>
                <a:off x="7620120" y="2466720"/>
                <a:ext cx="761760" cy="1600200"/>
                <a:chOff x="7620120" y="2466720"/>
                <a:chExt cx="761760" cy="1600200"/>
              </a:xfrm>
            </p:grpSpPr>
            <p:sp>
              <p:nvSpPr>
                <p:cNvPr id="993" name="Rectangle 14"/>
                <p:cNvSpPr/>
                <p:nvPr/>
              </p:nvSpPr>
              <p:spPr>
                <a:xfrm>
                  <a:off x="7924680" y="322884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15"/>
                <p:cNvSpPr/>
                <p:nvPr/>
              </p:nvSpPr>
              <p:spPr>
                <a:xfrm>
                  <a:off x="7620120" y="246672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Group 16"/>
              <p:cNvGrpSpPr/>
              <p:nvPr/>
            </p:nvGrpSpPr>
            <p:grpSpPr>
              <a:xfrm>
                <a:off x="7925040" y="2390400"/>
                <a:ext cx="761760" cy="1600200"/>
                <a:chOff x="7925040" y="2390400"/>
                <a:chExt cx="761760" cy="1600200"/>
              </a:xfrm>
            </p:grpSpPr>
            <p:sp>
              <p:nvSpPr>
                <p:cNvPr id="996" name="Rectangle 17"/>
                <p:cNvSpPr/>
                <p:nvPr/>
              </p:nvSpPr>
              <p:spPr>
                <a:xfrm>
                  <a:off x="8229600" y="315252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18"/>
                <p:cNvSpPr/>
                <p:nvPr/>
              </p:nvSpPr>
              <p:spPr>
                <a:xfrm>
                  <a:off x="7925040" y="239040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Rectangle 22"/>
              <p:cNvSpPr/>
              <p:nvPr/>
            </p:nvSpPr>
            <p:spPr>
              <a:xfrm>
                <a:off x="4362480" y="1780920"/>
                <a:ext cx="133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mosphere</a:t>
                </a:r>
                <a:endParaRPr b="0" lang="en-US" sz="1800" spc="-1" strike="noStrike">
                  <a:solidFill>
                    <a:srgbClr val="000000"/>
                  </a:solidFill>
                  <a:latin typeface="Arial"/>
                </a:endParaRPr>
              </a:p>
            </p:txBody>
          </p:sp>
          <p:sp>
            <p:nvSpPr>
              <p:cNvPr id="999" name="Rectangle 23"/>
              <p:cNvSpPr/>
              <p:nvPr/>
            </p:nvSpPr>
            <p:spPr>
              <a:xfrm>
                <a:off x="881640" y="559116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rosphere</a:t>
                </a:r>
                <a:endParaRPr b="0" lang="en-US" sz="1800" spc="-1" strike="noStrike">
                  <a:solidFill>
                    <a:srgbClr val="000000"/>
                  </a:solidFill>
                  <a:latin typeface="Arial"/>
                </a:endParaRPr>
              </a:p>
            </p:txBody>
          </p:sp>
          <p:sp>
            <p:nvSpPr>
              <p:cNvPr id="1000" name="Rectangle 24"/>
              <p:cNvSpPr/>
              <p:nvPr/>
            </p:nvSpPr>
            <p:spPr>
              <a:xfrm>
                <a:off x="7027920" y="536256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thosphere</a:t>
                </a:r>
                <a:endParaRPr b="0" lang="en-US" sz="1800" spc="-1" strike="noStrike">
                  <a:solidFill>
                    <a:srgbClr val="000000"/>
                  </a:solidFill>
                  <a:latin typeface="Arial"/>
                </a:endParaRPr>
              </a:p>
            </p:txBody>
          </p:sp>
          <p:sp>
            <p:nvSpPr>
              <p:cNvPr id="1001" name="Rectangle 25"/>
              <p:cNvSpPr/>
              <p:nvPr/>
            </p:nvSpPr>
            <p:spPr>
              <a:xfrm>
                <a:off x="7383240" y="277164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iosphere</a:t>
                </a:r>
                <a:endParaRPr b="0" lang="en-US" sz="1800" spc="-1" strike="noStrike">
                  <a:solidFill>
                    <a:srgbClr val="000000"/>
                  </a:solidFill>
                  <a:latin typeface="Arial"/>
                </a:endParaRPr>
              </a:p>
            </p:txBody>
          </p:sp>
          <p:sp>
            <p:nvSpPr>
              <p:cNvPr id="1002" name="AutoShape 26"/>
              <p:cNvSpPr/>
              <p:nvPr/>
            </p:nvSpPr>
            <p:spPr>
              <a:xfrm>
                <a:off x="3124080" y="5362560"/>
                <a:ext cx="1066680" cy="228600"/>
              </a:xfrm>
              <a:prstGeom prst="cloudCallout">
                <a:avLst>
                  <a:gd name="adj1" fmla="val 7439"/>
                  <a:gd name="adj2" fmla="val 13194"/>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27"/>
              <p:cNvSpPr/>
              <p:nvPr/>
            </p:nvSpPr>
            <p:spPr>
              <a:xfrm flipV="1">
                <a:off x="2514600" y="3381120"/>
                <a:ext cx="4800600" cy="236232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28"/>
              <p:cNvSpPr/>
              <p:nvPr/>
            </p:nvSpPr>
            <p:spPr>
              <a:xfrm>
                <a:off x="5105520" y="2390400"/>
                <a:ext cx="1904760" cy="289584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Line 29"/>
              <p:cNvSpPr/>
              <p:nvPr/>
            </p:nvSpPr>
            <p:spPr>
              <a:xfrm flipH="1">
                <a:off x="2286000" y="2161800"/>
                <a:ext cx="2133360" cy="335304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Line 30"/>
              <p:cNvSpPr/>
              <p:nvPr/>
            </p:nvSpPr>
            <p:spPr>
              <a:xfrm flipH="1">
                <a:off x="7620120" y="3228840"/>
                <a:ext cx="304560" cy="213372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Line 31"/>
              <p:cNvSpPr/>
              <p:nvPr/>
            </p:nvSpPr>
            <p:spPr>
              <a:xfrm>
                <a:off x="5943600" y="2085480"/>
                <a:ext cx="1600200" cy="68580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Line 32"/>
              <p:cNvSpPr/>
              <p:nvPr/>
            </p:nvSpPr>
            <p:spPr>
              <a:xfrm flipV="1">
                <a:off x="2666880" y="5590800"/>
                <a:ext cx="3962520" cy="22860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01:53:09Z</dcterms:created>
  <dc:creator>Lyn Clarkson</dc:creator>
  <dc:description/>
  <dc:language>en-US</dc:language>
  <cp:lastModifiedBy>luponed</cp:lastModifiedBy>
  <dcterms:modified xsi:type="dcterms:W3CDTF">2010-09-14T05:49:59Z</dcterms:modified>
  <cp:revision>20</cp:revision>
  <dc:subject/>
  <dc:title>CYCLING OF MATTER</dc:title>
</cp:coreProperties>
</file>