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png" ContentType="image/png"/>
  <Override PartName="/ppt/media/image3.png" ContentType="image/png"/>
  <Override PartName="/ppt/media/image17.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2"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5"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6"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8206B1-3D9F-4EEF-8EE9-67BB8D468FBD}"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5E34C-14AF-4F37-A1AA-CC119D75F3B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BB932-ED43-46B1-B13C-47DD5E8B8DEB}"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8EEA9-E19C-4BD4-A044-EE25FB117D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F12FB-21F3-4D89-9BFA-7FF013B134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08716-04C6-447B-92C8-98EBA492F4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ve them some visuals – here’s the whole ball of wax – followed by the different piece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ED8D7-A765-4499-A120-0B5C1226E54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4881E3-26E2-4003-B8B7-3C39E4675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E1F31-01BD-4BD9-A412-D25EFABB5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A20E59-CBDC-4786-9AAF-F0D86B18481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B20DAB-AF9A-4222-B0A7-5466CF4229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A3F8F0-2EF1-4023-B83F-0AABCD1CEB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04CDEE0-C7BF-46E1-B3C6-824E893DD5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DB1A22-4DCA-4A45-ADAD-E032393F1B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28E5F8-CFFA-461D-9776-7C6CB466526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10D977-DC5D-4444-9495-DB5305D6D3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AF07E7-6853-4DFA-8230-F744B305B3B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E37734-3E61-4246-BAC5-F8891C16F60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AA99455-3AE2-4210-A946-DE2244B8D6B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54DD67-6330-4A69-9470-391747C7F3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0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64C9D2E-4E01-4F69-9550-2806D42CF34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F0D6C95-16BC-4635-A172-1EDCC31C5ED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932A9B-8C13-470F-983D-272FFF982D5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334A867-B09C-420D-B2BC-C51FE81769F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4FB2649-861C-4331-81DB-0A0D102F9F2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5025AE3-C522-4804-97CD-85C0D34B410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5F82503-B0C4-4817-95FF-D82091EEAF9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143CF7E-4043-482E-84B2-DEF656E7D44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0460FF0-D634-4EFF-BF71-147857879F2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01BE24D-32BC-46D0-949A-5D44088D2E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2C1708-4E3E-431B-A759-D4A814044D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5AB3FBC-37CE-40A2-98E7-C0490015DBC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AB36A2E-7318-4F8A-BCF9-EC5534A5D8A8}"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5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4E005C4-F768-4F94-B089-39256ADCF35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692A457-7AEB-40C7-8E82-E5D372C0850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8094219-3A33-4B0B-B4F1-41E0C434A99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A44106C-9CA1-42A1-896E-0A695A7C9B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5337A46-1961-4092-B567-817C08F65C4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306F302-EEB9-4DAC-A605-E698B7F1BB8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A81F4ED-32D1-4D6B-932D-DE1D96A6E12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3461512-B1DF-4B8C-8AB1-956B538EFE8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40049-51E7-494C-ABFF-18596A8455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8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40F4B52-50BD-4413-AD0C-489F595883B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8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51F1724-795A-44B8-ABE1-E37AB019E1B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8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0A91164-02B8-4034-BFFD-5D570D86203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C41E7C-6325-462C-BC65-B412A01C627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F53C54-0C7E-4B19-8022-1A1F045500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931FA8A-9A35-40A3-8C0F-ED200F131A7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6C9363-17E8-49CC-869C-69E5C2937BB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246E91A-CE50-4D25-ACBC-028B6A71F1A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F3A0762-EEC4-4D45-82C5-6A1A6290E80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5C327C-3BAE-4C6E-82A1-9DDAD9BC09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23CCFC-73EC-4F51-BB05-D963D86D7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9D05D26-1597-4DE5-AC25-E6608FCA4C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2C9585-67B3-459D-97BD-CE1897B64B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CB080C-E3DA-4174-A7F7-B683C85841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AEFD34E-9B25-43D1-8AD0-A1F7909DEB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FB4A373-958F-4AF5-BA3B-B1608984C0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81BEE4E-3483-4EE1-8937-FFA8FD34966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143F12F-1121-4C5B-8C79-A9ACE30AABA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BCFF57-DF45-448D-BB92-35CFC9A77C0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DDA35A3-BC69-4CAA-8E3E-80EE01FEB94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5C49B8-B856-4E4F-9B8B-AAA0E9C5115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CD39A7-2D13-4F26-A1E1-6DB258F0C8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61674CB-D058-41B3-941E-A435399A2DC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DD2656-0E52-4A2D-A061-F0F63CAEDB2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CA94491-2B40-49FF-B2B6-1A2292FD2F3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B3699F7-FA7D-4E37-AB1F-3C401F95FD1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8705C4D-1017-4B06-BE68-B1E3296A117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010776C-9AAF-42BE-9158-513D8C72655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9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3D1BE91-5FD8-4F3E-A4A6-125645AB407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8F1DAFD7-43A8-472E-A431-5AA5EDB59E3F}"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94CB8346-2E3E-433F-8999-FEE45DB5D2B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1EB08FA-1103-4697-B4C5-96DFA29B1C8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9B52A-6B11-4321-AEED-D98EC81E1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7ED24B-6EAE-42A2-8B1F-65894D74C07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9887B28-8B5D-4410-9AA6-C9ACBAD905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61AE01F-E38E-4863-A846-5DC576CDA90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539FA1C-90E5-43FB-A3FD-E1B7C9BEBF5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E0E6E8D-0407-4139-8B2D-B1E198CE0D0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BA5D390C-5788-4A2D-A8DC-0634F64B0D1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5F71C1-2E9D-474C-8C0C-0CB59F9654E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58A852A0-37F0-4B24-8D7D-847DDA4D69A6}"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381AA98-9117-4AA3-AF02-41A4EEA7CA9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025F070-B6B4-470E-B56A-B941523467D3}"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3E1C2C-2D2F-469C-AEBC-0BDCBD01B7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3E36F0D-BE42-4CEC-983B-21B6D9667410}"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0A4FA6BD-5199-4C2C-B2F7-73B895A8285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60D69B36-4E26-45B4-9D29-5B204E7AE380}"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392DCD4-00C2-4751-826A-75D60AD67FC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12D92EB-4CD9-4EBA-9BE1-196CDCCDFFC1}"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7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BD7CBD8-E48C-481F-9C26-699E7C0A3C9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7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C79CD12-0ED3-45C1-9482-26DF6FCE25B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790487A-BECC-4688-868B-2FEB04314CD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4AB827F-5726-4B2F-B87B-C0AE68EA23EE}"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692EE20E-526E-4A5C-9CE3-64CD4250CD5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7EADF-C8A3-48F0-81DE-2459889A36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9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A238391C-3F75-4E0B-92A7-F315812B045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5CF6697-034F-45C0-B926-0E3E843BF0B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CBE476D-1451-429A-A634-8E70D9EF8141}"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C308CC1-AB2C-4650-AB20-A682A40C1D0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8530DA5-8CFA-475F-BC0C-952F2F05B30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7598BE40-B4E3-44AE-B6AB-55737B30A6DC}"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089F3BD3-3A16-4684-B0F0-C1CEBD16AD67}"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91D8EA9-DF6B-44F1-B0F2-A9810CFDFA7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2D160C-94A8-4AC8-A247-6714A991A18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00CAB271-11C4-4E7B-9565-CACFE42D245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59DE02-89AE-4BA9-B88E-9F099B77EF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0FCA437-BC69-4C60-9A83-DC9C726E07B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944DF8EA-CA05-4821-9DF0-EA7EE3394124}"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5D339E3-6464-4F17-9C75-DCA38C5E2FC8}"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49"/>
          </p:nvPr>
        </p:nvSpPr>
        <p:spPr/>
        <p:txBody>
          <a:bodyPr/>
          <a:p>
            <a:fld id="{ECE7585B-1DF3-49CF-B315-DA7D79D3C87B}"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FB1B3B5D-8DCC-4208-B12F-6A6EA468DC32}"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D6E91F95-8391-4234-AF60-BD1798EF433C}"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3B24C911-BB49-45AF-A629-E3146208690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11CFA4D4-04DB-42DF-B8D7-F2EEF241DF56}"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B9CEE3F6-90E5-4AFF-B2C5-94EDEC19ABD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7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448E59C4-6BB8-4EE8-901A-2D07F0470550}"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6729D-1CAA-4434-B00C-7A66909F8B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F91F0-21C6-4491-8796-F969D167B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7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719A8A03-66CB-4F02-ACB9-76EB39CB02D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8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3902F1A2-BB33-4279-AB7E-852E0DF87523}"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8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46BEE155-8A80-41C4-9B05-4A78BBD30F6B}"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8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49"/>
          </p:nvPr>
        </p:nvSpPr>
        <p:spPr/>
        <p:txBody>
          <a:bodyPr/>
          <a:p>
            <a:fld id="{D70A80F6-9FD3-405F-A55B-DAC83CDB6DAE}"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9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49"/>
          </p:nvPr>
        </p:nvSpPr>
        <p:spPr/>
        <p:txBody>
          <a:bodyPr/>
          <a:p>
            <a:fld id="{48C900B1-50D4-4A20-B279-1133BAD6B011}"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2"/>
          </p:nvPr>
        </p:nvSpPr>
        <p:spPr/>
        <p:txBody>
          <a:bodyPr/>
          <a:p>
            <a:fld id="{B64E167C-EF9D-47AB-94AE-76F9A6E7A9C8}"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2496773C-BED9-4F76-A425-7D7E258D046D}"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B8D54BAC-ABB7-4770-9AC7-94BD9E18D2DB}"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582B42F3-BBAB-4B1D-8579-A31E51EBACB6}"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116F7765-E1E5-4EB0-A0F2-CE609829225E}"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E5853-77EE-47E5-AF21-B44CF0BE3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8143B166-B9EA-40DA-9229-5F19ADD00B1A}"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472611F5-55ED-49C0-A020-3C3FE566E37E}"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B4AC1375-2706-47A1-9AA7-AB506DD53DD1}"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00AD5492-4367-4057-A1C2-102ADEB579D2}"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3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83999C31-7CC9-40AB-905B-289DB57FB30F}"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3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2"/>
          </p:nvPr>
        </p:nvSpPr>
        <p:spPr/>
        <p:txBody>
          <a:bodyPr/>
          <a:p>
            <a:fld id="{6AA7F6C3-0EB9-4996-B301-304BD3229D52}"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4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2"/>
          </p:nvPr>
        </p:nvSpPr>
        <p:spPr/>
        <p:txBody>
          <a:bodyPr/>
          <a:p>
            <a:fld id="{5C8CEAF5-C6A7-4713-9C94-0AACC90AC5E8}"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225D23C-7A35-494D-97C9-2730D6651A01}"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7A21E169-5B47-4B34-82F5-6A15BE61F91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BE4DAA6-9F14-4F26-B79B-4EC1B93D1A2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5D84E-7277-4205-8544-687B6315C8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2FCC6A45-7414-4EC2-940C-4E8EBBE77F0F}"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4D731CA-9620-42DF-BB88-B0E29BF09DA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83C0E21-82C5-4060-BD8D-3FCD3550BB57}"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7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4EF7F42-4F56-4722-8273-21420A6336D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7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D94849FA-775F-4973-BD79-763B62843DAE}"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8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AD4A9EA-076A-474D-83A4-1B5A50F64A1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8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2139C00-57A8-4639-BC90-1F556D2BE04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82DEF358-8985-484B-812E-501F1C5D5822}"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9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41E10545-BE06-4FFC-A8B6-10DCA5F6C20C}"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8"/>
          </p:nvPr>
        </p:nvSpPr>
        <p:spPr/>
        <p:txBody>
          <a:bodyPr/>
          <a:p>
            <a:fld id="{9C1FB213-CD4B-491A-877B-B5298A309A36}"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367AE6-74E0-4F6D-AF5F-7251590555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0697198A-9958-4AC2-9FF4-60266DEB5084}"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0498294A-C4B3-418E-99F9-DAA76AB0734C}"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01B9E1CC-9E43-4E17-AE00-88A3D7F3C15C}"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9C9AD3D6-4485-4BE2-ADE3-856D947B2A02}"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37C3A0C4-EF92-441A-B9DA-B690A9DBB568}"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2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5EBE6819-CDA3-4578-9CCC-8596BD6E980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2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4D88CF93-8F33-45C6-8554-E83AFD96A4CB}"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06FA7C34-EFF9-4AE6-9B5C-34F2672A2920}"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3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588389D9-78F5-4FD7-B577-5D2D1ED21A9F}"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3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8"/>
          </p:nvPr>
        </p:nvSpPr>
        <p:spPr/>
        <p:txBody>
          <a:bodyPr/>
          <a:p>
            <a:fld id="{CA5C6675-6E1F-4817-96CC-910F560F3406}"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86DA4D-791C-4F76-9AD0-D95F6BACD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8"/>
          </p:nvPr>
        </p:nvSpPr>
        <p:spPr/>
        <p:txBody>
          <a:bodyPr/>
          <a:p>
            <a:fld id="{998F6406-9839-4A0F-9E7B-C057169B0084}"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5852B4-72F4-4DA6-8282-4441E447485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6D108E-025F-4148-8D21-0BEE87C9BE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16F5FC-163D-4960-908F-725C5C65AE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9D80F7-E665-4713-979D-7458E704FF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B9C357-49F4-420C-8AF3-86AF8A7AF0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B6E7B2-2B86-40F5-A13A-143C5B491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9BE391-795E-4162-9BE4-07EDF8938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7CA02A-1E82-45AC-82CF-018B9E4753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C1738C-40B1-40E1-8E9A-025675DDAB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C80890-B73E-40A4-9C1D-28F265D20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1B9439-73AD-4520-B445-2EF3FAF734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6817EF-6A81-4FC2-981D-A74FF84452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6CA613-2A98-4068-BF76-9C1F85AC25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75E6947-F0D9-4823-BCD5-BD4EBF0C05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47AAF3-D7A6-4666-AEBC-347A54BEBF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1BC927-C6F8-4D45-BE9D-0C199EFD0B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F4A380-B2BC-4589-918E-A03767B99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4370FC-0BBC-4966-8A4B-60F2764D3E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AF93472-EB7F-49CC-A089-2F67778FD3B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BD3B006-8609-45E9-A7CD-6A1921F9CD7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2CA8AA-B19B-41B3-8EF8-A1C9D722969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AFDAEF-9861-4BB1-8D29-43CE3AAD67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79E74-13A4-4F49-BE1F-DDF01986DA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5DC525-13C2-488E-914D-B4BA7D8B22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69C7E82-9BF6-4A60-901D-82BFC52FE4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68D8774-B664-431C-B19C-6B690D47FB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185B93C-19E8-4BCF-88D1-F272E8C29C6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CA885D-219C-4951-9040-DE1C170B0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9B7823-B95F-4081-8A10-ED4888E086E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D87AF8-7EB4-486A-8F17-99110A4E1C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AAE7DC-80D3-45F4-B409-AF6F6A80CD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A94C581-812B-4305-85B9-96F1B2489E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441BFE-D5B4-4634-AD56-11FDC1273C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CC77B9-2610-4281-A936-86659B5C0D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EF9C6A-DCD4-465A-8AF3-C4101D92D7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594E16-B91A-4232-8EB2-4E530FB68B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2A6510-A78F-4FAD-8833-F90FC91A9F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FA1875-916F-4391-BDEA-8D4C06BD16B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1B09C2-C4E4-4F86-8A8F-87C750F3F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F741810-CD3A-47DC-A5D3-8B85B3A8A8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48B58D-9E2F-4AAD-B036-DDC0555FA8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6"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4F23F0-F32A-4B2C-AD0F-F2881D890C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2F3F2F-2259-487B-B11F-AFC0D25DDB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34E363-82C4-4B19-91A5-71C0849D49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B984B4-574D-4446-9CEF-9104A8EFD2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C3C865-EBC1-4A78-9D3D-244549B6A6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19F80AA-BEE8-4F52-9BEC-3E1A348C10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1"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6A2732-FD6E-437D-8A73-0EE8A43FEC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BD1D32-24E3-416E-BF87-904930DB92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2F008-A9CF-4D90-A3E6-E81ECCE2C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7"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76C8023-3016-45DF-8437-EF7F64AEA1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9383C8-D678-44D1-BE37-D791E4A39E7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5"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0"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696C0C2-F87E-4417-B278-3E02C4EF247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9FE0043-96CB-4070-A377-9540BC5DDE9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AB84F0-964E-4C53-BFDE-1B98DAD94F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ADF35A-2911-4AE6-B325-E8F7359D53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03FE6E-C7CB-4F23-9946-E4B9B55514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79F634-F7AC-491C-BE54-C69B0AFEAA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2BEA85B-4166-40FC-87E1-86D68938C9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7BF9AC-D931-494A-B687-D534434AAB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56A01-44A3-4E48-86FA-DB3CD91DD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0FF7E8-8E7F-4CC6-B93A-C8F43A550C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B5B9DE-2D3D-459A-9A4E-4BC6EC6A05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08FDAAC-42E0-4ED4-8AD1-CA2EC104D3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18F11F-28E2-4028-891F-A0FDC79A629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E859CA3-A1AC-4250-AD63-ED8FF5C6252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F0C9142-48D6-4661-BB47-0AE7D113840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BB22884-BC0C-4A00-B507-C6A4CC4C06D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53AFF41-903A-4E6A-80AA-98201C1D729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0A9E34-1EBF-41A4-A2B4-72C612587B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39BA2B-EAF1-4DF5-BD32-CF31450D33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0871-AEE5-4AC6-AE4E-582350CF2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927A1A-B89E-43CE-9DE1-07BD47900AE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92E577-D128-47C6-B1D2-7C7C747C6D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C6711A-9546-4C79-B385-15C00D5557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07B6EB-4AE2-448F-B83E-D18F153126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7"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048F17-6BA0-4162-90D0-9D01ED9DBB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8F0E71C-5530-4082-9F27-386BFA7D74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5"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E67972C-315B-4DC6-AEBA-385B1BE4F5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F9BA537-FA79-404C-B47D-5CBDE6A5D15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9DE39B-DA9A-41DB-A741-BCD2970D4D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1E3E33-7C6F-4D1C-A83A-6CEBDBF76EE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011E-9908-4806-B8DC-8C2B68CC9A06}"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9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0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05" name="PlaceHolder 3"/>
          <p:cNvSpPr>
            <a:spLocks noGrp="1"/>
          </p:cNvSpPr>
          <p:nvPr>
            <p:ph type="dt" idx="2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06" name="PlaceHolder 4"/>
          <p:cNvSpPr>
            <a:spLocks noGrp="1"/>
          </p:cNvSpPr>
          <p:nvPr>
            <p:ph type="ftr" idx="2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5"/>
          <p:cNvSpPr>
            <a:spLocks noGrp="1"/>
          </p:cNvSpPr>
          <p:nvPr>
            <p:ph type="sldNum" idx="30"/>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7D9CC-04B6-4A01-A626-AD76F382ECDC}"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4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55"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56"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3"/>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864C1-6E5F-487B-B5B7-F914B56E7277}"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07" name="PlaceHolder 3"/>
          <p:cNvSpPr>
            <a:spLocks noGrp="1"/>
          </p:cNvSpPr>
          <p:nvPr>
            <p:ph type="ftr" idx="3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09" name="PlaceHolder 5"/>
          <p:cNvSpPr>
            <a:spLocks noGrp="1"/>
          </p:cNvSpPr>
          <p:nvPr>
            <p:ph type="sldNum" idx="3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45AC-946D-4D5A-925E-39C0DAE32B8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4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8" name="PlaceHolder 3"/>
          <p:cNvSpPr>
            <a:spLocks noGrp="1"/>
          </p:cNvSpPr>
          <p:nvPr>
            <p:ph type="dt" idx="37"/>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59"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5"/>
          <p:cNvSpPr>
            <a:spLocks noGrp="1"/>
          </p:cNvSpPr>
          <p:nvPr>
            <p:ph type="sldNum" idx="39"/>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CB298-6E19-4E05-96F6-2BB5A5B9FEDB}"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97"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0"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11" name="PlaceHolder 4"/>
          <p:cNvSpPr>
            <a:spLocks noGrp="1"/>
          </p:cNvSpPr>
          <p:nvPr>
            <p:ph type="ftr" idx="41"/>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5"/>
          <p:cNvSpPr>
            <a:spLocks noGrp="1"/>
          </p:cNvSpPr>
          <p:nvPr>
            <p:ph type="sldNum" idx="42"/>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0C94-03A7-4455-B499-DCF0E4C1E27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5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0"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61"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5"/>
          <p:cNvSpPr>
            <a:spLocks noGrp="1"/>
          </p:cNvSpPr>
          <p:nvPr>
            <p:ph type="sldNum" idx="45"/>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59851-D6C2-4629-8798-4536DA0581FE}"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7" name="PlaceHolder 3"/>
          <p:cNvSpPr>
            <a:spLocks noGrp="1"/>
          </p:cNvSpPr>
          <p:nvPr>
            <p:ph type="dt" idx="4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08" name="PlaceHolder 4"/>
          <p:cNvSpPr>
            <a:spLocks noGrp="1"/>
          </p:cNvSpPr>
          <p:nvPr>
            <p:ph type="ftr" idx="4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5"/>
          <p:cNvSpPr>
            <a:spLocks noGrp="1"/>
          </p:cNvSpPr>
          <p:nvPr>
            <p:ph type="sldNum" idx="48"/>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FF83-6C9A-4072-865A-D2E856DA1818}" type="slidenum">
              <a:rPr b="0" lang="en-A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9" name="PlaceHolder 3"/>
          <p:cNvSpPr>
            <a:spLocks noGrp="1"/>
          </p:cNvSpPr>
          <p:nvPr>
            <p:ph type="sldNum" idx="49"/>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E8A8-CF9C-4CFB-BC9A-C8B480E1C8D9}"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760" name="PlaceHolder 4"/>
          <p:cNvSpPr>
            <a:spLocks noGrp="1"/>
          </p:cNvSpPr>
          <p:nvPr>
            <p:ph type="dt" idx="5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61" name="PlaceHolder 5"/>
          <p:cNvSpPr>
            <a:spLocks noGrp="1"/>
          </p:cNvSpPr>
          <p:nvPr>
            <p:ph type="ftr" idx="51"/>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11" name="PlaceHolder 3"/>
          <p:cNvSpPr>
            <a:spLocks noGrp="1"/>
          </p:cNvSpPr>
          <p:nvPr>
            <p:ph type="sldNum" idx="52"/>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A0058-A983-45F2-BAE8-90F099F6D69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12" name="PlaceHolder 4"/>
          <p:cNvSpPr>
            <a:spLocks noGrp="1"/>
          </p:cNvSpPr>
          <p:nvPr>
            <p:ph type="dt" idx="53"/>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13" name="PlaceHolder 5"/>
          <p:cNvSpPr>
            <a:spLocks noGrp="1"/>
          </p:cNvSpPr>
          <p:nvPr>
            <p:ph type="ftr" idx="54"/>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61"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62"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5"/>
          <p:cNvSpPr>
            <a:spLocks noGrp="1"/>
          </p:cNvSpPr>
          <p:nvPr>
            <p:ph type="sldNum" idx="57"/>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B2793-EBA9-407A-9FD2-1C993A23368A}"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27C7C-041D-48E6-B153-8BF3141F6C1B}"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5"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0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11" name="PlaceHolder 3"/>
          <p:cNvSpPr>
            <a:spLocks noGrp="1"/>
          </p:cNvSpPr>
          <p:nvPr>
            <p:ph type="sldNum" idx="58"/>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D186FA-CAED-47A6-A81E-78F08B2837F3}"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912" name="PlaceHolder 4"/>
          <p:cNvSpPr>
            <a:spLocks noGrp="1"/>
          </p:cNvSpPr>
          <p:nvPr>
            <p:ph type="dt" idx="5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913" name="PlaceHolder 5"/>
          <p:cNvSpPr>
            <a:spLocks noGrp="1"/>
          </p:cNvSpPr>
          <p:nvPr>
            <p:ph type="ftr" idx="6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6459-7C5D-4347-883E-CAA470B70F3E}"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7"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8"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139"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01523-9083-4F3A-903B-9C4F925752B6}" type="slidenum">
              <a:rPr b="0" lang="en-A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8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81"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182"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4FE0-7617-4E6F-83BA-F0EDB5800D09}" type="slidenum">
              <a:rPr b="0" lang="en-A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2" name="PlaceHolder 3"/>
          <p:cNvSpPr>
            <a:spLocks noGrp="1"/>
          </p:cNvSpPr>
          <p:nvPr>
            <p:ph type="dt" idx="16"/>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6B4C4-0325-447E-9E13-17A2F2618ED2}"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7"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8" name="PlaceHolder 4"/>
          <p:cNvSpPr>
            <a:spLocks noGrp="1"/>
          </p:cNvSpPr>
          <p:nvPr>
            <p:ph type="ftr" idx="20"/>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2E8E5-FABB-4900-8B15-A5C4C8F52C5B}"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06"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1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22"/>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313" name="PlaceHolder 4"/>
          <p:cNvSpPr>
            <a:spLocks noGrp="1"/>
          </p:cNvSpPr>
          <p:nvPr>
            <p:ph type="ftr" idx="23"/>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5"/>
          <p:cNvSpPr>
            <a:spLocks noGrp="1"/>
          </p:cNvSpPr>
          <p:nvPr>
            <p:ph type="sldNum" idx="24"/>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1B423-DC35-4D94-B4B1-104DA6B54AEB}"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5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5" name="PlaceHolder 3"/>
          <p:cNvSpPr>
            <a:spLocks noGrp="1"/>
          </p:cNvSpPr>
          <p:nvPr>
            <p:ph type="dt" idx="25"/>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356" name="PlaceHolder 4"/>
          <p:cNvSpPr>
            <a:spLocks noGrp="1"/>
          </p:cNvSpPr>
          <p:nvPr>
            <p:ph type="ftr" idx="26"/>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B808-9F6E-40F0-AE44-3E4BDB406BF2}"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0" y="776160"/>
            <a:ext cx="8602560" cy="14702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49cdc"/>
                </a:solidFill>
                <a:latin typeface="Calibri"/>
              </a:rPr>
              <a:t>CYCLING OF MATTE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9" name="Rectangle 2" descr=""/>
          <p:cNvPicPr/>
          <p:nvPr/>
        </p:nvPicPr>
        <p:blipFill>
          <a:blip r:embed="rId1"/>
          <a:stretch/>
        </p:blipFill>
        <p:spPr>
          <a:xfrm>
            <a:off x="189000" y="146160"/>
            <a:ext cx="8504280" cy="1261800"/>
          </a:xfrm>
          <a:prstGeom prst="rect">
            <a:avLst/>
          </a:prstGeom>
          <a:ln w="0">
            <a:noFill/>
          </a:ln>
        </p:spPr>
      </p:pic>
      <p:sp>
        <p:nvSpPr>
          <p:cNvPr id="1010" name="Rectangle 3"/>
          <p:cNvSpPr/>
          <p:nvPr/>
        </p:nvSpPr>
        <p:spPr>
          <a:xfrm>
            <a:off x="3109320" y="2120760"/>
            <a:ext cx="2995200" cy="3080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ater Cycle</a:t>
            </a:r>
            <a:endParaRPr b="0" lang="en-US" sz="2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ock Cycle</a:t>
            </a:r>
            <a:endParaRPr b="0" lang="en-US" sz="2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emical Cycles</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arbon</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Nitrogen</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Phosphorous</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Sulf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nutrient</a:t>
            </a:r>
            <a:r>
              <a:rPr b="0" lang="en-US" sz="2400" spc="-1" strike="noStrike">
                <a:solidFill>
                  <a:srgbClr val="000000"/>
                </a:solidFill>
                <a:latin typeface="Corbel"/>
              </a:rPr>
              <a:t>: any atom, ion, or molecule an organism needs to live, grow, or reproduce.</a:t>
            </a:r>
            <a:endParaRPr b="0" lang="en-US" sz="24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macronutrients</a:t>
            </a:r>
            <a:r>
              <a:rPr b="0" lang="en-US" sz="2000" spc="-1" strike="noStrike">
                <a:solidFill>
                  <a:srgbClr val="000000"/>
                </a:solidFill>
                <a:latin typeface="Corbel"/>
              </a:rPr>
              <a:t> needed in relatively large amounts</a:t>
            </a:r>
            <a:br>
              <a:rPr sz="2000"/>
            </a:br>
            <a:r>
              <a:rPr b="0" lang="en-US" sz="2000" spc="-1" strike="noStrike">
                <a:solidFill>
                  <a:srgbClr val="000000"/>
                </a:solidFill>
                <a:latin typeface="Corbel"/>
              </a:rPr>
              <a:t>e.g., C, O, H, N, P, S, K, Ca, Mg, Fe</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micronutrients</a:t>
            </a:r>
            <a:r>
              <a:rPr b="0" lang="en-US" sz="2000" spc="-1" strike="noStrike">
                <a:solidFill>
                  <a:srgbClr val="000000"/>
                </a:solidFill>
                <a:latin typeface="Corbel"/>
              </a:rPr>
              <a:t> needed in relatively small amounts</a:t>
            </a:r>
            <a:br>
              <a:rPr sz="2000"/>
            </a:br>
            <a:r>
              <a:rPr b="0" lang="en-US" sz="2000" spc="-1" strike="noStrike">
                <a:solidFill>
                  <a:srgbClr val="000000"/>
                </a:solidFill>
                <a:latin typeface="Corbel"/>
              </a:rPr>
              <a:t>e.g., Na, Zn, Cu, Cl, </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nutrient cycles</a:t>
            </a:r>
            <a:r>
              <a:rPr b="0" lang="en-US" sz="2000" spc="-1" strike="noStrike">
                <a:solidFill>
                  <a:srgbClr val="000000"/>
                </a:solidFill>
                <a:latin typeface="Corbel"/>
              </a:rPr>
              <a:t> (= biogeochemical cycles) involve continual flow of nutrients from nonliving (air, water, soil, rock) to living organisms (biota) &amp; back again.</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utrient cycles driven directly or indirectly by solar radiation &amp; gravity.</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rbel"/>
              </a:rPr>
              <a:t>Major cycles</a:t>
            </a:r>
            <a:r>
              <a:rPr b="0" lang="en-US" sz="2000" spc="-1" strike="noStrike">
                <a:solidFill>
                  <a:srgbClr val="000000"/>
                </a:solidFill>
                <a:latin typeface="Corbel"/>
              </a:rPr>
              <a:t>: hydrologic (water), carbon, oxygen, nitrogen, phosphorus and sulfur.</a:t>
            </a: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1012" name="Title 3" descr=""/>
          <p:cNvPicPr/>
          <p:nvPr/>
        </p:nvPicPr>
        <p:blipFill>
          <a:blip r:embed="rId1"/>
          <a:stretch/>
        </p:blipFill>
        <p:spPr>
          <a:xfrm>
            <a:off x="201600" y="-6480"/>
            <a:ext cx="8504280" cy="12686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In any ecosystem, the various organisms depend for survival on other organisms and on their surroundings.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Organisms obtain the matter that they need to build their organic substance form other organisms and from their surrounding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014" name="Title 3" descr=""/>
          <p:cNvPicPr/>
          <p:nvPr/>
        </p:nvPicPr>
        <p:blipFill>
          <a:blip r:embed="rId1"/>
          <a:stretch/>
        </p:blipFill>
        <p:spPr>
          <a:xfrm>
            <a:off x="201600" y="-6480"/>
            <a:ext cx="8686800" cy="126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Unlike energy, matter cycles within any ecosystem and is reused.</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Matter, such as water, carbon, nitrogen and phosphorus, continually cycles within an ecosystem.</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016" name="Title 3" descr=""/>
          <p:cNvPicPr/>
          <p:nvPr/>
        </p:nvPicPr>
        <p:blipFill>
          <a:blip r:embed="rId1"/>
          <a:stretch/>
        </p:blipFill>
        <p:spPr>
          <a:xfrm>
            <a:off x="201600" y="-6480"/>
            <a:ext cx="8686800" cy="126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These elements are sometimes found in producers and consumer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At other times these elements are found in non-living components – rocks, soil, dissolved in wate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018" name="Title 3" descr=""/>
          <p:cNvPicPr/>
          <p:nvPr/>
        </p:nvPicPr>
        <p:blipFill>
          <a:blip r:embed="rId1"/>
          <a:stretch/>
        </p:blipFill>
        <p:spPr>
          <a:xfrm>
            <a:off x="189000" y="152280"/>
            <a:ext cx="8686800" cy="12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ounded Rectangle 1"/>
          <p:cNvSpPr/>
          <p:nvPr/>
        </p:nvSpPr>
        <p:spPr>
          <a:xfrm>
            <a:off x="928800" y="714240"/>
            <a:ext cx="1500120" cy="914400"/>
          </a:xfrm>
          <a:prstGeom prst="roundRect">
            <a:avLst>
              <a:gd name="adj" fmla="val 16667"/>
            </a:avLst>
          </a:prstGeom>
          <a:solidFill>
            <a:srgbClr val="ccb40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Producers</a:t>
            </a:r>
            <a:endParaRPr b="0" lang="en-US" sz="1800" spc="-1" strike="noStrike">
              <a:solidFill>
                <a:srgbClr val="000000"/>
              </a:solidFill>
              <a:latin typeface="Arial"/>
            </a:endParaRPr>
          </a:p>
        </p:txBody>
      </p:sp>
      <p:sp>
        <p:nvSpPr>
          <p:cNvPr id="1020" name="Rounded Rectangle 2"/>
          <p:cNvSpPr/>
          <p:nvPr/>
        </p:nvSpPr>
        <p:spPr>
          <a:xfrm>
            <a:off x="3714840" y="714240"/>
            <a:ext cx="1428840" cy="914400"/>
          </a:xfrm>
          <a:prstGeom prst="roundRect">
            <a:avLst>
              <a:gd name="adj" fmla="val 16667"/>
            </a:avLst>
          </a:prstGeom>
          <a:solidFill>
            <a:srgbClr val="00b05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Herbivores</a:t>
            </a:r>
            <a:endParaRPr b="0" lang="en-US" sz="1800" spc="-1" strike="noStrike">
              <a:solidFill>
                <a:srgbClr val="000000"/>
              </a:solidFill>
              <a:latin typeface="Arial"/>
            </a:endParaRPr>
          </a:p>
        </p:txBody>
      </p:sp>
      <p:sp>
        <p:nvSpPr>
          <p:cNvPr id="1021" name="Rounded Rectangle 3"/>
          <p:cNvSpPr/>
          <p:nvPr/>
        </p:nvSpPr>
        <p:spPr>
          <a:xfrm>
            <a:off x="6572160" y="714240"/>
            <a:ext cx="1428840" cy="914400"/>
          </a:xfrm>
          <a:prstGeom prst="roundRect">
            <a:avLst>
              <a:gd name="adj" fmla="val 16667"/>
            </a:avLst>
          </a:prstGeom>
          <a:solidFill>
            <a:srgbClr val="8fb08c"/>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Carnivores</a:t>
            </a:r>
            <a:endParaRPr b="0" lang="en-US" sz="1800" spc="-1" strike="noStrike">
              <a:solidFill>
                <a:srgbClr val="000000"/>
              </a:solidFill>
              <a:latin typeface="Arial"/>
            </a:endParaRPr>
          </a:p>
        </p:txBody>
      </p:sp>
      <p:sp>
        <p:nvSpPr>
          <p:cNvPr id="1022" name="Rounded Rectangle 4"/>
          <p:cNvSpPr/>
          <p:nvPr/>
        </p:nvSpPr>
        <p:spPr>
          <a:xfrm>
            <a:off x="5000760" y="3214800"/>
            <a:ext cx="1643040" cy="914400"/>
          </a:xfrm>
          <a:prstGeom prst="roundRect">
            <a:avLst>
              <a:gd name="adj" fmla="val 16667"/>
            </a:avLst>
          </a:prstGeom>
          <a:solidFill>
            <a:srgbClr val="2a373d"/>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Decomposers</a:t>
            </a:r>
            <a:endParaRPr b="0" lang="en-US" sz="1800" spc="-1" strike="noStrike">
              <a:solidFill>
                <a:srgbClr val="000000"/>
              </a:solidFill>
              <a:latin typeface="Arial"/>
            </a:endParaRPr>
          </a:p>
        </p:txBody>
      </p:sp>
      <p:sp>
        <p:nvSpPr>
          <p:cNvPr id="1023" name="Oval 5"/>
          <p:cNvSpPr/>
          <p:nvPr/>
        </p:nvSpPr>
        <p:spPr>
          <a:xfrm>
            <a:off x="1143000" y="3571920"/>
            <a:ext cx="1571760" cy="914400"/>
          </a:xfrm>
          <a:prstGeom prst="ellipse">
            <a:avLst/>
          </a:prstGeom>
          <a:solidFill>
            <a:srgbClr val="ffff0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Georgia"/>
              </a:rPr>
              <a:t>Nutrient Pool</a:t>
            </a:r>
            <a:endParaRPr b="0" lang="en-US" sz="1800" spc="-1" strike="noStrike">
              <a:solidFill>
                <a:srgbClr val="000000"/>
              </a:solidFill>
              <a:latin typeface="Arial"/>
            </a:endParaRPr>
          </a:p>
        </p:txBody>
      </p:sp>
      <p:sp>
        <p:nvSpPr>
          <p:cNvPr id="1024" name="Right Arrow 6"/>
          <p:cNvSpPr/>
          <p:nvPr/>
        </p:nvSpPr>
        <p:spPr>
          <a:xfrm>
            <a:off x="2571840" y="1000080"/>
            <a:ext cx="977760" cy="484200"/>
          </a:xfrm>
          <a:prstGeom prst="right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ight Arrow 7"/>
          <p:cNvSpPr/>
          <p:nvPr/>
        </p:nvSpPr>
        <p:spPr>
          <a:xfrm>
            <a:off x="5357880" y="928800"/>
            <a:ext cx="977760" cy="484200"/>
          </a:xfrm>
          <a:prstGeom prst="right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Bent Arrow 8"/>
          <p:cNvSpPr/>
          <p:nvPr/>
        </p:nvSpPr>
        <p:spPr>
          <a:xfrm rot="9411000">
            <a:off x="6792480" y="2204640"/>
            <a:ext cx="1293840" cy="1158840"/>
          </a:xfrm>
          <a:custGeom>
            <a:avLst/>
            <a:gdLst/>
            <a:ahLst/>
            <a:rect l="l" t="t" r="r" b="b"/>
            <a:pathLst>
              <a:path w="1293812" h="1158875">
                <a:moveTo>
                  <a:pt x="0" y="1158875"/>
                </a:moveTo>
                <a:lnTo>
                  <a:pt x="0" y="651867"/>
                </a:lnTo>
                <a:lnTo>
                  <a:pt x="0" y="651867"/>
                </a:lnTo>
                <a:arcTo wR="507008" hR="507008" stAng="-10799993" swAng="5400000"/>
                <a:lnTo>
                  <a:pt x="1004093" y="144859"/>
                </a:lnTo>
                <a:lnTo>
                  <a:pt x="1004093" y="0"/>
                </a:lnTo>
                <a:lnTo>
                  <a:pt x="1293812" y="289719"/>
                </a:lnTo>
                <a:lnTo>
                  <a:pt x="1004093" y="579438"/>
                </a:lnTo>
                <a:lnTo>
                  <a:pt x="1004093" y="434578"/>
                </a:lnTo>
                <a:lnTo>
                  <a:pt x="507008" y="434578"/>
                </a:lnTo>
                <a:lnTo>
                  <a:pt x="507008" y="434578"/>
                </a:lnTo>
                <a:arcTo wR="217289" hR="217289" stAng="-5400000" swAng="-5400000"/>
                <a:lnTo>
                  <a:pt x="289719" y="1158875"/>
                </a:lnTo>
                <a:close/>
              </a:path>
            </a:pathLst>
          </a:custGeom>
          <a:solidFill>
            <a:srgbClr val="d16349"/>
          </a:solidFill>
          <a:ln w="11520">
            <a:solidFill>
              <a:srgbClr val="994733"/>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Left Arrow 9"/>
          <p:cNvSpPr/>
          <p:nvPr/>
        </p:nvSpPr>
        <p:spPr>
          <a:xfrm>
            <a:off x="2928960" y="3714840"/>
            <a:ext cx="1857240" cy="484200"/>
          </a:xfrm>
          <a:prstGeom prst="left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Up Arrow 10"/>
          <p:cNvSpPr/>
          <p:nvPr/>
        </p:nvSpPr>
        <p:spPr>
          <a:xfrm>
            <a:off x="1500120" y="1857240"/>
            <a:ext cx="484200" cy="1571760"/>
          </a:xfrm>
          <a:prstGeom prst="up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Down Arrow 11"/>
          <p:cNvSpPr/>
          <p:nvPr/>
        </p:nvSpPr>
        <p:spPr>
          <a:xfrm rot="17995200">
            <a:off x="3349440" y="1433520"/>
            <a:ext cx="484200" cy="2436480"/>
          </a:xfrm>
          <a:prstGeom prst="downArrow">
            <a:avLst>
              <a:gd name="adj1" fmla="val 50000"/>
              <a:gd name="adj2" fmla="val 4999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TextBox 13"/>
          <p:cNvSpPr/>
          <p:nvPr/>
        </p:nvSpPr>
        <p:spPr>
          <a:xfrm>
            <a:off x="597240" y="5500800"/>
            <a:ext cx="403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19049"/>
                </a:solidFill>
                <a:latin typeface="Georgia"/>
              </a:rPr>
              <a:t>The Cycling of Ma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020"/>
                                        </p:tgtEl>
                                        <p:attrNameLst>
                                          <p:attrName>style.visibility</p:attrName>
                                        </p:attrNameLst>
                                      </p:cBhvr>
                                      <p:to>
                                        <p:strVal val="visible"/>
                                      </p:to>
                                    </p:set>
                                    <p:animEffect filter="checkerboard(across)" transition="in">
                                      <p:cBhvr additive="repl">
                                        <p:cTn id="33" dur="500"/>
                                        <p:tgtEl>
                                          <p:spTgt spid="102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1021"/>
                                        </p:tgtEl>
                                        <p:attrNameLst>
                                          <p:attrName>style.visibility</p:attrName>
                                        </p:attrNameLst>
                                      </p:cBhvr>
                                      <p:to>
                                        <p:strVal val="visible"/>
                                      </p:to>
                                    </p:set>
                                    <p:animEffect filter="checkerboard(across)" transition="in">
                                      <p:cBhvr additive="repl">
                                        <p:cTn id="38" dur="500"/>
                                        <p:tgtEl>
                                          <p:spTgt spid="102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022"/>
                                        </p:tgtEl>
                                        <p:attrNameLst>
                                          <p:attrName>style.visibility</p:attrName>
                                        </p:attrNameLst>
                                      </p:cBhvr>
                                      <p:to>
                                        <p:strVal val="visible"/>
                                      </p:to>
                                    </p:set>
                                    <p:animEffect filter="checkerboard(across)" transition="in">
                                      <p:cBhvr additive="repl">
                                        <p:cTn id="43" dur="500"/>
                                        <p:tgtEl>
                                          <p:spTgt spid="10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23"/>
                                        </p:tgtEl>
                                        <p:attrNameLst>
                                          <p:attrName>style.visibility</p:attrName>
                                        </p:attrNameLst>
                                      </p:cBhvr>
                                      <p:to>
                                        <p:strVal val="visible"/>
                                      </p:to>
                                    </p:set>
                                    <p:animEffect filter="checkerboard(across)" transition="in">
                                      <p:cBhvr additive="repl">
                                        <p:cTn id="48" dur="5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Title 1" descr=""/>
          <p:cNvPicPr/>
          <p:nvPr/>
        </p:nvPicPr>
        <p:blipFill>
          <a:blip r:embed="rId1"/>
          <a:stretch/>
        </p:blipFill>
        <p:spPr>
          <a:xfrm>
            <a:off x="189000" y="152280"/>
            <a:ext cx="8547120" cy="1262160"/>
          </a:xfrm>
          <a:prstGeom prst="rect">
            <a:avLst/>
          </a:prstGeom>
          <a:ln w="0">
            <a:noFill/>
          </a:ln>
        </p:spPr>
      </p:pic>
      <p:sp>
        <p:nvSpPr>
          <p:cNvPr id="1032"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orbel"/>
              </a:rPr>
              <a:t>one of the most important to humans because it is important to our existence: </a:t>
            </a:r>
            <a:endParaRPr b="0" lang="en-US" sz="30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one of the primary elements forming human tissues.</a:t>
            </a: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necessary to plants, the basis of human food and because it is important to the climate system which sets the background for our environment:</a:t>
            </a: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 carbon dioxide (CO 2 ) and methane (CH 4 ) are greenhouse gases which help set global temperatures.</a:t>
            </a:r>
            <a:r>
              <a:rPr b="0" lang="en-US" sz="2600" spc="-1" strike="noStrike">
                <a:solidFill>
                  <a:srgbClr val="000000"/>
                </a:solidFill>
                <a:latin typeface="Corbel"/>
              </a:rPr>
              <a:t> </a:t>
            </a:r>
            <a:endParaRPr b="0" lang="en-US" sz="26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032">
                                            <p:txEl>
                                              <p:pRg st="0" end="0"/>
                                            </p:txEl>
                                          </p:spTgt>
                                        </p:tgtEl>
                                        <p:attrNameLst>
                                          <p:attrName>style.visibility</p:attrName>
                                        </p:attrNameLst>
                                      </p:cBhvr>
                                      <p:to>
                                        <p:strVal val="visible"/>
                                      </p:to>
                                    </p:set>
                                    <p:animEffect filter="checkerboard(across)" transition="in">
                                      <p:cBhvr additive="repl">
                                        <p:cTn id="55" dur="500"/>
                                        <p:tgtEl>
                                          <p:spTgt spid="103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032">
                                            <p:txEl>
                                              <p:pRg st="1" end="1"/>
                                            </p:txEl>
                                          </p:spTgt>
                                        </p:tgtEl>
                                        <p:attrNameLst>
                                          <p:attrName>style.visibility</p:attrName>
                                        </p:attrNameLst>
                                      </p:cBhvr>
                                      <p:to>
                                        <p:strVal val="visible"/>
                                      </p:to>
                                    </p:set>
                                    <p:animEffect filter="checkerboard(across)" transition="in">
                                      <p:cBhvr additive="repl">
                                        <p:cTn id="60" dur="500"/>
                                        <p:tgtEl>
                                          <p:spTgt spid="103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032">
                                            <p:txEl>
                                              <p:pRg st="3" end="3"/>
                                            </p:txEl>
                                          </p:spTgt>
                                        </p:tgtEl>
                                        <p:attrNameLst>
                                          <p:attrName>style.visibility</p:attrName>
                                        </p:attrNameLst>
                                      </p:cBhvr>
                                      <p:to>
                                        <p:strVal val="visible"/>
                                      </p:to>
                                    </p:set>
                                    <p:animEffect filter="checkerboard(across)" transition="in">
                                      <p:cBhvr additive="repl">
                                        <p:cTn id="65" dur="500"/>
                                        <p:tgtEl>
                                          <p:spTgt spid="1032">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032">
                                            <p:txEl>
                                              <p:pRg st="5" end="5"/>
                                            </p:txEl>
                                          </p:spTgt>
                                        </p:tgtEl>
                                        <p:attrNameLst>
                                          <p:attrName>style.visibility</p:attrName>
                                        </p:attrNameLst>
                                      </p:cBhvr>
                                      <p:to>
                                        <p:strVal val="visible"/>
                                      </p:to>
                                    </p:set>
                                    <p:animEffect filter="checkerboard(across)" transition="in">
                                      <p:cBhvr additive="repl">
                                        <p:cTn id="70" dur="500"/>
                                        <p:tgtEl>
                                          <p:spTgt spid="10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3" name="Title 1" descr=""/>
          <p:cNvPicPr/>
          <p:nvPr/>
        </p:nvPicPr>
        <p:blipFill>
          <a:blip r:embed="rId1"/>
          <a:stretch/>
        </p:blipFill>
        <p:spPr>
          <a:xfrm>
            <a:off x="189000" y="152280"/>
            <a:ext cx="8504280" cy="1262160"/>
          </a:xfrm>
          <a:prstGeom prst="rect">
            <a:avLst/>
          </a:prstGeom>
          <a:ln w="0">
            <a:noFill/>
          </a:ln>
        </p:spPr>
      </p:pic>
      <p:sp>
        <p:nvSpPr>
          <p:cNvPr id="1034" name=""/>
          <p:cNvSpPr txBox="1"/>
          <p:nvPr/>
        </p:nvSpPr>
        <p:spPr>
          <a:xfrm>
            <a:off x="323640" y="3284640"/>
            <a:ext cx="1439640" cy="201600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See p 313 Biozone for diagram of Carbon cycle</a:t>
            </a:r>
            <a:endParaRPr b="0" lang="en-US" sz="1600" spc="-1" strike="noStrike">
              <a:solidFill>
                <a:srgbClr val="000000"/>
              </a:solidFill>
              <a:latin typeface="Corbel"/>
            </a:endParaRPr>
          </a:p>
        </p:txBody>
      </p:sp>
      <p:pic>
        <p:nvPicPr>
          <p:cNvPr id="1035" name="Picture 3" descr="carbon.jpg"/>
          <p:cNvPicPr/>
          <p:nvPr/>
        </p:nvPicPr>
        <p:blipFill>
          <a:blip r:embed="rId2"/>
          <a:stretch/>
        </p:blipFill>
        <p:spPr>
          <a:xfrm>
            <a:off x="1908000" y="1125360"/>
            <a:ext cx="7029720" cy="539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6" name="Title 1" descr=""/>
          <p:cNvPicPr/>
          <p:nvPr/>
        </p:nvPicPr>
        <p:blipFill>
          <a:blip r:embed="rId1"/>
          <a:stretch/>
        </p:blipFill>
        <p:spPr>
          <a:xfrm>
            <a:off x="219240" y="-6480"/>
            <a:ext cx="8474040" cy="1427400"/>
          </a:xfrm>
          <a:prstGeom prst="rect">
            <a:avLst/>
          </a:prstGeom>
          <a:ln w="0">
            <a:noFill/>
          </a:ln>
        </p:spPr>
      </p:pic>
      <p:sp>
        <p:nvSpPr>
          <p:cNvPr id="1037" name=""/>
          <p:cNvSpPr txBox="1"/>
          <p:nvPr/>
        </p:nvSpPr>
        <p:spPr>
          <a:xfrm>
            <a:off x="457200" y="1774800"/>
            <a:ext cx="8229600" cy="4626000"/>
          </a:xfrm>
          <a:prstGeom prst="rect">
            <a:avLst/>
          </a:prstGeom>
          <a:noFill/>
          <a:ln w="0">
            <a:noFill/>
          </a:ln>
        </p:spPr>
        <p:txBody>
          <a:bodyPr lIns="54720" tIns="91440" anchor="t">
            <a:normAutofit/>
          </a:bodyPr>
          <a:p>
            <a:pPr marL="51444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Explain how elements can be cycled and exchanged between living and non living parts of an ecosystem.</a:t>
            </a:r>
            <a:endParaRPr b="0" lang="en-US" sz="3200" spc="-1" strike="noStrike">
              <a:solidFill>
                <a:srgbClr val="000000"/>
              </a:solidFill>
              <a:latin typeface="Corbel"/>
            </a:endParaRPr>
          </a:p>
          <a:p>
            <a:pPr marL="51444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1444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What might happen to a carbon atom from a glucose molecule in the blood of a human?</a:t>
            </a:r>
            <a:endParaRPr b="0" lang="en-US" sz="3200" spc="-1" strike="noStrike">
              <a:solidFill>
                <a:srgbClr val="000000"/>
              </a:solidFill>
              <a:latin typeface="Corbel"/>
            </a:endParaRPr>
          </a:p>
          <a:p>
            <a:pPr marL="514440" indent="-514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8" name="Title 1" descr=""/>
          <p:cNvPicPr/>
          <p:nvPr/>
        </p:nvPicPr>
        <p:blipFill>
          <a:blip r:embed="rId1"/>
          <a:stretch/>
        </p:blipFill>
        <p:spPr>
          <a:xfrm>
            <a:off x="189000" y="152280"/>
            <a:ext cx="8504280" cy="1262160"/>
          </a:xfrm>
          <a:prstGeom prst="rect">
            <a:avLst/>
          </a:prstGeom>
          <a:ln w="0">
            <a:noFill/>
          </a:ln>
        </p:spPr>
      </p:pic>
      <p:pic>
        <p:nvPicPr>
          <p:cNvPr id="1039" name="Content Placeholder 3" descr="nitrogen.jpg"/>
          <p:cNvPicPr/>
          <p:nvPr/>
        </p:nvPicPr>
        <p:blipFill>
          <a:blip r:embed="rId2"/>
          <a:stretch/>
        </p:blipFill>
        <p:spPr>
          <a:xfrm>
            <a:off x="3708360" y="1557360"/>
            <a:ext cx="4896000" cy="4957920"/>
          </a:xfrm>
          <a:prstGeom prst="rect">
            <a:avLst/>
          </a:prstGeom>
          <a:ln w="0">
            <a:noFill/>
          </a:ln>
        </p:spPr>
      </p:pic>
      <p:sp>
        <p:nvSpPr>
          <p:cNvPr id="1040" name="Content Placeholder 2"/>
          <p:cNvSpPr/>
          <p:nvPr/>
        </p:nvSpPr>
        <p:spPr>
          <a:xfrm>
            <a:off x="457200" y="1773360"/>
            <a:ext cx="2530440" cy="460836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Nitrogen is an essential part of proteins and nucleic acids</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Earth’s atmosphere about 80% Nitrogen</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Molecular N so stable that in short supply in biological systems</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Bacteria play an important part intransferring nitrogen between abiotic and biotic systems</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ee p 317 Biozone for diagram of Carbon cycle</a:t>
            </a:r>
            <a:endParaRPr b="0" lang="en-US" sz="14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See page 315 Biozone for diagram of Carbon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rth:</a:t>
            </a:r>
            <a:br>
              <a:rPr sz="4000"/>
            </a:br>
            <a:r>
              <a:rPr b="0" lang="en-US" sz="4000" spc="-1" strike="noStrike">
                <a:solidFill>
                  <a:srgbClr val="000000"/>
                </a:solidFill>
                <a:latin typeface="Calibri"/>
              </a:rPr>
              <a:t>Matter does not come and go</a:t>
            </a:r>
            <a:endParaRPr b="0" lang="en-US" sz="4000" spc="-1" strike="noStrike">
              <a:solidFill>
                <a:srgbClr val="000000"/>
              </a:solidFill>
              <a:latin typeface="Calibri"/>
            </a:endParaRPr>
          </a:p>
        </p:txBody>
      </p:sp>
      <p:pic>
        <p:nvPicPr>
          <p:cNvPr id="959" name="Picture 3" descr=""/>
          <p:cNvPicPr/>
          <p:nvPr/>
        </p:nvPicPr>
        <p:blipFill>
          <a:blip r:embed="rId1"/>
          <a:stretch/>
        </p:blipFill>
        <p:spPr>
          <a:xfrm>
            <a:off x="2438280" y="1673280"/>
            <a:ext cx="4724640" cy="4689360"/>
          </a:xfrm>
          <a:prstGeom prst="rect">
            <a:avLst/>
          </a:prstGeom>
          <a:ln w="0">
            <a:noFill/>
          </a:ln>
        </p:spPr>
      </p:pic>
      <p:pic>
        <p:nvPicPr>
          <p:cNvPr id="960" name="Picture 5" descr=""/>
          <p:cNvPicPr/>
          <p:nvPr/>
        </p:nvPicPr>
        <p:blipFill>
          <a:blip r:embed="rId2"/>
          <a:stretch/>
        </p:blipFill>
        <p:spPr>
          <a:xfrm>
            <a:off x="6477120" y="4979880"/>
            <a:ext cx="2492280" cy="1667160"/>
          </a:xfrm>
          <a:prstGeom prst="rect">
            <a:avLst/>
          </a:prstGeom>
          <a:ln w="0">
            <a:noFill/>
          </a:ln>
        </p:spPr>
      </p:pic>
      <p:sp>
        <p:nvSpPr>
          <p:cNvPr id="961" name="Rectangle 6"/>
          <p:cNvSpPr/>
          <p:nvPr/>
        </p:nvSpPr>
        <p:spPr>
          <a:xfrm>
            <a:off x="532080" y="2986200"/>
            <a:ext cx="1637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Earth is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Clos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to Ma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1" name="Title 1" descr=""/>
          <p:cNvPicPr/>
          <p:nvPr/>
        </p:nvPicPr>
        <p:blipFill>
          <a:blip r:embed="rId1"/>
          <a:stretch/>
        </p:blipFill>
        <p:spPr>
          <a:xfrm>
            <a:off x="189000" y="152280"/>
            <a:ext cx="8504280" cy="1262160"/>
          </a:xfrm>
          <a:prstGeom prst="rect">
            <a:avLst/>
          </a:prstGeom>
          <a:ln w="0">
            <a:noFill/>
          </a:ln>
        </p:spPr>
      </p:pic>
      <p:sp>
        <p:nvSpPr>
          <p:cNvPr id="1042" name=""/>
          <p:cNvSpPr txBox="1"/>
          <p:nvPr/>
        </p:nvSpPr>
        <p:spPr>
          <a:xfrm>
            <a:off x="250560" y="1844640"/>
            <a:ext cx="4033800" cy="4680000"/>
          </a:xfrm>
          <a:prstGeom prst="rect">
            <a:avLst/>
          </a:prstGeom>
          <a:noFill/>
          <a:ln w="0">
            <a:noFill/>
          </a:ln>
        </p:spPr>
        <p:txBody>
          <a:bodyPr lIns="54720" tIns="91440"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The atmosphere does not play a significant role in the movement of Phosphorus because P an P- based compounds are usually solids at the typical ranges of  temperature and pressure found on Earth</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 is required by organisms at greater amounts than Nitrogen.</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Of all the nutrients P is most likely to limit growth of plants.</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Cycles slowly through ecosystems released into soil and water by weathering of rocks.</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 dissolved in soil absorbed by plant roots into food chain.</a:t>
            </a:r>
            <a:endParaRPr b="0" lang="en-US" sz="1800" spc="-1" strike="noStrike">
              <a:solidFill>
                <a:srgbClr val="000000"/>
              </a:solidFill>
              <a:latin typeface="Corbel"/>
            </a:endParaRPr>
          </a:p>
        </p:txBody>
      </p:sp>
      <p:pic>
        <p:nvPicPr>
          <p:cNvPr id="1043" name="Picture 4" descr="phosphorus.gif"/>
          <p:cNvPicPr/>
          <p:nvPr/>
        </p:nvPicPr>
        <p:blipFill>
          <a:blip r:embed="rId2"/>
          <a:stretch/>
        </p:blipFill>
        <p:spPr>
          <a:xfrm>
            <a:off x="4500720" y="1844640"/>
            <a:ext cx="4243320" cy="401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4" name="Title 1" descr=""/>
          <p:cNvPicPr/>
          <p:nvPr/>
        </p:nvPicPr>
        <p:blipFill>
          <a:blip r:embed="rId1"/>
          <a:stretch/>
        </p:blipFill>
        <p:spPr>
          <a:xfrm>
            <a:off x="189000" y="152280"/>
            <a:ext cx="8504280" cy="1262160"/>
          </a:xfrm>
          <a:prstGeom prst="rect">
            <a:avLst/>
          </a:prstGeom>
          <a:ln w="0">
            <a:noFill/>
          </a:ln>
        </p:spPr>
      </p:pic>
      <p:pic>
        <p:nvPicPr>
          <p:cNvPr id="1045" name="Content Placeholder 3" descr="diag_water_cycle_1_-53945.gif"/>
          <p:cNvPicPr/>
          <p:nvPr/>
        </p:nvPicPr>
        <p:blipFill>
          <a:blip r:embed="rId2"/>
          <a:stretch/>
        </p:blipFill>
        <p:spPr>
          <a:xfrm>
            <a:off x="3276720" y="2565360"/>
            <a:ext cx="5338800" cy="3321000"/>
          </a:xfrm>
          <a:prstGeom prst="rect">
            <a:avLst/>
          </a:prstGeom>
          <a:ln w="0">
            <a:noFill/>
          </a:ln>
        </p:spPr>
      </p:pic>
      <p:sp>
        <p:nvSpPr>
          <p:cNvPr id="1046" name="Content Placeholder 2"/>
          <p:cNvSpPr/>
          <p:nvPr/>
        </p:nvSpPr>
        <p:spPr>
          <a:xfrm>
            <a:off x="250920" y="1844640"/>
            <a:ext cx="4033800" cy="468000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Water moves around by the following processe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recipit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Evapor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Transpir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Surface run off</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nfiltr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ercol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t is found in the following </a:t>
            </a:r>
            <a:endParaRPr b="0" lang="en-US" sz="1800" spc="-1" strike="noStrike">
              <a:solidFill>
                <a:srgbClr val="000000"/>
              </a:solidFill>
              <a:latin typeface="Aria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	</a:t>
            </a:r>
            <a:r>
              <a:rPr b="0" lang="en-AU" sz="1800" spc="-1" strike="noStrike">
                <a:solidFill>
                  <a:srgbClr val="000000"/>
                </a:solidFill>
                <a:latin typeface="Corbel"/>
              </a:rPr>
              <a:t>state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ce (at the pole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Water (in sea and river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Gas (clouds)</a:t>
            </a:r>
            <a:endParaRPr b="0" lang="en-US" sz="1800" spc="-1" strike="noStrike">
              <a:solidFill>
                <a:srgbClr val="000000"/>
              </a:solidFill>
              <a:latin typeface="Aria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p 319 Biozone for </a:t>
            </a:r>
            <a:endParaRPr b="0" lang="en-US" sz="1600" spc="-1" strike="noStrike">
              <a:solidFill>
                <a:srgbClr val="000000"/>
              </a:solidFill>
              <a:latin typeface="Aria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diagram of Carbon cycle</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9cdc"/>
                </a:solidFill>
                <a:latin typeface="Calibri"/>
              </a:rPr>
              <a:t>Cycles of Matter</a:t>
            </a:r>
            <a:endParaRPr b="0" lang="en-US" sz="4400" spc="-1" strike="noStrike">
              <a:solidFill>
                <a:srgbClr val="000000"/>
              </a:solidFill>
              <a:latin typeface="Calibri"/>
            </a:endParaRPr>
          </a:p>
        </p:txBody>
      </p:sp>
      <p:sp>
        <p:nvSpPr>
          <p:cNvPr id="963" name=""/>
          <p:cNvSpPr txBox="1"/>
          <p:nvPr/>
        </p:nvSpPr>
        <p:spPr>
          <a:xfrm>
            <a:off x="457200" y="1600200"/>
            <a:ext cx="8229600" cy="4525920"/>
          </a:xfrm>
          <a:prstGeom prst="rect">
            <a:avLst/>
          </a:prstGeom>
          <a:noFill/>
          <a:ln w="0">
            <a:noFill/>
          </a:ln>
        </p:spPr>
        <p:txBody>
          <a:bodyPr anchor="t">
            <a:normAutofit/>
          </a:bodyPr>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like the one-way flow of energy, </a:t>
            </a:r>
            <a:r>
              <a:rPr b="0" lang="en-US" sz="3200" spc="-1" strike="noStrike">
                <a:solidFill>
                  <a:srgbClr val="b7dee8"/>
                </a:solidFill>
                <a:latin typeface="Calibri"/>
              </a:rPr>
              <a:t>matter</a:t>
            </a:r>
            <a:r>
              <a:rPr b="0" lang="en-US" sz="3200" spc="-1" strike="noStrike">
                <a:solidFill>
                  <a:srgbClr val="000000"/>
                </a:solidFill>
                <a:latin typeface="Calibri"/>
              </a:rPr>
              <a:t> is recycled within and between ecosystems.</a:t>
            </a:r>
            <a:endParaRPr b="0" lang="en-US" sz="3200" spc="-1" strike="noStrike">
              <a:solidFill>
                <a:srgbClr val="000000"/>
              </a:solidFill>
              <a:latin typeface="Calibri"/>
            </a:endParaRPr>
          </a:p>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cycles are the water cycle, Nutrient Cycle, Carbon Cycle, nitrogen cycle and phosphorus cy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63">
                                            <p:txEl>
                                              <p:pRg st="1" end="1"/>
                                            </p:txEl>
                                          </p:spTgt>
                                        </p:tgtEl>
                                        <p:attrNameLst>
                                          <p:attrName>style.visibility</p:attrName>
                                        </p:attrNameLst>
                                      </p:cBhvr>
                                      <p:to>
                                        <p:strVal val="visible"/>
                                      </p:to>
                                    </p:set>
                                    <p:animEffect filter="checkerboard(across)" transition="in">
                                      <p:cBhvr additive="repl">
                                        <p:cTn id="7" dur="500"/>
                                        <p:tgtEl>
                                          <p:spTgt spid="9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4" name="Title 1" descr=""/>
          <p:cNvPicPr/>
          <p:nvPr/>
        </p:nvPicPr>
        <p:blipFill>
          <a:blip r:embed="rId1"/>
          <a:stretch/>
        </p:blipFill>
        <p:spPr>
          <a:xfrm>
            <a:off x="219240" y="-6480"/>
            <a:ext cx="8474040" cy="1420920"/>
          </a:xfrm>
          <a:prstGeom prst="rect">
            <a:avLst/>
          </a:prstGeom>
          <a:ln w="0">
            <a:noFill/>
          </a:ln>
        </p:spPr>
      </p:pic>
      <p:sp>
        <p:nvSpPr>
          <p:cNvPr id="96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Matter is what all things are made of.  By matter we mean: elements (carbon, nitrogen, oxygen) or molecules (water).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Matter is neither created nor destroyed. All matter cycles through the earth cycl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Title 1" descr=""/>
          <p:cNvPicPr/>
          <p:nvPr/>
        </p:nvPicPr>
        <p:blipFill>
          <a:blip r:embed="rId1"/>
          <a:stretch/>
        </p:blipFill>
        <p:spPr>
          <a:xfrm>
            <a:off x="189000" y="-79200"/>
            <a:ext cx="8613720" cy="1493640"/>
          </a:xfrm>
          <a:prstGeom prst="rect">
            <a:avLst/>
          </a:prstGeom>
          <a:ln w="0">
            <a:noFill/>
          </a:ln>
        </p:spPr>
      </p:pic>
      <p:sp>
        <p:nvSpPr>
          <p:cNvPr id="967"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the movement (or cycling) of matter through a system.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we can subdivide the Earth system into the atmosphere, hydrosphere, lithosphere, and biosphere.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Biogeochemical cycles are part of the larger cycles that describe the functioning of the whole Earth (not just the surface parts).</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67">
                                            <p:txEl>
                                              <p:pRg st="2" end="2"/>
                                            </p:txEl>
                                          </p:spTgt>
                                        </p:tgtEl>
                                        <p:attrNameLst>
                                          <p:attrName>style.visibility</p:attrName>
                                        </p:attrNameLst>
                                      </p:cBhvr>
                                      <p:to>
                                        <p:strVal val="visible"/>
                                      </p:to>
                                    </p:set>
                                    <p:animEffect filter="checkerboard(across)" transition="in">
                                      <p:cBhvr additive="repl">
                                        <p:cTn id="14" dur="500"/>
                                        <p:tgtEl>
                                          <p:spTgt spid="967">
                                            <p:txEl>
                                              <p:pRg st="2" end="2"/>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67">
                                            <p:txEl>
                                              <p:pRg st="4" end="4"/>
                                            </p:txEl>
                                          </p:spTgt>
                                        </p:tgtEl>
                                        <p:attrNameLst>
                                          <p:attrName>style.visibility</p:attrName>
                                        </p:attrNameLst>
                                      </p:cBhvr>
                                      <p:to>
                                        <p:strVal val="visible"/>
                                      </p:to>
                                    </p:set>
                                    <p:animEffect filter="checkerboard(across)" transition="in">
                                      <p:cBhvr additive="repl">
                                        <p:cTn id="19" dur="500"/>
                                        <p:tgtEl>
                                          <p:spTgt spid="9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Rectangle 2" descr=""/>
          <p:cNvPicPr/>
          <p:nvPr/>
        </p:nvPicPr>
        <p:blipFill>
          <a:blip r:embed="rId1"/>
          <a:stretch/>
        </p:blipFill>
        <p:spPr>
          <a:xfrm>
            <a:off x="49320" y="365040"/>
            <a:ext cx="7710480" cy="860400"/>
          </a:xfrm>
          <a:prstGeom prst="rect">
            <a:avLst/>
          </a:prstGeom>
          <a:ln w="0">
            <a:noFill/>
          </a:ln>
        </p:spPr>
      </p:pic>
      <p:sp>
        <p:nvSpPr>
          <p:cNvPr id="969" name=""/>
          <p:cNvSpPr txBox="1"/>
          <p:nvPr/>
        </p:nvSpPr>
        <p:spPr>
          <a:xfrm>
            <a:off x="457200" y="1628280"/>
            <a:ext cx="4619520" cy="4753080"/>
          </a:xfrm>
          <a:prstGeom prst="rect">
            <a:avLst/>
          </a:prstGeom>
          <a:noFill/>
          <a:ln w="0">
            <a:noFill/>
          </a:ln>
        </p:spPr>
        <p:txBody>
          <a:bodyPr lIns="54720" tIns="91440" anchor="t">
            <a:normAutofit fontScale="89000"/>
          </a:bodyPr>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Hydrosphere</a:t>
            </a:r>
            <a:r>
              <a:rPr b="0" lang="en-US" sz="3200" spc="-1" strike="noStrike">
                <a:solidFill>
                  <a:srgbClr val="000000"/>
                </a:solidFill>
                <a:latin typeface="Corbel"/>
              </a:rPr>
              <a:t>- water layer. Liquid, Ice, Vapor.</a:t>
            </a: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Lithosphere</a:t>
            </a:r>
            <a:r>
              <a:rPr b="0" lang="en-US" sz="3200" spc="-1" strike="noStrike">
                <a:solidFill>
                  <a:srgbClr val="000000"/>
                </a:solidFill>
                <a:latin typeface="Corbel"/>
              </a:rPr>
              <a:t>- Earth’s crust and upper mantle.</a:t>
            </a: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Fossil fuels, minerals, soil chemicals.</a:t>
            </a:r>
            <a:endParaRPr b="0" lang="en-US" sz="3200" spc="-1" strike="noStrike">
              <a:solidFill>
                <a:srgbClr val="000000"/>
              </a:solidFill>
              <a:latin typeface="Corbel"/>
            </a:endParaRPr>
          </a:p>
          <a:p>
            <a:pPr marL="542160" indent="-542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Biosphere</a:t>
            </a:r>
            <a:r>
              <a:rPr b="0" lang="en-US" sz="3200" spc="-1" strike="noStrike">
                <a:solidFill>
                  <a:srgbClr val="000000"/>
                </a:solidFill>
                <a:latin typeface="Corbel"/>
              </a:rPr>
              <a:t>- biotic &amp; </a:t>
            </a: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biotic factors. </a:t>
            </a:r>
            <a:endParaRPr b="0" lang="en-US" sz="3200" spc="-1" strike="noStrike">
              <a:solidFill>
                <a:srgbClr val="000000"/>
              </a:solidFill>
              <a:latin typeface="Corbel"/>
            </a:endParaRPr>
          </a:p>
        </p:txBody>
      </p:sp>
      <p:pic>
        <p:nvPicPr>
          <p:cNvPr id="970" name="Picture 4" descr="images.jpg"/>
          <p:cNvPicPr/>
          <p:nvPr/>
        </p:nvPicPr>
        <p:blipFill>
          <a:blip r:embed="rId2"/>
          <a:stretch/>
        </p:blipFill>
        <p:spPr>
          <a:xfrm>
            <a:off x="5076720" y="2565360"/>
            <a:ext cx="3303720" cy="330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0" y="1142640"/>
            <a:ext cx="8686800" cy="5715000"/>
          </a:xfrm>
          <a:prstGeom prst="rect">
            <a:avLst/>
          </a:prstGeom>
          <a:noFill/>
          <a:ln w="0">
            <a:noFill/>
          </a:ln>
        </p:spPr>
        <p:txBody>
          <a:bodyPr lIns="54720" tIns="91440" anchor="t">
            <a:normAutofit fontScale="98000"/>
          </a:bodyPr>
          <a:p>
            <a:pPr marL="429120" indent="-312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CA" sz="2400" spc="-1" strike="noStrike">
                <a:solidFill>
                  <a:srgbClr val="ff0000"/>
                </a:solidFill>
                <a:latin typeface="Times New Roman"/>
                <a:ea typeface="Times New Roman"/>
              </a:rPr>
              <a:t>BIO:</a:t>
            </a:r>
            <a:r>
              <a:rPr b="0" lang="en-CA" sz="2400" spc="-1" strike="noStrike">
                <a:solidFill>
                  <a:srgbClr val="ff0000"/>
                </a:solidFill>
                <a:latin typeface="Times New Roman"/>
                <a:ea typeface="Times New Roman"/>
              </a:rPr>
              <a:t> </a:t>
            </a:r>
            <a:r>
              <a:rPr b="0" lang="en-CA" sz="2400" spc="-1" strike="noStrike">
                <a:solidFill>
                  <a:srgbClr val="000000"/>
                </a:solidFill>
                <a:latin typeface="Times New Roman"/>
                <a:ea typeface="Times New Roman"/>
              </a:rPr>
              <a:t>Biology. Life. Living things. These cycles all play a role in the lives of living things. The cycles might limit the organisms of Earth or they might happen along side, changing the environment. </a:t>
            </a:r>
            <a:br>
              <a:rPr sz="2400"/>
            </a:br>
            <a:br>
              <a:rPr sz="2400"/>
            </a:br>
            <a:r>
              <a:rPr b="1" lang="en-CA" sz="2400" spc="-1" strike="noStrike">
                <a:solidFill>
                  <a:srgbClr val="ff0000"/>
                </a:solidFill>
                <a:latin typeface="Times New Roman"/>
                <a:ea typeface="Times New Roman"/>
              </a:rPr>
              <a:t>GEO</a:t>
            </a:r>
            <a:r>
              <a:rPr b="1" lang="en-CA" sz="2400" spc="-1" strike="noStrike">
                <a:solidFill>
                  <a:srgbClr val="000000"/>
                </a:solidFill>
                <a:latin typeface="Times New Roman"/>
                <a:ea typeface="Times New Roman"/>
              </a:rPr>
              <a:t>:</a:t>
            </a:r>
            <a:r>
              <a:rPr b="0" lang="en-CA" sz="2400" spc="-1" strike="noStrike">
                <a:solidFill>
                  <a:srgbClr val="000000"/>
                </a:solidFill>
                <a:latin typeface="Times New Roman"/>
                <a:ea typeface="Times New Roman"/>
              </a:rPr>
              <a:t> Earth. Rocks. Land. This refers to the non-living processes at work. Oxygen cycles through many systems. It's in you and plants for the 'bio' part of the cycle. Oxygen might also wind up in rocks… The 'geo' part of its cycle. </a:t>
            </a:r>
            <a:br>
              <a:rPr sz="2400"/>
            </a:br>
            <a:br>
              <a:rPr sz="2400"/>
            </a:br>
            <a:r>
              <a:rPr b="1" lang="en-CA" sz="2400" spc="-1" strike="noStrike">
                <a:solidFill>
                  <a:srgbClr val="ff0000"/>
                </a:solidFill>
                <a:latin typeface="Times New Roman"/>
                <a:ea typeface="Times New Roman"/>
              </a:rPr>
              <a:t>CHEMICAL</a:t>
            </a:r>
            <a:r>
              <a:rPr b="1" lang="en-CA" sz="2400" spc="-1" strike="noStrike">
                <a:solidFill>
                  <a:srgbClr val="000000"/>
                </a:solidFill>
                <a:latin typeface="Times New Roman"/>
                <a:ea typeface="Times New Roman"/>
              </a:rPr>
              <a:t>:</a:t>
            </a:r>
            <a:r>
              <a:rPr b="0" lang="en-CA" sz="2400" spc="-1" strike="noStrike">
                <a:solidFill>
                  <a:srgbClr val="000000"/>
                </a:solidFill>
                <a:latin typeface="Times New Roman"/>
                <a:ea typeface="Times New Roman"/>
              </a:rPr>
              <a:t> Molecules. Reactions. Atoms. All cycles include these small pathways. Complete molecules are not always passed from one point to the next. Sometimes chemical reactions take place that changes the molecules and locations of the atoms. Think about oxidation as an example of the 'chemical' part of these pathways. </a:t>
            </a:r>
            <a:br>
              <a:rPr sz="2400"/>
            </a:br>
            <a:br>
              <a:rPr sz="2400"/>
            </a:br>
            <a:r>
              <a:rPr b="0" lang="en-CA" sz="2400" spc="-1" strike="noStrike">
                <a:solidFill>
                  <a:srgbClr val="60b5cc"/>
                </a:solidFill>
                <a:latin typeface="Corbel"/>
              </a:rPr>
              <a:t>To sum it up, these pathways are all made of different biological, geological, and chemical processes that help make the world go 'round and life exist on Earth. </a:t>
            </a:r>
            <a:br>
              <a:rPr sz="1600"/>
            </a:br>
            <a:endParaRPr b="0" lang="en-US" sz="2400" spc="-1" strike="noStrike">
              <a:solidFill>
                <a:srgbClr val="000000"/>
              </a:solidFill>
              <a:latin typeface="Corbel"/>
            </a:endParaRPr>
          </a:p>
        </p:txBody>
      </p:sp>
      <p:pic>
        <p:nvPicPr>
          <p:cNvPr id="972" name="Rectangle 4" descr=""/>
          <p:cNvPicPr/>
          <p:nvPr/>
        </p:nvPicPr>
        <p:blipFill>
          <a:blip r:embed="rId1"/>
          <a:stretch/>
        </p:blipFill>
        <p:spPr>
          <a:xfrm>
            <a:off x="189000" y="152280"/>
            <a:ext cx="8504280" cy="1262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971">
                                            <p:txEl>
                                              <p:pRg st="0" end="0"/>
                                            </p:txEl>
                                          </p:spTgt>
                                        </p:tgtEl>
                                        <p:attrNameLst>
                                          <p:attrName>style.visibility</p:attrName>
                                        </p:attrNameLst>
                                      </p:cBhvr>
                                      <p:to>
                                        <p:strVal val="visible"/>
                                      </p:to>
                                    </p:set>
                                    <p:animEffect filter="wipe(down)" transition="in">
                                      <p:cBhvr additive="repl">
                                        <p:cTn id="26" dur="500"/>
                                        <p:tgtEl>
                                          <p:spTgt spid="9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5"/>
          <p:cNvSpPr/>
          <p:nvPr/>
        </p:nvSpPr>
        <p:spPr>
          <a:xfrm rot="2858400">
            <a:off x="5930640" y="2544480"/>
            <a:ext cx="3854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eneralized Biogeochemical Cycle</a:t>
            </a:r>
            <a:br>
              <a:rPr sz="1200"/>
            </a:br>
            <a:br>
              <a:rPr sz="1200"/>
            </a:br>
            <a:endParaRPr b="0" lang="en-US" sz="1800" spc="-1" strike="noStrike">
              <a:solidFill>
                <a:srgbClr val="000000"/>
              </a:solidFill>
              <a:latin typeface="Arial"/>
            </a:endParaRPr>
          </a:p>
        </p:txBody>
      </p:sp>
      <p:pic>
        <p:nvPicPr>
          <p:cNvPr id="974" name="Picture 4" descr="http://www.colorado.edu/GeolSci/courses/GEOL1070/chap04/GR000000.JPG"/>
          <p:cNvPicPr/>
          <p:nvPr/>
        </p:nvPicPr>
        <p:blipFill>
          <a:blip r:embed="rId1"/>
          <a:stretch/>
        </p:blipFill>
        <p:spPr>
          <a:xfrm>
            <a:off x="0" y="0"/>
            <a:ext cx="5929200" cy="6734160"/>
          </a:xfrm>
          <a:prstGeom prst="rect">
            <a:avLst/>
          </a:prstGeom>
          <a:ln w="0">
            <a:noFill/>
          </a:ln>
        </p:spPr>
      </p:pic>
      <p:sp>
        <p:nvSpPr>
          <p:cNvPr id="975" name="Rectangle 6"/>
          <p:cNvSpPr/>
          <p:nvPr/>
        </p:nvSpPr>
        <p:spPr>
          <a:xfrm>
            <a:off x="3202200" y="610920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6" name="Rectangle 2" descr=""/>
          <p:cNvPicPr/>
          <p:nvPr/>
        </p:nvPicPr>
        <p:blipFill>
          <a:blip r:embed="rId1"/>
          <a:stretch/>
        </p:blipFill>
        <p:spPr>
          <a:xfrm>
            <a:off x="444600" y="85680"/>
            <a:ext cx="8022960" cy="1425600"/>
          </a:xfrm>
          <a:prstGeom prst="rect">
            <a:avLst/>
          </a:prstGeom>
          <a:ln w="0">
            <a:noFill/>
          </a:ln>
        </p:spPr>
      </p:pic>
      <p:grpSp>
        <p:nvGrpSpPr>
          <p:cNvPr id="977" name="Group 19"/>
          <p:cNvGrpSpPr/>
          <p:nvPr/>
        </p:nvGrpSpPr>
        <p:grpSpPr>
          <a:xfrm>
            <a:off x="8229600" y="2362320"/>
            <a:ext cx="762120" cy="1600200"/>
            <a:chOff x="8229600" y="2362320"/>
            <a:chExt cx="762120" cy="1600200"/>
          </a:xfrm>
        </p:grpSpPr>
        <p:sp>
          <p:nvSpPr>
            <p:cNvPr id="978" name="Rectangle 20"/>
            <p:cNvSpPr/>
            <p:nvPr/>
          </p:nvSpPr>
          <p:spPr>
            <a:xfrm>
              <a:off x="8534520" y="3124440"/>
              <a:ext cx="15228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AutoShape 21"/>
            <p:cNvSpPr/>
            <p:nvPr/>
          </p:nvSpPr>
          <p:spPr>
            <a:xfrm>
              <a:off x="8229600" y="2362320"/>
              <a:ext cx="76212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0" name="Group 33"/>
          <p:cNvGrpSpPr/>
          <p:nvPr/>
        </p:nvGrpSpPr>
        <p:grpSpPr>
          <a:xfrm>
            <a:off x="0" y="1628640"/>
            <a:ext cx="9151920" cy="4953240"/>
            <a:chOff x="0" y="1628640"/>
            <a:chExt cx="9151920" cy="4953240"/>
          </a:xfrm>
        </p:grpSpPr>
        <p:sp>
          <p:nvSpPr>
            <p:cNvPr id="981" name="AutoShape 5"/>
            <p:cNvSpPr/>
            <p:nvPr/>
          </p:nvSpPr>
          <p:spPr>
            <a:xfrm>
              <a:off x="2209680" y="1628640"/>
              <a:ext cx="1828800" cy="1066680"/>
            </a:xfrm>
            <a:prstGeom prst="cloudCallout">
              <a:avLst>
                <a:gd name="adj1" fmla="val -46875"/>
                <a:gd name="adj2" fmla="val 1860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2" name="Group 32"/>
            <p:cNvGrpSpPr/>
            <p:nvPr/>
          </p:nvGrpSpPr>
          <p:grpSpPr>
            <a:xfrm>
              <a:off x="0" y="1780920"/>
              <a:ext cx="9151920" cy="4800960"/>
              <a:chOff x="0" y="1780920"/>
              <a:chExt cx="9151920" cy="4800960"/>
            </a:xfrm>
          </p:grpSpPr>
          <p:sp>
            <p:nvSpPr>
              <p:cNvPr id="983" name="Freeform 3"/>
              <p:cNvSpPr/>
              <p:nvPr/>
            </p:nvSpPr>
            <p:spPr>
              <a:xfrm>
                <a:off x="1218960" y="3774960"/>
                <a:ext cx="7932960" cy="2806920"/>
              </a:xfrm>
              <a:custGeom>
                <a:avLst/>
                <a:gdLst>
                  <a:gd name="textAreaLeft" fmla="*/ 0 w 7932960"/>
                  <a:gd name="textAreaRight" fmla="*/ 7933320 w 7932960"/>
                  <a:gd name="textAreaTop" fmla="*/ 0 h 2806920"/>
                  <a:gd name="textAreaBottom" fmla="*/ 2807280 h 2806920"/>
                </a:gdLst>
                <a:ahLst/>
                <a:rect l="textAreaLeft" t="textAreaTop" r="textAreaRight" b="textAreaBottom"/>
                <a:pathLst>
                  <a:path w="4997" h="1768">
                    <a:moveTo>
                      <a:pt x="720" y="1576"/>
                    </a:moveTo>
                    <a:lnTo>
                      <a:pt x="2304" y="1336"/>
                    </a:lnTo>
                    <a:lnTo>
                      <a:pt x="2928" y="520"/>
                    </a:lnTo>
                    <a:lnTo>
                      <a:pt x="4560" y="88"/>
                    </a:lnTo>
                    <a:cubicBezTo>
                      <a:pt x="4996" y="136"/>
                      <a:pt x="4939" y="0"/>
                      <a:pt x="4997" y="149"/>
                    </a:cubicBezTo>
                    <a:lnTo>
                      <a:pt x="4992" y="1768"/>
                    </a:lnTo>
                    <a:lnTo>
                      <a:pt x="0" y="1768"/>
                    </a:lnTo>
                    <a:lnTo>
                      <a:pt x="720" y="1576"/>
                    </a:lnTo>
                    <a:close/>
                  </a:path>
                </a:pathLst>
              </a:custGeom>
              <a:solidFill>
                <a:srgbClr val="d2a9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Freeform 4"/>
              <p:cNvSpPr/>
              <p:nvPr/>
            </p:nvSpPr>
            <p:spPr>
              <a:xfrm>
                <a:off x="0" y="5133960"/>
                <a:ext cx="5486400" cy="1447920"/>
              </a:xfrm>
              <a:custGeom>
                <a:avLst/>
                <a:gdLst>
                  <a:gd name="textAreaLeft" fmla="*/ 0 w 5486400"/>
                  <a:gd name="textAreaRight" fmla="*/ 5486760 w 5486400"/>
                  <a:gd name="textAreaTop" fmla="*/ 0 h 1447920"/>
                  <a:gd name="textAreaBottom" fmla="*/ 1448280 h 1447920"/>
                </a:gdLst>
                <a:ahLst/>
                <a:rect l="textAreaLeft" t="textAreaTop" r="textAreaRight" b="textAreaBottom"/>
                <a:pathLst>
                  <a:path w="3456" h="912">
                    <a:moveTo>
                      <a:pt x="3456" y="0"/>
                    </a:moveTo>
                    <a:lnTo>
                      <a:pt x="3072" y="480"/>
                    </a:lnTo>
                    <a:lnTo>
                      <a:pt x="768" y="912"/>
                    </a:lnTo>
                    <a:lnTo>
                      <a:pt x="0" y="912"/>
                    </a:lnTo>
                    <a:lnTo>
                      <a:pt x="0" y="48"/>
                    </a:lnTo>
                    <a:lnTo>
                      <a:pt x="3456" y="0"/>
                    </a:lnTo>
                    <a:close/>
                  </a:path>
                </a:pathLst>
              </a:custGeom>
              <a:solidFill>
                <a:srgbClr val="f0ad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AutoShape 6"/>
              <p:cNvSpPr/>
              <p:nvPr/>
            </p:nvSpPr>
            <p:spPr>
              <a:xfrm>
                <a:off x="685800" y="1780920"/>
                <a:ext cx="1828800" cy="1066680"/>
              </a:xfrm>
              <a:prstGeom prst="cloudCallout">
                <a:avLst>
                  <a:gd name="adj1" fmla="val -46875"/>
                  <a:gd name="adj2" fmla="val 1860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6" name="Group 7"/>
              <p:cNvGrpSpPr/>
              <p:nvPr/>
            </p:nvGrpSpPr>
            <p:grpSpPr>
              <a:xfrm>
                <a:off x="7010640" y="2619000"/>
                <a:ext cx="761760" cy="1600200"/>
                <a:chOff x="7010640" y="2619000"/>
                <a:chExt cx="761760" cy="1600200"/>
              </a:xfrm>
            </p:grpSpPr>
            <p:sp>
              <p:nvSpPr>
                <p:cNvPr id="987" name="Rectangle 8"/>
                <p:cNvSpPr/>
                <p:nvPr/>
              </p:nvSpPr>
              <p:spPr>
                <a:xfrm>
                  <a:off x="7315200" y="338112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AutoShape 9"/>
                <p:cNvSpPr/>
                <p:nvPr/>
              </p:nvSpPr>
              <p:spPr>
                <a:xfrm>
                  <a:off x="7010640" y="261900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9" name="Group 10"/>
              <p:cNvGrpSpPr/>
              <p:nvPr/>
            </p:nvGrpSpPr>
            <p:grpSpPr>
              <a:xfrm>
                <a:off x="7315200" y="2542680"/>
                <a:ext cx="761760" cy="1600200"/>
                <a:chOff x="7315200" y="2542680"/>
                <a:chExt cx="761760" cy="1600200"/>
              </a:xfrm>
            </p:grpSpPr>
            <p:sp>
              <p:nvSpPr>
                <p:cNvPr id="990" name="Rectangle 11"/>
                <p:cNvSpPr/>
                <p:nvPr/>
              </p:nvSpPr>
              <p:spPr>
                <a:xfrm>
                  <a:off x="7619760" y="330480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2"/>
                <p:cNvSpPr/>
                <p:nvPr/>
              </p:nvSpPr>
              <p:spPr>
                <a:xfrm>
                  <a:off x="7315200" y="254268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2" name="Group 13"/>
              <p:cNvGrpSpPr/>
              <p:nvPr/>
            </p:nvGrpSpPr>
            <p:grpSpPr>
              <a:xfrm>
                <a:off x="7620120" y="2466720"/>
                <a:ext cx="761760" cy="1600200"/>
                <a:chOff x="7620120" y="2466720"/>
                <a:chExt cx="761760" cy="1600200"/>
              </a:xfrm>
            </p:grpSpPr>
            <p:sp>
              <p:nvSpPr>
                <p:cNvPr id="993" name="Rectangle 14"/>
                <p:cNvSpPr/>
                <p:nvPr/>
              </p:nvSpPr>
              <p:spPr>
                <a:xfrm>
                  <a:off x="7924680" y="322884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AutoShape 15"/>
                <p:cNvSpPr/>
                <p:nvPr/>
              </p:nvSpPr>
              <p:spPr>
                <a:xfrm>
                  <a:off x="7620120" y="246672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5" name="Group 16"/>
              <p:cNvGrpSpPr/>
              <p:nvPr/>
            </p:nvGrpSpPr>
            <p:grpSpPr>
              <a:xfrm>
                <a:off x="7925040" y="2390400"/>
                <a:ext cx="761760" cy="1600200"/>
                <a:chOff x="7925040" y="2390400"/>
                <a:chExt cx="761760" cy="1600200"/>
              </a:xfrm>
            </p:grpSpPr>
            <p:sp>
              <p:nvSpPr>
                <p:cNvPr id="996" name="Rectangle 17"/>
                <p:cNvSpPr/>
                <p:nvPr/>
              </p:nvSpPr>
              <p:spPr>
                <a:xfrm>
                  <a:off x="8229600" y="315252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AutoShape 18"/>
                <p:cNvSpPr/>
                <p:nvPr/>
              </p:nvSpPr>
              <p:spPr>
                <a:xfrm>
                  <a:off x="7925040" y="239040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8" name="Rectangle 22"/>
              <p:cNvSpPr/>
              <p:nvPr/>
            </p:nvSpPr>
            <p:spPr>
              <a:xfrm>
                <a:off x="4362480" y="1780920"/>
                <a:ext cx="133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mosphere</a:t>
                </a:r>
                <a:endParaRPr b="0" lang="en-US" sz="1800" spc="-1" strike="noStrike">
                  <a:solidFill>
                    <a:srgbClr val="000000"/>
                  </a:solidFill>
                  <a:latin typeface="Arial"/>
                </a:endParaRPr>
              </a:p>
            </p:txBody>
          </p:sp>
          <p:sp>
            <p:nvSpPr>
              <p:cNvPr id="999" name="Rectangle 23"/>
              <p:cNvSpPr/>
              <p:nvPr/>
            </p:nvSpPr>
            <p:spPr>
              <a:xfrm>
                <a:off x="881640" y="559116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rosphere</a:t>
                </a:r>
                <a:endParaRPr b="0" lang="en-US" sz="1800" spc="-1" strike="noStrike">
                  <a:solidFill>
                    <a:srgbClr val="000000"/>
                  </a:solidFill>
                  <a:latin typeface="Arial"/>
                </a:endParaRPr>
              </a:p>
            </p:txBody>
          </p:sp>
          <p:sp>
            <p:nvSpPr>
              <p:cNvPr id="1000" name="Rectangle 24"/>
              <p:cNvSpPr/>
              <p:nvPr/>
            </p:nvSpPr>
            <p:spPr>
              <a:xfrm>
                <a:off x="7027920" y="536256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thosphere</a:t>
                </a:r>
                <a:endParaRPr b="0" lang="en-US" sz="1800" spc="-1" strike="noStrike">
                  <a:solidFill>
                    <a:srgbClr val="000000"/>
                  </a:solidFill>
                  <a:latin typeface="Arial"/>
                </a:endParaRPr>
              </a:p>
            </p:txBody>
          </p:sp>
          <p:sp>
            <p:nvSpPr>
              <p:cNvPr id="1001" name="Rectangle 25"/>
              <p:cNvSpPr/>
              <p:nvPr/>
            </p:nvSpPr>
            <p:spPr>
              <a:xfrm>
                <a:off x="7383240" y="277164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iosphere</a:t>
                </a:r>
                <a:endParaRPr b="0" lang="en-US" sz="1800" spc="-1" strike="noStrike">
                  <a:solidFill>
                    <a:srgbClr val="000000"/>
                  </a:solidFill>
                  <a:latin typeface="Arial"/>
                </a:endParaRPr>
              </a:p>
            </p:txBody>
          </p:sp>
          <p:sp>
            <p:nvSpPr>
              <p:cNvPr id="1002" name="AutoShape 26"/>
              <p:cNvSpPr/>
              <p:nvPr/>
            </p:nvSpPr>
            <p:spPr>
              <a:xfrm>
                <a:off x="3124080" y="5362560"/>
                <a:ext cx="1066680" cy="228600"/>
              </a:xfrm>
              <a:prstGeom prst="cloudCallout">
                <a:avLst>
                  <a:gd name="adj1" fmla="val 7439"/>
                  <a:gd name="adj2" fmla="val 13194"/>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Line 27"/>
              <p:cNvSpPr/>
              <p:nvPr/>
            </p:nvSpPr>
            <p:spPr>
              <a:xfrm flipV="1">
                <a:off x="2514600" y="3381120"/>
                <a:ext cx="4800600" cy="236232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28"/>
              <p:cNvSpPr/>
              <p:nvPr/>
            </p:nvSpPr>
            <p:spPr>
              <a:xfrm>
                <a:off x="5105520" y="2390400"/>
                <a:ext cx="1904760" cy="289584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Line 29"/>
              <p:cNvSpPr/>
              <p:nvPr/>
            </p:nvSpPr>
            <p:spPr>
              <a:xfrm flipH="1">
                <a:off x="2286000" y="2161800"/>
                <a:ext cx="2133360" cy="335304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Line 30"/>
              <p:cNvSpPr/>
              <p:nvPr/>
            </p:nvSpPr>
            <p:spPr>
              <a:xfrm flipH="1">
                <a:off x="7620120" y="3228840"/>
                <a:ext cx="304560" cy="213372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Line 31"/>
              <p:cNvSpPr/>
              <p:nvPr/>
            </p:nvSpPr>
            <p:spPr>
              <a:xfrm>
                <a:off x="5943600" y="2085480"/>
                <a:ext cx="1600200" cy="68580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 name="Line 32"/>
              <p:cNvSpPr/>
              <p:nvPr/>
            </p:nvSpPr>
            <p:spPr>
              <a:xfrm flipV="1">
                <a:off x="2666880" y="5590800"/>
                <a:ext cx="3962520" cy="22860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01:53:09Z</dcterms:created>
  <dc:creator>Lyn Clarkson</dc:creator>
  <dc:description/>
  <dc:language>en-US</dc:language>
  <cp:lastModifiedBy>luponed</cp:lastModifiedBy>
  <dcterms:modified xsi:type="dcterms:W3CDTF">2010-09-14T05:49:59Z</dcterms:modified>
  <cp:revision>20</cp:revision>
  <dc:subject/>
  <dc:title>CYCLING OF MATTER</dc:title>
</cp:coreProperties>
</file>