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8D7D-D2D5-43B8-9F9D-7C88BC03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1B2-DEE7-42C8-A22C-8F927634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7F6C-F5DD-4175-8796-C99B5846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FEC-22A8-44AD-B473-5D62CE0A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D85D-E5F1-4CF5-B755-13D48029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D653-FB05-4F80-81EB-476D4954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711-1871-4E9A-84E9-3CEB485B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C9DB-6C7C-4D1B-821A-A421CE74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3188-A40B-471E-A16D-D0176C19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A70A-5188-4A99-A727-6D75322A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CEC-6B4B-434D-B409-AC10F43B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96E6-2CEF-4320-9D9B-3300A8D0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28A5-4807-474F-883F-7562AA785F28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BIOLOGY UNIT TWO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Organisms and their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REA Of STUDY ONE 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ADAP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imal adap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259-2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ngaroo rats page 2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Adaptations of 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Adaptations aid an organism in its interaction with th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-physiological or functional (how the body opera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-structural (features you can se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-behavioural (what an animal do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5800" y="990720"/>
            <a:ext cx="754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daptations help an organism survive and/or reprod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rganisms interact with the environment which has both biotic (living) components and abiotic (bon-living) component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Environmental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biotic (physical)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AU" sz="2800" spc="-1" strike="noStrike">
                <a:solidFill>
                  <a:srgbClr val="000000"/>
                </a:solidFill>
                <a:latin typeface="Arial Black"/>
              </a:rPr>
              <a:t>What are some abiotic factors that affect the survival of organis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Rain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ali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Nest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Rainf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http://www.frogsaustralia.net.au/images/site/millsap/maps/cyclorana_platycephala.jpg"/>
          <p:cNvPicPr/>
          <p:nvPr/>
        </p:nvPicPr>
        <p:blipFill>
          <a:blip r:embed="rId1"/>
          <a:stretch/>
        </p:blipFill>
        <p:spPr>
          <a:xfrm>
            <a:off x="609480" y="1981080"/>
            <a:ext cx="3505320" cy="323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ngsprints.co.uk/images/T/687413.jpg"/>
          <p:cNvPicPr/>
          <p:nvPr/>
        </p:nvPicPr>
        <p:blipFill>
          <a:blip r:embed="rId2"/>
          <a:stretch/>
        </p:blipFill>
        <p:spPr>
          <a:xfrm>
            <a:off x="4952880" y="2209680"/>
            <a:ext cx="3429000" cy="2271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066680" y="5334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water holding frog emerges after rain in the des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Biotic Conditions- living factor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What are some biotic facto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vailability of m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mpact of pred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mpact of para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petition between members of one spec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ustralia has a wide range of climates and a great diversity of aquatic and terrestrial environ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Organisms ( plant and animal) have structural, functional and behavioural features that are  adaptations to living in their particular environ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daptations are inherited characteristics that increase the likelihood of survival and reproduction of individual organi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swer following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List the abiotic factors that could have an effect on fish living in a p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680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Suggest the consequences to the fish if one or several of these factors were in short supp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680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 With your answer to part b) in mind, explain the meaning of the term ‘Limiting factor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a definition for the word adaptation and explain how it is different to the term adapt to (or aclimitisa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ok at a field example of how biologists collect behavioua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pages 255-2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00:54:53Z</dcterms:created>
  <dc:creator>7108</dc:creator>
  <dc:description/>
  <dc:language>en-US</dc:language>
  <cp:lastModifiedBy>luponed</cp:lastModifiedBy>
  <dcterms:modified xsi:type="dcterms:W3CDTF">2010-07-19T05:32:35Z</dcterms:modified>
  <cp:revision>53</cp:revision>
  <dc:subject/>
  <dc:title>FIRE</dc:title>
</cp:coreProperties>
</file>