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A7F0-AA75-4910-A800-602A8C6E6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412D-058A-463F-AA81-E6C8446CC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74F0-4583-4630-8CBF-774ACF82F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05A6-CF1B-4385-B208-01BBF665B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F4AD-D5C1-4742-9AF4-F0751E510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85FA-990C-4E73-807A-B75C38C13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44FA-8D80-4EE4-9EF2-EA8BBDB86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B83C1-0CA3-4D85-86A9-6F69B25A7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3CC1-ED51-450D-8CBC-11B6B6B5D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1B5B-9985-4E7E-ADF8-9DD0E5D6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A67D-ABE8-4357-B791-E2304A88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A730-3FB4-477E-880A-560A797F7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DD8CF-DD2F-4A79-8F15-3353F88B770C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BIOLOGY UNIT TWO</a:t>
            </a:r>
            <a:br>
              <a:rPr sz="4400"/>
            </a:b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Organisms and their Environ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AREA Of STUDY ONE 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ADAP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nimal adapt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ge 259-2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angaroo rats page 26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Adaptations of Organis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Adaptations aid an organism in its interaction with the enviro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-physiological or functional (how the body operat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-structural (features you can see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-behavioural (what an animal do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685800" y="990720"/>
            <a:ext cx="7543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Adaptations help an organism survive and/or reprodu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Organisms interact with the environment which has both biotic (living) components and abiotic (bon-living) components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Environmental Cond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Abiotic (physical) fac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1" lang="en-AU" sz="2800" spc="-1" strike="noStrike">
                <a:solidFill>
                  <a:srgbClr val="000000"/>
                </a:solidFill>
                <a:latin typeface="Arial Black"/>
              </a:rPr>
              <a:t>What are some abiotic factors that affect the survival of organism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Rainf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Temper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Sali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So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Nest s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l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Rainf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http://www.frogsaustralia.net.au/images/site/millsap/maps/cyclorana_platycephala.jpg"/>
          <p:cNvPicPr/>
          <p:nvPr/>
        </p:nvPicPr>
        <p:blipFill>
          <a:blip r:embed="rId1"/>
          <a:stretch/>
        </p:blipFill>
        <p:spPr>
          <a:xfrm>
            <a:off x="609480" y="1981080"/>
            <a:ext cx="3505320" cy="3238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http://www.ngsprints.co.uk/images/T/687413.jpg"/>
          <p:cNvPicPr/>
          <p:nvPr/>
        </p:nvPicPr>
        <p:blipFill>
          <a:blip r:embed="rId2"/>
          <a:stretch/>
        </p:blipFill>
        <p:spPr>
          <a:xfrm>
            <a:off x="4952880" y="2209680"/>
            <a:ext cx="3429000" cy="22719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7"/>
          <p:cNvSpPr/>
          <p:nvPr/>
        </p:nvSpPr>
        <p:spPr>
          <a:xfrm>
            <a:off x="1066680" y="53341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he water holding frog emerges after rain in the dese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Biotic Conditions- living factors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What are some biotic facto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Availability of m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Impact of pred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Impact of paras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Competition between members of one speci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Australia has a wide range of climates and a great diversity of aquatic and terrestrial environ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Times New Roman"/>
              </a:rPr>
              <a:t>Organisms ( plant and animal) have structural, functional and behavioural features that are  adaptations to living in their particular environmen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Adap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Adaptations are inherited characteristics that increase the likelihood of survival and reproduction of individual organis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nswer following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68000" indent="-46800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)List the abiotic factors that could have an effect on fish living in a po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4680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) Suggest the consequences to the fish if one or several of these factors were in short supp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4680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) With your answer to part b) in mind, explain the meaning of the term ‘Limiting factor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8000" indent="-46800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ite a definition for the word adaptation and explain how it is different to the term adapt to (or aclimitisatio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8000" indent="-46800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ok at a field example of how biologists collect behavioual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ete pages 255-25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4T00:54:53Z</dcterms:created>
  <dc:creator>7108</dc:creator>
  <dc:description/>
  <dc:language>en-US</dc:language>
  <cp:lastModifiedBy>luponed</cp:lastModifiedBy>
  <dcterms:modified xsi:type="dcterms:W3CDTF">2010-07-19T05:32:35Z</dcterms:modified>
  <cp:revision>53</cp:revision>
  <dc:subject/>
  <dc:title>FIRE</dc:title>
</cp:coreProperties>
</file>