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33D-5045-4269-8AEC-D3567530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A0A-046F-42C3-B6C7-310AF0AE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E68-E987-4220-A6E8-951F5B61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0D1-5701-4412-8B34-5E1FD2D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AE9-CC07-42A7-8F27-08523BB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81D-49FF-4BB6-8DE8-0C74153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58B-507F-4EA2-A38D-76EFC1EB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4E1-757B-4F62-8FF4-5965655E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452-D4EB-4DBA-9176-6DD1A7E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73A-E110-41CB-89AF-18F972F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CB5-6A67-4B00-934A-4319023E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B9C-65FA-42D7-A022-40D81CA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CCD-615B-4F04-9544-50A83F1419A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LOGY UNIT TWO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Organisms and their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REA Of STUDY ONE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imal adap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259-2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ngaroo rats page 2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 aid an organism in its interaction with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physiological or functional (how the body ope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structural (features you can se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ehavioural (what an animal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990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daptations help an organism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ganisms interact with the environment which has both biotic (living) components and abiotic (bon-living) component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biotic (physical)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What are some abiotic factors that affect the survival of organis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es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rogsaustralia.net.au/images/site/millsap/maps/cyclorana_platycephala.jpg"/>
          <p:cNvPicPr/>
          <p:nvPr/>
        </p:nvPicPr>
        <p:blipFill>
          <a:blip r:embed="rId1"/>
          <a:stretch/>
        </p:blipFill>
        <p:spPr>
          <a:xfrm>
            <a:off x="609480" y="1981080"/>
            <a:ext cx="3505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gsprints.co.uk/images/T/687413.jpg"/>
          <p:cNvPicPr/>
          <p:nvPr/>
        </p:nvPicPr>
        <p:blipFill>
          <a:blip r:embed="rId2"/>
          <a:stretch/>
        </p:blipFill>
        <p:spPr>
          <a:xfrm>
            <a:off x="4952880" y="2209680"/>
            <a:ext cx="342900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066680" y="5334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water holding frog emerges after rain in the 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tic Conditions- living facto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What are some biotic fact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vailability of 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between members of one spe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ustralia has a wide range of climates and a great diversity of aquatic and terrestri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Organisms ( plant and animal) have structural, functional and behavioural features that are  adaptations to living in their particular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aptations are inherited characteristics that increase the likelihood of survival and reproduction of individual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 follow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List the abiotic factors that could have an effect on fish living in a p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uggest the consequences to the fish if one or several of these factors were in short su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With your answer to part b) in mind, explain the meaning of the term ‘Limiting fac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definition for the word adaptation and explain how it is different to the term adapt to (or aclimitis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a field example of how biologists collect behaviou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pages 255-2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54:53Z</dcterms:created>
  <dc:creator>7108</dc:creator>
  <dc:description/>
  <dc:language>en-US</dc:language>
  <cp:lastModifiedBy>luponed</cp:lastModifiedBy>
  <dcterms:modified xsi:type="dcterms:W3CDTF">2010-07-19T05:32:35Z</dcterms:modified>
  <cp:revision>53</cp:revision>
  <dc:subject/>
  <dc:title>FIRE</dc:title>
</cp:coreProperties>
</file>