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8104-466D-4152-A2A3-5467E615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886A-9CAE-4E06-A1F8-9BB0776B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BE04-3E93-474E-824A-AEE5BABE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8D00-C6A0-46B8-B3C0-B6CBF7677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5E75-FC36-4CA2-A773-BC9CF9C5A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0DDE-D073-436E-979B-24F72B564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6919-4043-438F-A879-2BC297467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7A13-2433-455A-91F7-2F71CAC05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404-B352-4186-9800-6A6E2C85E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817C-38D6-4692-AA92-071DC86A0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2472-0E59-4B15-B4F7-FDAFD80AF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16CA-EA19-476C-8E44-1D00BF2B6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7C423-8923-41FB-9CC5-43D4D5B9755F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BIOLOGY UNIT TWO</a:t>
            </a:r>
            <a:br>
              <a:rPr sz="4400"/>
            </a:b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Organisms and their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REA Of STUDY ONE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DAPT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imal adap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ge 259-2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angaroo rats page 2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Adaptations of Organis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30481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Adaptations aid an organism in its interaction with the environ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physiological or functional (how the body opera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structural (features you can see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-behavioural (what an animal do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85800" y="990720"/>
            <a:ext cx="754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daptations help an organism survive and/or repro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rganisms interact with the environment which has both biotic (living) components and abiotic (bon-living) components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Environmental Cond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biotic (physical) fac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0000"/>
                </a:solidFill>
                <a:latin typeface="Arial Black"/>
              </a:rPr>
              <a:t>   </a:t>
            </a:r>
            <a:r>
              <a:rPr b="1" lang="en-AU" sz="2800" spc="-1" strike="noStrike">
                <a:solidFill>
                  <a:srgbClr val="000000"/>
                </a:solidFill>
                <a:latin typeface="Arial Black"/>
              </a:rPr>
              <a:t>What are some abiotic factors that affect the survival of organis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Rainf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p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ali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So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Nest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Rainfa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ttp://www.frogsaustralia.net.au/images/site/millsap/maps/cyclorana_platycephala.jpg"/>
          <p:cNvPicPr/>
          <p:nvPr/>
        </p:nvPicPr>
        <p:blipFill>
          <a:blip r:embed="rId1"/>
          <a:stretch/>
        </p:blipFill>
        <p:spPr>
          <a:xfrm>
            <a:off x="609480" y="1981080"/>
            <a:ext cx="3505320" cy="32385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http://www.ngsprints.co.uk/images/T/687413.jpg"/>
          <p:cNvPicPr/>
          <p:nvPr/>
        </p:nvPicPr>
        <p:blipFill>
          <a:blip r:embed="rId2"/>
          <a:stretch/>
        </p:blipFill>
        <p:spPr>
          <a:xfrm>
            <a:off x="4952880" y="2209680"/>
            <a:ext cx="3429000" cy="22719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7"/>
          <p:cNvSpPr/>
          <p:nvPr/>
        </p:nvSpPr>
        <p:spPr>
          <a:xfrm>
            <a:off x="1066680" y="533412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water holding frog emerges after rain in the deser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Biotic Conditions- living factors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Times New Roman"/>
              </a:rPr>
              <a:t>What are some biotic facto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vailability of m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mpact of preda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mpact of para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mpetition between members of one spec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ustralia has a wide range of climates and a great diversity of aquatic and terrestrial environ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Times New Roman"/>
              </a:rPr>
              <a:t>Organisms ( plant and animal) have structural, functional and behavioural features that are  adaptations to living in their particular environ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Adap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Adaptations are inherited characteristics that increase the likelihood of survival and reproduction of individual organis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swer following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68000" indent="-4680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)List the abiotic factors that could have an effect on fish living in a po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680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) Suggest the consequences to the fish if one or several of these factors were in short supp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4680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) With your answer to part b) in mind, explain the meaning of the term ‘Limiting factor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rite a definition for the word adaptation and explain how it is different to the term adapt to (or aclimitisatio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8000" indent="-468000">
              <a:spcBef>
                <a:spcPts val="7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ook at a field example of how biologists collect behavioual da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pages 255-25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00:54:53Z</dcterms:created>
  <dc:creator>7108</dc:creator>
  <dc:description/>
  <dc:language>en-US</dc:language>
  <cp:lastModifiedBy>luponed</cp:lastModifiedBy>
  <dcterms:modified xsi:type="dcterms:W3CDTF">2010-07-19T05:32:35Z</dcterms:modified>
  <cp:revision>53</cp:revision>
  <dc:subject/>
  <dc:title>FIRE</dc:title>
</cp:coreProperties>
</file>