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56D1E-DDA9-42BA-AF56-8CC96370B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3713C-6037-4F4A-AE58-2E5F388C2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24D5-6882-486E-A65C-44A2FC4390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86053-0EB1-4F6B-A891-48CB5AED22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8772-61BA-49E5-9D08-E0F07EADD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DBB4-69FB-4BAF-AE04-F355174A2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F021-33B1-4A5D-B900-3C728ED2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6A2B5-A9F1-4E31-B556-8F432FCDCE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8F3BF-61A0-41A5-86DA-04D9EB812D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8F91-15E7-4415-B95D-4D9F692D1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BFCE-F624-408F-879A-DD20B2C20A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F83C3-F1D7-47F3-9B43-70F0425BDE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C2484-4EE8-46C1-8F03-FD621493E2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4BDDF-4F0F-4674-BB0A-B4840B6AE4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5E344-E539-4445-837F-FAD8723C36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7AC58-A4AD-429A-BA92-E8265F19205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BCFB4-EC3D-497F-B265-26B09DA7E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70CB8-D5B6-4F27-95F9-7495C77C45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A1AC0-4915-49E8-8090-8524D32450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1FB67-5F51-4FA5-AF84-D067C0D3A1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4ABB-1935-4171-A538-633B4F8D72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146CD-5D0A-48CD-91C8-4BC2796413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052F4-AEA9-42F4-B937-FDC13E135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021520" y="5778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81320" y="380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7026-EBBD-461C-9A2A-56FBACF0F35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courses.washington.edu/vertebra/453/photos/gut_photos/rabbit_cecum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www.charismac.com/images/rabbit.jpg&amp;imgrefurl=http://www.charismac.com/&amp;h=378&amp;w=405&amp;sz=44&amp;tbnid=f4egH-qP6GIJ:&amp;tbnh=112&amp;tbnw=120&amp;prev=/images?q=rabbit&amp;hl=en&amp;lr=&amp;ie=UTF-8&amp;oe=UTF-8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www.gov.bw/tourism/multimedia/img/elephant.jpg&amp;imgrefurl=http://www.gov.bw/tourism/multimedia/multimedia.html&amp;h=600&amp;w=800&amp;sz=128&amp;tbnid=XsGM6DXBSFoJ:&amp;tbnh=106&amp;tbnw=141&amp;prev=/images?q=elephant&amp;hl=en&amp;lr=&amp;ie=UTF-8&amp;oe=UTF-8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www.harunyahya.com/kids/pictures/wallpaper1024/zebra.jpg&amp;imgrefurl=http://www.harunyahya.com/kids/pictures.html&amp;h=768&amp;w=1024&amp;sz=123&amp;tbnid=pceRFxgYLf4J:&amp;tbnh=112&amp;tbnw=149&amp;prev=/images?q=zebra&amp;hl=en&amp;lr=&amp;ie=UTF-8&amp;oe=UTF-8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www.sacrs.org.za/ecm21/gallery/black-wildebeest-01300120b.jpg&amp;imgrefurl=http://www.sacrs.org.za/ecm21/gallery/Gallery1.html&amp;h=720&amp;w=1024&amp;sz=215&amp;tbnid=7be5hDYtmtwJ:&amp;tbnh=105&amp;tbnw=149&amp;prev=/images?q=wildebeest&amp;hl=en&amp;lr=&amp;ie=UTF-8&amp;oe=UTF-8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monteverdetours.com/images/gallery1/sloth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peachkin.com/ecards/pics/kangaroo.jpg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www.guidedculturaltours.com/wildlife/hoatzin.jpg" TargetMode="External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gestive System of Animal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(nutrients and digestive 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estive system of humans (Dummy and hand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pages131-1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mework – different diets p 13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8F96D-503E-4CB4-8E7E-BC3DDBCDB37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FC87-635B-439D-9666-421A19DA958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47920" y="12193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1063800" y="2209680"/>
            <a:ext cx="5323680" cy="1054080"/>
            <a:chOff x="1063800" y="2209680"/>
            <a:chExt cx="5323680" cy="1054080"/>
          </a:xfrm>
        </p:grpSpPr>
        <p:sp>
          <p:nvSpPr>
            <p:cNvPr id="137" name="Text Box 4"/>
            <p:cNvSpPr/>
            <p:nvPr/>
          </p:nvSpPr>
          <p:spPr>
            <a:xfrm>
              <a:off x="1063800" y="2209680"/>
              <a:ext cx="38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t easy to do: requires </a:t>
              </a: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Lysozy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2779200" y="2895480"/>
              <a:ext cx="36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st mammals secrete in sal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2819520" y="2743200"/>
            <a:ext cx="6113520" cy="2971800"/>
            <a:chOff x="2819520" y="2743200"/>
            <a:chExt cx="6113520" cy="2971800"/>
          </a:xfrm>
        </p:grpSpPr>
        <p:sp>
          <p:nvSpPr>
            <p:cNvPr id="140" name="Text Box 7"/>
            <p:cNvSpPr/>
            <p:nvPr/>
          </p:nvSpPr>
          <p:spPr>
            <a:xfrm>
              <a:off x="2819520" y="3581280"/>
              <a:ext cx="40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 aa substitutions allow enzyme to be acid - tolerant in cow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Picture 8" descr="cow eating hay"/>
            <p:cNvPicPr/>
            <p:nvPr/>
          </p:nvPicPr>
          <p:blipFill>
            <a:blip r:embed="rId1"/>
            <a:stretch/>
          </p:blipFill>
          <p:spPr>
            <a:xfrm>
              <a:off x="6858000" y="2743200"/>
              <a:ext cx="207504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9"/>
          <p:cNvGrpSpPr/>
          <p:nvPr/>
        </p:nvGrpSpPr>
        <p:grpSpPr>
          <a:xfrm>
            <a:off x="380880" y="2743200"/>
            <a:ext cx="6365520" cy="3219480"/>
            <a:chOff x="380880" y="2743200"/>
            <a:chExt cx="6365520" cy="3219480"/>
          </a:xfrm>
        </p:grpSpPr>
        <p:sp>
          <p:nvSpPr>
            <p:cNvPr id="143" name="Text Box 10"/>
            <p:cNvSpPr/>
            <p:nvPr/>
          </p:nvSpPr>
          <p:spPr>
            <a:xfrm>
              <a:off x="2882160" y="4572000"/>
              <a:ext cx="38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me 4 substitutions in the lang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4" name="Picture 11" descr="langur"/>
            <p:cNvPicPr/>
            <p:nvPr/>
          </p:nvPicPr>
          <p:blipFill>
            <a:blip r:embed="rId2"/>
            <a:stretch/>
          </p:blipFill>
          <p:spPr>
            <a:xfrm>
              <a:off x="380880" y="2743200"/>
              <a:ext cx="2300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228840" y="514656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009f5"/>
                  </a:solidFill>
                  <a:latin typeface="Comic Sans MS"/>
                </a:rPr>
                <a:t>Independent evolution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997A4-D486-4C00-B862-4851C60377F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Rumination or fore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highly efficient way to use cellulose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53360" y="2257560"/>
            <a:ext cx="630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vat (rumen) comes before the “stomach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Food is entirely processed by microorganis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energ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F34A5-9115-4C45-B4AF-31C6CA56BFEA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Foregut fermenters: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51" name="Picture 3" descr="llama"/>
          <p:cNvPicPr/>
          <p:nvPr/>
        </p:nvPicPr>
        <p:blipFill>
          <a:blip r:embed="rId1"/>
          <a:stretch/>
        </p:blipFill>
        <p:spPr>
          <a:xfrm>
            <a:off x="382680" y="900000"/>
            <a:ext cx="3151080" cy="518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sheep"/>
          <p:cNvPicPr/>
          <p:nvPr/>
        </p:nvPicPr>
        <p:blipFill>
          <a:blip r:embed="rId2"/>
          <a:stretch/>
        </p:blipFill>
        <p:spPr>
          <a:xfrm>
            <a:off x="4610160" y="923760"/>
            <a:ext cx="3492360" cy="50752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3425760" y="158112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7900920" y="148428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074840" y="2274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35400" y="58514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Both have enlarged, multi-chambered foreg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88080" y="2158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CB27-7F5F-438A-85C3-0B6207220D59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er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60" name="Picture 3" descr="pony"/>
          <p:cNvPicPr/>
          <p:nvPr/>
        </p:nvPicPr>
        <p:blipFill>
          <a:blip r:embed="rId1"/>
          <a:stretch/>
        </p:blipFill>
        <p:spPr>
          <a:xfrm>
            <a:off x="947880" y="1025640"/>
            <a:ext cx="3090600" cy="494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apybara"/>
          <p:cNvPicPr/>
          <p:nvPr/>
        </p:nvPicPr>
        <p:blipFill>
          <a:blip r:embed="rId2"/>
          <a:stretch/>
        </p:blipFill>
        <p:spPr>
          <a:xfrm>
            <a:off x="4971960" y="1273320"/>
            <a:ext cx="2935440" cy="4624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3968640" y="2525760"/>
            <a:ext cx="542880" cy="2976480"/>
          </a:xfrm>
          <a:custGeom>
            <a:avLst/>
            <a:gdLst>
              <a:gd name="textAreaLeft" fmla="*/ 0 w 542880"/>
              <a:gd name="textAreaRight" fmla="*/ 195840 w 542880"/>
              <a:gd name="textAreaTop" fmla="*/ 77400 h 2976480"/>
              <a:gd name="textAreaBottom" fmla="*/ 289908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905600" y="2446200"/>
            <a:ext cx="295560" cy="1629000"/>
          </a:xfrm>
          <a:custGeom>
            <a:avLst/>
            <a:gdLst>
              <a:gd name="textAreaLeft" fmla="*/ 0 w 295560"/>
              <a:gd name="textAreaRight" fmla="*/ 106560 w 2955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144640" y="30337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c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20960" y="3917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454560" y="57754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Enlarge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689520" y="10350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 big S. Americ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66699-181E-487F-8E39-5059BA9D618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4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way to use cellulose without losing the rest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of your dietary nutrient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3960" y="2305080"/>
            <a:ext cx="75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chamber(s) comes after the “stomach”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mall 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nlarged hindgut or pouches called “ceca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Microorganisms get what the animal doesn’t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if your diet is of higher qua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hindgut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Excess microorganisms are defe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ndgut fermenters miss out on microbial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E731-4AAA-4BA6-88BC-7176753E679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488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prophagy in rabbi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33920" y="4267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s two kinds of fe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lots of undigested fi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is a clearance of caecal contents (soft, high in microbial cont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 eat this to gain microbial nutritio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rabbit"/>
          <p:cNvPicPr/>
          <p:nvPr/>
        </p:nvPicPr>
        <p:blipFill>
          <a:blip r:embed="rId1"/>
          <a:srcRect l="0" t="0" r="0" b="12444"/>
          <a:stretch/>
        </p:blipFill>
        <p:spPr>
          <a:xfrm>
            <a:off x="304920" y="0"/>
            <a:ext cx="3017880" cy="36036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3505320" y="1828800"/>
            <a:ext cx="99036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2" descr="rabbit_cec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733920"/>
            <a:ext cx="28958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9"/>
          <p:cNvGrpSpPr/>
          <p:nvPr/>
        </p:nvGrpSpPr>
        <p:grpSpPr>
          <a:xfrm>
            <a:off x="4850640" y="1066680"/>
            <a:ext cx="3627000" cy="3015360"/>
            <a:chOff x="4850640" y="1066680"/>
            <a:chExt cx="3627000" cy="3015360"/>
          </a:xfrm>
        </p:grpSpPr>
        <p:grpSp>
          <p:nvGrpSpPr>
            <p:cNvPr id="178" name="Group 40"/>
            <p:cNvGrpSpPr/>
            <p:nvPr/>
          </p:nvGrpSpPr>
          <p:grpSpPr>
            <a:xfrm>
              <a:off x="4942800" y="1591920"/>
              <a:ext cx="3174120" cy="1920600"/>
              <a:chOff x="4942800" y="1591920"/>
              <a:chExt cx="3174120" cy="1920600"/>
            </a:xfrm>
          </p:grpSpPr>
          <p:sp>
            <p:nvSpPr>
              <p:cNvPr id="179" name="Freeform 41"/>
              <p:cNvSpPr/>
              <p:nvPr/>
            </p:nvSpPr>
            <p:spPr>
              <a:xfrm>
                <a:off x="4942800" y="1963800"/>
                <a:ext cx="290880" cy="15030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503000"/>
                  <a:gd name="textAreaBottom" fmla="*/ 1503360 h 1503000"/>
                </a:gdLst>
                <a:ahLst/>
                <a:rect l="textAreaLeft" t="textAreaTop" r="textAreaRight" b="textAreaBottom"/>
                <a:pathLst>
                  <a:path w="255" h="1224">
                    <a:moveTo>
                      <a:pt x="37" y="0"/>
                    </a:moveTo>
                    <a:cubicBezTo>
                      <a:pt x="79" y="42"/>
                      <a:pt x="109" y="76"/>
                      <a:pt x="158" y="109"/>
                    </a:cubicBezTo>
                    <a:cubicBezTo>
                      <a:pt x="170" y="125"/>
                      <a:pt x="181" y="142"/>
                      <a:pt x="194" y="158"/>
                    </a:cubicBezTo>
                    <a:cubicBezTo>
                      <a:pt x="201" y="166"/>
                      <a:pt x="213" y="171"/>
                      <a:pt x="219" y="182"/>
                    </a:cubicBezTo>
                    <a:cubicBezTo>
                      <a:pt x="230" y="204"/>
                      <a:pt x="243" y="254"/>
                      <a:pt x="243" y="254"/>
                    </a:cubicBezTo>
                    <a:cubicBezTo>
                      <a:pt x="247" y="302"/>
                      <a:pt x="255" y="351"/>
                      <a:pt x="255" y="400"/>
                    </a:cubicBezTo>
                    <a:cubicBezTo>
                      <a:pt x="255" y="473"/>
                      <a:pt x="229" y="548"/>
                      <a:pt x="206" y="618"/>
                    </a:cubicBezTo>
                    <a:cubicBezTo>
                      <a:pt x="175" y="708"/>
                      <a:pt x="150" y="793"/>
                      <a:pt x="97" y="873"/>
                    </a:cubicBezTo>
                    <a:cubicBezTo>
                      <a:pt x="58" y="987"/>
                      <a:pt x="0" y="1102"/>
                      <a:pt x="0" y="1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5398920" y="1591920"/>
                <a:ext cx="2718000" cy="1920600"/>
              </a:xfrm>
              <a:custGeom>
                <a:avLst/>
                <a:gdLst>
                  <a:gd name="textAreaLeft" fmla="*/ 0 w 2718000"/>
                  <a:gd name="textAreaRight" fmla="*/ 2718360 w 2718000"/>
                  <a:gd name="textAreaTop" fmla="*/ 0 h 1920600"/>
                  <a:gd name="textAreaBottom" fmla="*/ 1920960 h 1920600"/>
                </a:gdLst>
                <a:ahLst/>
                <a:rect l="textAreaLeft" t="textAreaTop" r="textAreaRight" b="textAreaBottom"/>
                <a:pathLst>
                  <a:path w="2382" h="1564">
                    <a:moveTo>
                      <a:pt x="0" y="109"/>
                    </a:moveTo>
                    <a:cubicBezTo>
                      <a:pt x="2" y="121"/>
                      <a:pt x="16" y="201"/>
                      <a:pt x="25" y="218"/>
                    </a:cubicBezTo>
                    <a:cubicBezTo>
                      <a:pt x="50" y="269"/>
                      <a:pt x="85" y="311"/>
                      <a:pt x="109" y="364"/>
                    </a:cubicBezTo>
                    <a:cubicBezTo>
                      <a:pt x="131" y="413"/>
                      <a:pt x="144" y="468"/>
                      <a:pt x="158" y="521"/>
                    </a:cubicBezTo>
                    <a:cubicBezTo>
                      <a:pt x="181" y="450"/>
                      <a:pt x="151" y="515"/>
                      <a:pt x="206" y="461"/>
                    </a:cubicBezTo>
                    <a:cubicBezTo>
                      <a:pt x="216" y="450"/>
                      <a:pt x="220" y="434"/>
                      <a:pt x="231" y="424"/>
                    </a:cubicBezTo>
                    <a:cubicBezTo>
                      <a:pt x="282" y="372"/>
                      <a:pt x="385" y="371"/>
                      <a:pt x="449" y="364"/>
                    </a:cubicBezTo>
                    <a:cubicBezTo>
                      <a:pt x="461" y="359"/>
                      <a:pt x="472" y="351"/>
                      <a:pt x="485" y="351"/>
                    </a:cubicBezTo>
                    <a:cubicBezTo>
                      <a:pt x="501" y="351"/>
                      <a:pt x="517" y="366"/>
                      <a:pt x="534" y="364"/>
                    </a:cubicBezTo>
                    <a:cubicBezTo>
                      <a:pt x="545" y="362"/>
                      <a:pt x="549" y="346"/>
                      <a:pt x="558" y="339"/>
                    </a:cubicBezTo>
                    <a:cubicBezTo>
                      <a:pt x="569" y="329"/>
                      <a:pt x="581" y="321"/>
                      <a:pt x="594" y="315"/>
                    </a:cubicBezTo>
                    <a:cubicBezTo>
                      <a:pt x="643" y="290"/>
                      <a:pt x="711" y="286"/>
                      <a:pt x="764" y="279"/>
                    </a:cubicBezTo>
                    <a:cubicBezTo>
                      <a:pt x="845" y="295"/>
                      <a:pt x="884" y="338"/>
                      <a:pt x="958" y="364"/>
                    </a:cubicBezTo>
                    <a:cubicBezTo>
                      <a:pt x="1019" y="269"/>
                      <a:pt x="1053" y="160"/>
                      <a:pt x="1152" y="97"/>
                    </a:cubicBezTo>
                    <a:cubicBezTo>
                      <a:pt x="1221" y="105"/>
                      <a:pt x="1290" y="111"/>
                      <a:pt x="1358" y="133"/>
                    </a:cubicBezTo>
                    <a:cubicBezTo>
                      <a:pt x="1441" y="77"/>
                      <a:pt x="1502" y="60"/>
                      <a:pt x="1600" y="36"/>
                    </a:cubicBezTo>
                    <a:cubicBezTo>
                      <a:pt x="1616" y="40"/>
                      <a:pt x="1634" y="40"/>
                      <a:pt x="1649" y="48"/>
                    </a:cubicBezTo>
                    <a:cubicBezTo>
                      <a:pt x="1659" y="53"/>
                      <a:pt x="1663" y="66"/>
                      <a:pt x="1673" y="73"/>
                    </a:cubicBezTo>
                    <a:cubicBezTo>
                      <a:pt x="1683" y="79"/>
                      <a:pt x="1697" y="81"/>
                      <a:pt x="1709" y="85"/>
                    </a:cubicBezTo>
                    <a:cubicBezTo>
                      <a:pt x="1780" y="67"/>
                      <a:pt x="1849" y="32"/>
                      <a:pt x="1915" y="0"/>
                    </a:cubicBezTo>
                    <a:cubicBezTo>
                      <a:pt x="1930" y="2"/>
                      <a:pt x="2000" y="10"/>
                      <a:pt x="2024" y="24"/>
                    </a:cubicBezTo>
                    <a:cubicBezTo>
                      <a:pt x="2107" y="73"/>
                      <a:pt x="1984" y="26"/>
                      <a:pt x="2085" y="60"/>
                    </a:cubicBezTo>
                    <a:cubicBezTo>
                      <a:pt x="2142" y="40"/>
                      <a:pt x="2198" y="40"/>
                      <a:pt x="2243" y="85"/>
                    </a:cubicBezTo>
                    <a:cubicBezTo>
                      <a:pt x="2283" y="206"/>
                      <a:pt x="2215" y="19"/>
                      <a:pt x="2291" y="157"/>
                    </a:cubicBezTo>
                    <a:cubicBezTo>
                      <a:pt x="2303" y="179"/>
                      <a:pt x="2300" y="208"/>
                      <a:pt x="2315" y="230"/>
                    </a:cubicBezTo>
                    <a:cubicBezTo>
                      <a:pt x="2331" y="254"/>
                      <a:pt x="2364" y="303"/>
                      <a:pt x="2364" y="303"/>
                    </a:cubicBezTo>
                    <a:cubicBezTo>
                      <a:pt x="2382" y="357"/>
                      <a:pt x="2364" y="417"/>
                      <a:pt x="2352" y="473"/>
                    </a:cubicBezTo>
                    <a:cubicBezTo>
                      <a:pt x="2349" y="485"/>
                      <a:pt x="2348" y="500"/>
                      <a:pt x="2339" y="509"/>
                    </a:cubicBezTo>
                    <a:cubicBezTo>
                      <a:pt x="2329" y="517"/>
                      <a:pt x="2315" y="517"/>
                      <a:pt x="2303" y="521"/>
                    </a:cubicBezTo>
                    <a:cubicBezTo>
                      <a:pt x="2331" y="691"/>
                      <a:pt x="2351" y="917"/>
                      <a:pt x="2158" y="982"/>
                    </a:cubicBezTo>
                    <a:cubicBezTo>
                      <a:pt x="2100" y="963"/>
                      <a:pt x="2069" y="920"/>
                      <a:pt x="2036" y="873"/>
                    </a:cubicBezTo>
                    <a:cubicBezTo>
                      <a:pt x="1969" y="1006"/>
                      <a:pt x="1891" y="1078"/>
                      <a:pt x="1746" y="1115"/>
                    </a:cubicBezTo>
                    <a:cubicBezTo>
                      <a:pt x="1627" y="1105"/>
                      <a:pt x="1607" y="1123"/>
                      <a:pt x="1540" y="1054"/>
                    </a:cubicBezTo>
                    <a:cubicBezTo>
                      <a:pt x="1513" y="979"/>
                      <a:pt x="1546" y="1036"/>
                      <a:pt x="1455" y="1067"/>
                    </a:cubicBezTo>
                    <a:cubicBezTo>
                      <a:pt x="1430" y="1075"/>
                      <a:pt x="1406" y="1082"/>
                      <a:pt x="1382" y="1091"/>
                    </a:cubicBezTo>
                    <a:cubicBezTo>
                      <a:pt x="1369" y="1094"/>
                      <a:pt x="1346" y="1103"/>
                      <a:pt x="1346" y="1103"/>
                    </a:cubicBezTo>
                    <a:cubicBezTo>
                      <a:pt x="1160" y="1088"/>
                      <a:pt x="1223" y="1103"/>
                      <a:pt x="1103" y="1042"/>
                    </a:cubicBezTo>
                    <a:cubicBezTo>
                      <a:pt x="1087" y="1046"/>
                      <a:pt x="1067" y="1043"/>
                      <a:pt x="1055" y="1054"/>
                    </a:cubicBezTo>
                    <a:cubicBezTo>
                      <a:pt x="987" y="1113"/>
                      <a:pt x="1010" y="1206"/>
                      <a:pt x="921" y="1236"/>
                    </a:cubicBezTo>
                    <a:cubicBezTo>
                      <a:pt x="673" y="1224"/>
                      <a:pt x="702" y="1263"/>
                      <a:pt x="570" y="1164"/>
                    </a:cubicBezTo>
                    <a:cubicBezTo>
                      <a:pt x="566" y="1151"/>
                      <a:pt x="569" y="1131"/>
                      <a:pt x="558" y="1127"/>
                    </a:cubicBezTo>
                    <a:cubicBezTo>
                      <a:pt x="550" y="1124"/>
                      <a:pt x="484" y="1147"/>
                      <a:pt x="473" y="1151"/>
                    </a:cubicBezTo>
                    <a:cubicBezTo>
                      <a:pt x="363" y="1123"/>
                      <a:pt x="407" y="1137"/>
                      <a:pt x="340" y="1115"/>
                    </a:cubicBezTo>
                    <a:cubicBezTo>
                      <a:pt x="331" y="1107"/>
                      <a:pt x="320" y="1100"/>
                      <a:pt x="315" y="1091"/>
                    </a:cubicBezTo>
                    <a:cubicBezTo>
                      <a:pt x="308" y="1079"/>
                      <a:pt x="313" y="1062"/>
                      <a:pt x="303" y="1054"/>
                    </a:cubicBezTo>
                    <a:cubicBezTo>
                      <a:pt x="280" y="1035"/>
                      <a:pt x="246" y="1039"/>
                      <a:pt x="219" y="1030"/>
                    </a:cubicBezTo>
                    <a:cubicBezTo>
                      <a:pt x="210" y="1006"/>
                      <a:pt x="202" y="933"/>
                      <a:pt x="194" y="958"/>
                    </a:cubicBezTo>
                    <a:cubicBezTo>
                      <a:pt x="156" y="1070"/>
                      <a:pt x="126" y="1179"/>
                      <a:pt x="109" y="1297"/>
                    </a:cubicBezTo>
                    <a:cubicBezTo>
                      <a:pt x="117" y="1386"/>
                      <a:pt x="134" y="1564"/>
                      <a:pt x="134" y="15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Text Box 43"/>
            <p:cNvSpPr/>
            <p:nvPr/>
          </p:nvSpPr>
          <p:spPr>
            <a:xfrm>
              <a:off x="7209360" y="12384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ec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850640" y="1242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e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 Box 45"/>
            <p:cNvSpPr/>
            <p:nvPr/>
          </p:nvSpPr>
          <p:spPr>
            <a:xfrm>
              <a:off x="4967640" y="37137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46"/>
            <p:cNvGrpSpPr/>
            <p:nvPr/>
          </p:nvGrpSpPr>
          <p:grpSpPr>
            <a:xfrm>
              <a:off x="5052600" y="1768680"/>
              <a:ext cx="1187280" cy="1217880"/>
              <a:chOff x="5052600" y="1768680"/>
              <a:chExt cx="1187280" cy="1217880"/>
            </a:xfrm>
          </p:grpSpPr>
          <p:grpSp>
            <p:nvGrpSpPr>
              <p:cNvPr id="185" name="Group 47"/>
              <p:cNvGrpSpPr/>
              <p:nvPr/>
            </p:nvGrpSpPr>
            <p:grpSpPr>
              <a:xfrm>
                <a:off x="5052600" y="1768680"/>
                <a:ext cx="1119960" cy="1190520"/>
                <a:chOff x="5052600" y="1768680"/>
                <a:chExt cx="1119960" cy="1190520"/>
              </a:xfrm>
            </p:grpSpPr>
            <p:sp>
              <p:nvSpPr>
                <p:cNvPr id="186" name="Freeform 48"/>
                <p:cNvSpPr/>
                <p:nvPr/>
              </p:nvSpPr>
              <p:spPr>
                <a:xfrm>
                  <a:off x="5052600" y="1768680"/>
                  <a:ext cx="1119960" cy="77328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73280"/>
                    <a:gd name="textAreaBottom" fmla="*/ 773640 h 773280"/>
                  </a:gdLst>
                  <a:ahLst/>
                  <a:rect l="textAreaLeft" t="textAreaTop" r="textAreaRight" b="textAreaBottom"/>
                  <a:pathLst>
                    <a:path w="982" h="630">
                      <a:moveTo>
                        <a:pt x="0" y="0"/>
                      </a:moveTo>
                      <a:cubicBezTo>
                        <a:pt x="12" y="8"/>
                        <a:pt x="27" y="12"/>
                        <a:pt x="37" y="24"/>
                      </a:cubicBezTo>
                      <a:cubicBezTo>
                        <a:pt x="45" y="34"/>
                        <a:pt x="42" y="49"/>
                        <a:pt x="49" y="61"/>
                      </a:cubicBezTo>
                      <a:cubicBezTo>
                        <a:pt x="90" y="131"/>
                        <a:pt x="92" y="130"/>
                        <a:pt x="134" y="170"/>
                      </a:cubicBezTo>
                      <a:cubicBezTo>
                        <a:pt x="155" y="233"/>
                        <a:pt x="195" y="292"/>
                        <a:pt x="243" y="340"/>
                      </a:cubicBezTo>
                      <a:cubicBezTo>
                        <a:pt x="251" y="364"/>
                        <a:pt x="249" y="393"/>
                        <a:pt x="267" y="412"/>
                      </a:cubicBezTo>
                      <a:cubicBezTo>
                        <a:pt x="292" y="438"/>
                        <a:pt x="316" y="468"/>
                        <a:pt x="340" y="497"/>
                      </a:cubicBezTo>
                      <a:cubicBezTo>
                        <a:pt x="349" y="508"/>
                        <a:pt x="352" y="523"/>
                        <a:pt x="364" y="533"/>
                      </a:cubicBezTo>
                      <a:cubicBezTo>
                        <a:pt x="373" y="541"/>
                        <a:pt x="388" y="541"/>
                        <a:pt x="400" y="546"/>
                      </a:cubicBezTo>
                      <a:cubicBezTo>
                        <a:pt x="462" y="592"/>
                        <a:pt x="531" y="611"/>
                        <a:pt x="606" y="630"/>
                      </a:cubicBezTo>
                      <a:cubicBezTo>
                        <a:pt x="658" y="626"/>
                        <a:pt x="712" y="627"/>
                        <a:pt x="764" y="618"/>
                      </a:cubicBezTo>
                      <a:cubicBezTo>
                        <a:pt x="847" y="602"/>
                        <a:pt x="750" y="582"/>
                        <a:pt x="837" y="558"/>
                      </a:cubicBezTo>
                      <a:cubicBezTo>
                        <a:pt x="880" y="545"/>
                        <a:pt x="933" y="546"/>
                        <a:pt x="982" y="5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49"/>
                <p:cNvSpPr/>
                <p:nvPr/>
              </p:nvSpPr>
              <p:spPr>
                <a:xfrm>
                  <a:off x="5370480" y="2319840"/>
                  <a:ext cx="91080" cy="639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80" h="521">
                      <a:moveTo>
                        <a:pt x="12" y="0"/>
                      </a:moveTo>
                      <a:cubicBezTo>
                        <a:pt x="58" y="70"/>
                        <a:pt x="62" y="146"/>
                        <a:pt x="73" y="230"/>
                      </a:cubicBezTo>
                      <a:cubicBezTo>
                        <a:pt x="47" y="484"/>
                        <a:pt x="80" y="244"/>
                        <a:pt x="36" y="424"/>
                      </a:cubicBezTo>
                      <a:cubicBezTo>
                        <a:pt x="27" y="456"/>
                        <a:pt x="24" y="496"/>
                        <a:pt x="0" y="5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8" name="Line 50"/>
              <p:cNvSpPr/>
              <p:nvPr/>
            </p:nvSpPr>
            <p:spPr>
              <a:xfrm>
                <a:off x="6130440" y="2455920"/>
                <a:ext cx="10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Line 51"/>
              <p:cNvSpPr/>
              <p:nvPr/>
            </p:nvSpPr>
            <p:spPr>
              <a:xfrm flipH="1">
                <a:off x="5364000" y="2868840"/>
                <a:ext cx="5472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0" name="Text Box 52"/>
            <p:cNvSpPr/>
            <p:nvPr/>
          </p:nvSpPr>
          <p:spPr>
            <a:xfrm>
              <a:off x="6329880" y="230040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entable fib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53"/>
            <p:cNvSpPr/>
            <p:nvPr/>
          </p:nvSpPr>
          <p:spPr>
            <a:xfrm flipH="1" flipV="1">
              <a:off x="6695640" y="1414800"/>
              <a:ext cx="109440" cy="53028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54"/>
            <p:cNvSpPr/>
            <p:nvPr/>
          </p:nvSpPr>
          <p:spPr>
            <a:xfrm flipH="1">
              <a:off x="6695640" y="2770560"/>
              <a:ext cx="109440" cy="4716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V="1">
              <a:off x="7900560" y="1827360"/>
              <a:ext cx="328320" cy="11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7462440" y="2711880"/>
              <a:ext cx="273600" cy="4122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Text Box 57"/>
            <p:cNvSpPr/>
            <p:nvPr/>
          </p:nvSpPr>
          <p:spPr>
            <a:xfrm>
              <a:off x="6439320" y="106668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8"/>
            <p:cNvSpPr/>
            <p:nvPr/>
          </p:nvSpPr>
          <p:spPr>
            <a:xfrm>
              <a:off x="7601040" y="318456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59"/>
            <p:cNvSpPr/>
            <p:nvPr/>
          </p:nvSpPr>
          <p:spPr>
            <a:xfrm>
              <a:off x="6450120" y="33602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Text Box 60"/>
            <p:cNvSpPr/>
            <p:nvPr/>
          </p:nvSpPr>
          <p:spPr>
            <a:xfrm>
              <a:off x="6651000" y="18288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Microorganism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7ACC-B2AC-457F-A7B3-0FA0FFF89A6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mparing fermentation strategie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89600" y="1219320"/>
            <a:ext cx="809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Foregut (Ruminants)      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are the microbes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e microbes digest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ener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etary flexibil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oughput rat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cy of cellulose assimilatio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71720" y="17524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Before stomach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fte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732560" y="22860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Y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61280" y="335268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Microb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684320" y="38862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699440" y="441972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SLOW (40-50 hrs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ASTER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ention time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3 - 5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615920" y="51814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 (70-100%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20-65%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671720" y="281952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VFA’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ood, VFA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13B58-60B2-4623-BCF0-ADC4BD9232B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Who are they?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11" name="Picture 3" descr="grouse"/>
          <p:cNvPicPr/>
          <p:nvPr/>
        </p:nvPicPr>
        <p:blipFill>
          <a:blip r:embed="rId1"/>
          <a:stretch/>
        </p:blipFill>
        <p:spPr>
          <a:xfrm>
            <a:off x="6019920" y="1522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anctuary-iguana-on-ground-large"/>
          <p:cNvPicPr/>
          <p:nvPr/>
        </p:nvPicPr>
        <p:blipFill>
          <a:blip r:embed="rId2"/>
          <a:stretch/>
        </p:blipFill>
        <p:spPr>
          <a:xfrm>
            <a:off x="7238880" y="1447920"/>
            <a:ext cx="1524240" cy="116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rabbi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343400"/>
            <a:ext cx="1523880" cy="142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771560" y="19051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500360" y="190512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d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144880" y="2590920"/>
            <a:ext cx="20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v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el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oth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bus mon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ngaro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atzin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968720" y="259092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ph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ua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turt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03848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816"/>
                </a:solidFill>
                <a:latin typeface="Comic Sans MS"/>
              </a:rPr>
              <a:t>And to some extent, many omnivor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1" descr="eleph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2819520"/>
            <a:ext cx="1790640" cy="13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zebr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228600"/>
            <a:ext cx="141948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black-wildebeest-013001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slot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4100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kangaro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1828800"/>
            <a:ext cx="101448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hoatzin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516320" cy="20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llama"/>
          <p:cNvPicPr/>
          <p:nvPr/>
        </p:nvPicPr>
        <p:blipFill>
          <a:blip r:embed="rId17"/>
          <a:stretch/>
        </p:blipFill>
        <p:spPr>
          <a:xfrm>
            <a:off x="1981080" y="0"/>
            <a:ext cx="1249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muskox"/>
          <p:cNvPicPr/>
          <p:nvPr/>
        </p:nvPicPr>
        <p:blipFill>
          <a:blip r:embed="rId18"/>
          <a:stretch/>
        </p:blipFill>
        <p:spPr>
          <a:xfrm>
            <a:off x="0" y="3678120"/>
            <a:ext cx="198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85A2A-48DD-4375-B00E-13119D1D4833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Carnivores in contrast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29" name="Picture 3" descr="cat"/>
          <p:cNvPicPr/>
          <p:nvPr/>
        </p:nvPicPr>
        <p:blipFill>
          <a:blip r:embed="rId1"/>
          <a:stretch/>
        </p:blipFill>
        <p:spPr>
          <a:xfrm>
            <a:off x="6039000" y="2181240"/>
            <a:ext cx="2647800" cy="424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mink"/>
          <p:cNvPicPr/>
          <p:nvPr/>
        </p:nvPicPr>
        <p:blipFill>
          <a:blip r:embed="rId2"/>
          <a:stretch/>
        </p:blipFill>
        <p:spPr>
          <a:xfrm>
            <a:off x="2685960" y="2239920"/>
            <a:ext cx="3003480" cy="424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1960920" y="1217520"/>
            <a:ext cx="55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, single chambered, muscula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ight, simple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nutrient is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24240" y="2801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401920" y="4230720"/>
            <a:ext cx="325440" cy="2076480"/>
          </a:xfrm>
          <a:custGeom>
            <a:avLst/>
            <a:gdLst>
              <a:gd name="textAreaLeft" fmla="*/ 208080 w 325440"/>
              <a:gd name="textAreaRight" fmla="*/ 325800 w 325440"/>
              <a:gd name="textAreaTop" fmla="*/ 54000 h 2076480"/>
              <a:gd name="textAreaBottom" fmla="*/ 2022480 h 20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5360" y="47689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dgut an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not obviou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080" y="1981080"/>
            <a:ext cx="46738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 on ringtail po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9DFA-836F-4211-B4E6-6903728A4259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fferent die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 and Hind gut fermenters (cont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2B1EB-9D2A-4CBD-A3D5-ED0808DF8E40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31D3-4A83-4DDC-A3C1-59947BEAF2D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Ruminants are big fermentation va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en is an anaerobic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nized by a great diversity of 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ytic organisms are only ~ 10%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imal provides cellulose, microorganisms provide VFAs and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cow &amp; rumen cartoon"/>
          <p:cNvPicPr/>
          <p:nvPr/>
        </p:nvPicPr>
        <p:blipFill>
          <a:blip r:embed="rId1"/>
          <a:stretch/>
        </p:blipFill>
        <p:spPr>
          <a:xfrm>
            <a:off x="1981080" y="2552760"/>
            <a:ext cx="5867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6799-2465-47FC-B372-9034CE36BEFF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rumen bacteria table 2"/>
          <p:cNvPicPr/>
          <p:nvPr/>
        </p:nvPicPr>
        <p:blipFill>
          <a:blip r:embed="rId1"/>
          <a:stretch/>
        </p:blipFill>
        <p:spPr>
          <a:xfrm>
            <a:off x="0" y="0"/>
            <a:ext cx="38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rumen bacteria"/>
          <p:cNvPicPr/>
          <p:nvPr/>
        </p:nvPicPr>
        <p:blipFill>
          <a:blip r:embed="rId2"/>
          <a:stretch/>
        </p:blipFill>
        <p:spPr>
          <a:xfrm>
            <a:off x="3811680" y="3767040"/>
            <a:ext cx="236988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rumen fungi"/>
          <p:cNvPicPr/>
          <p:nvPr/>
        </p:nvPicPr>
        <p:blipFill>
          <a:blip r:embed="rId3"/>
          <a:stretch/>
        </p:blipFill>
        <p:spPr>
          <a:xfrm>
            <a:off x="6299280" y="3778200"/>
            <a:ext cx="2394000" cy="2662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37480" y="1095480"/>
            <a:ext cx="37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 is a large and diver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community of bacteria, archae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ungi, and protists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 cow is an ecosyst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316320" y="295200"/>
            <a:ext cx="558720" cy="6043680"/>
          </a:xfrm>
          <a:custGeom>
            <a:avLst/>
            <a:gdLst>
              <a:gd name="textAreaLeft" fmla="*/ 0 w 558720"/>
              <a:gd name="textAreaRight" fmla="*/ 201600 w 558720"/>
              <a:gd name="textAreaTop" fmla="*/ 157320 h 6043680"/>
              <a:gd name="textAreaBottom" fmla="*/ 5886360 h 60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FEEA9-9A11-4459-8903-BE227A0903E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611280" y="2362320"/>
            <a:ext cx="4259160" cy="1009440"/>
            <a:chOff x="611280" y="2362320"/>
            <a:chExt cx="4259160" cy="1009440"/>
          </a:xfrm>
        </p:grpSpPr>
        <p:sp>
          <p:nvSpPr>
            <p:cNvPr id="68" name="Line 5"/>
            <p:cNvSpPr/>
            <p:nvPr/>
          </p:nvSpPr>
          <p:spPr>
            <a:xfrm flipH="1">
              <a:off x="3584520" y="2362320"/>
              <a:ext cx="1285920" cy="54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611280" y="2729160"/>
              <a:ext cx="38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Volatile fatty acids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hort fatty acids with 1 - 4 carb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312840" y="3801960"/>
            <a:ext cx="4299840" cy="1757520"/>
            <a:chOff x="312840" y="3801960"/>
            <a:chExt cx="4299840" cy="1757520"/>
          </a:xfrm>
        </p:grpSpPr>
        <p:grpSp>
          <p:nvGrpSpPr>
            <p:cNvPr id="71" name="Group 11"/>
            <p:cNvGrpSpPr/>
            <p:nvPr/>
          </p:nvGrpSpPr>
          <p:grpSpPr>
            <a:xfrm>
              <a:off x="312840" y="3801960"/>
              <a:ext cx="2459160" cy="1566720"/>
              <a:chOff x="312840" y="3801960"/>
              <a:chExt cx="2459160" cy="1566720"/>
            </a:xfrm>
          </p:grpSpPr>
          <p:sp>
            <p:nvSpPr>
              <p:cNvPr id="72" name="Rectangle 12"/>
              <p:cNvSpPr/>
              <p:nvPr/>
            </p:nvSpPr>
            <p:spPr>
              <a:xfrm>
                <a:off x="312840" y="3801960"/>
                <a:ext cx="1225800" cy="1566720"/>
              </a:xfrm>
              <a:prstGeom prst="rect">
                <a:avLst/>
              </a:prstGeom>
              <a:solidFill>
                <a:srgbClr val="ffff66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Rectangle 13"/>
              <p:cNvSpPr/>
              <p:nvPr/>
            </p:nvSpPr>
            <p:spPr>
              <a:xfrm>
                <a:off x="1570320" y="3817800"/>
                <a:ext cx="1201680" cy="1535040"/>
              </a:xfrm>
              <a:prstGeom prst="rect">
                <a:avLst/>
              </a:prstGeom>
              <a:solidFill>
                <a:srgbClr val="99ffcc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>
                <a:off x="1169280" y="38829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Line 15"/>
              <p:cNvSpPr/>
              <p:nvPr/>
            </p:nvSpPr>
            <p:spPr>
              <a:xfrm>
                <a:off x="130176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Line 16"/>
              <p:cNvSpPr/>
              <p:nvPr/>
            </p:nvSpPr>
            <p:spPr>
              <a:xfrm>
                <a:off x="135288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10800000">
                <a:off x="155952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 flipV="1">
                <a:off x="173844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10800000">
                <a:off x="198648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Line 20"/>
              <p:cNvSpPr/>
              <p:nvPr/>
            </p:nvSpPr>
            <p:spPr>
              <a:xfrm flipV="1">
                <a:off x="216540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Text Box 21"/>
              <p:cNvSpPr/>
              <p:nvPr/>
            </p:nvSpPr>
            <p:spPr>
              <a:xfrm>
                <a:off x="157212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>
                <a:off x="174312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199764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Line 24"/>
              <p:cNvSpPr/>
              <p:nvPr/>
            </p:nvSpPr>
            <p:spPr>
              <a:xfrm>
                <a:off x="216864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Text Box 25"/>
              <p:cNvSpPr/>
              <p:nvPr/>
            </p:nvSpPr>
            <p:spPr>
              <a:xfrm>
                <a:off x="524520" y="4427280"/>
                <a:ext cx="21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H – C – C – C – H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" name="Text Box 26"/>
            <p:cNvSpPr/>
            <p:nvPr/>
          </p:nvSpPr>
          <p:spPr>
            <a:xfrm>
              <a:off x="2767680" y="3819600"/>
              <a:ext cx="184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.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cetate (2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ionate (3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utyrate (4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Line 27"/>
          <p:cNvSpPr/>
          <p:nvPr/>
        </p:nvSpPr>
        <p:spPr>
          <a:xfrm flipV="1">
            <a:off x="914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s H+ dissociates, making solution acid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4" descr="vfa_ratio"/>
          <p:cNvPicPr/>
          <p:nvPr/>
        </p:nvPicPr>
        <p:blipFill>
          <a:blip r:embed="rId1"/>
          <a:stretch/>
        </p:blipFill>
        <p:spPr>
          <a:xfrm>
            <a:off x="5486400" y="2819520"/>
            <a:ext cx="3048120" cy="2492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4952880" y="5562720"/>
            <a:ext cx="38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onate is the only fatty acid that can be used to synthesize glucos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3805-05B2-4377-8F41-ED7A4A85818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5278680" y="2666520"/>
            <a:ext cx="3555000" cy="2164320"/>
            <a:chOff x="5278680" y="2666520"/>
            <a:chExt cx="3555000" cy="2164320"/>
          </a:xfrm>
        </p:grpSpPr>
        <p:sp>
          <p:nvSpPr>
            <p:cNvPr id="96" name="AutoShape 9"/>
            <p:cNvSpPr/>
            <p:nvPr/>
          </p:nvSpPr>
          <p:spPr>
            <a:xfrm rot="16200000">
              <a:off x="6367680" y="1861200"/>
              <a:ext cx="249480" cy="1860120"/>
            </a:xfrm>
            <a:custGeom>
              <a:avLst/>
              <a:gdLst>
                <a:gd name="textAreaLeft" fmla="*/ 159480 w 249480"/>
                <a:gd name="textAreaRight" fmla="*/ 249840 w 249480"/>
                <a:gd name="textAreaTop" fmla="*/ 48240 h 1860120"/>
                <a:gd name="textAreaBottom" fmla="*/ 1811880 h 18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5278680" y="3090960"/>
              <a:ext cx="355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ow produces ~100,000 liter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methane annuall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otal methane produc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er year by cattle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~ 94 million t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" name="Rectangle 30"/>
          <p:cNvSpPr/>
          <p:nvPr/>
        </p:nvSpPr>
        <p:spPr>
          <a:xfrm>
            <a:off x="838080" y="3352680"/>
            <a:ext cx="3657600" cy="1219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: where does the NH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fro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8654-FE18-4AA8-B7FB-081DDC7AC012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A: SALIVA!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inants produce and swallow ENORMOUS quantities of saliv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fluid environment for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ea is actively secreted into saliva “urea recycling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the source of N for microorganism protein synthesis and growth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carbonate is also actively secreted into sal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 production makes rumen acid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livary bicarbonate buffers the acid back to nor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d at ~ 100-150 liters/da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66230-E0BF-4178-9222-55EA2DF7E7D4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figure 50-18"/>
          <p:cNvPicPr/>
          <p:nvPr/>
        </p:nvPicPr>
        <p:blipFill>
          <a:blip r:embed="rId1"/>
          <a:stretch/>
        </p:blipFill>
        <p:spPr>
          <a:xfrm>
            <a:off x="1776240" y="2536920"/>
            <a:ext cx="563436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792440" y="277920"/>
            <a:ext cx="5469840" cy="1780560"/>
            <a:chOff x="1792440" y="277920"/>
            <a:chExt cx="5469840" cy="1780560"/>
          </a:xfrm>
        </p:grpSpPr>
        <p:sp>
          <p:nvSpPr>
            <p:cNvPr id="105" name="Oval 4"/>
            <p:cNvSpPr/>
            <p:nvPr/>
          </p:nvSpPr>
          <p:spPr>
            <a:xfrm>
              <a:off x="2202120" y="277920"/>
              <a:ext cx="1983600" cy="178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4169520" y="9928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4150800" y="1375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4524840" y="782280"/>
              <a:ext cx="8560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77680" y="1024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5359680" y="140796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766480" y="696240"/>
              <a:ext cx="1097280" cy="1065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1810080" y="95544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792440" y="13381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6859080" y="10216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6840720" y="140400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559600" y="50652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icul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545440" y="243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249080" y="3682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325960" y="2025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34000" y="1778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985000" y="18558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rue diges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7129440" y="11779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739640" y="81756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5950440" y="893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1379520" y="1131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421560" y="895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A48D-417D-4FBC-9E8E-1A56D36D08A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Four chambered foregu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378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iculum and 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menta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5.5 - 7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s the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s absorbed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rumen_right"/>
          <p:cNvPicPr/>
          <p:nvPr/>
        </p:nvPicPr>
        <p:blipFill>
          <a:blip r:embed="rId1"/>
          <a:stretch/>
        </p:blipFill>
        <p:spPr>
          <a:xfrm>
            <a:off x="4572000" y="1066680"/>
            <a:ext cx="4076640" cy="2435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495680" y="3886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cts like a filter: accepts only smallest parti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ue stomac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 1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psin secre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9" descr="omasum"/>
          <p:cNvPicPr/>
          <p:nvPr/>
        </p:nvPicPr>
        <p:blipFill>
          <a:blip r:embed="rId2"/>
          <a:stretch/>
        </p:blipFill>
        <p:spPr>
          <a:xfrm>
            <a:off x="762120" y="3809880"/>
            <a:ext cx="2997000" cy="25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886200" y="4114800"/>
            <a:ext cx="53352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7:05:02Z</dcterms:created>
  <dc:creator> </dc:creator>
  <dc:description/>
  <dc:language>en-US</dc:language>
  <cp:lastModifiedBy>luponed</cp:lastModifiedBy>
  <dcterms:modified xsi:type="dcterms:W3CDTF">2010-05-23T23:39:58Z</dcterms:modified>
  <cp:revision>168</cp:revision>
  <dc:subject/>
  <dc:title>Slide 1</dc:title>
</cp:coreProperties>
</file>