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9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3.png" ContentType="image/png"/>
  <Override PartName="/ppt/media/image6.jpeg" ContentType="image/jpeg"/>
  <Override PartName="/ppt/media/image27.jpeg" ContentType="image/jpeg"/>
  <Override PartName="/ppt/media/image29.png" ContentType="image/png"/>
  <Override PartName="/ppt/media/image26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37DF-A910-4BD2-A8EA-5C5CB6F38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30D3-D2FA-4F81-8E07-2436AD22B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C391-EFF7-4D72-B3CA-D41CB0339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6A55-F12A-40D7-977A-D728CA471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25BD8-5979-4A22-AE22-BEC902AF1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56C6-0F54-4673-B25A-1B3C17A72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036A-45CC-4CEF-AFBD-DE93AF550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51FFE-7FD1-44DA-995D-9A4487DB8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4FDE-E490-460F-B754-000B0930D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D28D-0B4E-43DF-86C9-4E123188B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25E9-B33C-4059-89AE-7902F3D093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87DBE-6D59-47A4-A496-15AA0B1528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7800F-16AB-4F87-8011-9B911C4FE3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4147-58BF-49B0-8815-C45F21919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5348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789520" y="198108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744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5348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789520" y="4130640"/>
            <a:ext cx="222444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7D774-6C9B-44AB-99EB-12D8D79BAD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ACE8B-4027-42BF-97D2-DC9AA9F0FD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3AFA1-83DC-4278-93DC-3F45BE8317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2FF8-2FB6-4172-AAF1-362D8A8DEF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63CA-B6C8-40E5-BCE8-3F70C67175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17440" y="609120"/>
            <a:ext cx="6909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F33CF-35C6-4A97-9EF4-5499F2B9F3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99305-0347-4B2F-95F1-F22A04B05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7680" y="413064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D6F52-DACA-432B-81CE-D2BC39AEE7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744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7680" y="1981080"/>
            <a:ext cx="3371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7440" y="4130640"/>
            <a:ext cx="690912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13DFF-FFDB-4048-8F7C-A798C55A00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13160" indent="-27432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9728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3612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97496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97496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974960" indent="-2192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021520" y="577836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781320" y="380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2DBD-C8AC-4726-AFFA-01BC42A5ED96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courses.washington.edu/vertebra/453/photos/gut_photos/rabbit_cecum.jpg" TargetMode="External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images.google.com/imgres?imgurl=www.charismac.com/images/rabbit.jpg&amp;imgrefurl=http://www.charismac.com/&amp;h=378&amp;w=405&amp;sz=44&amp;tbnid=f4egH-qP6GIJ:&amp;tbnh=112&amp;tbnw=120&amp;prev=/images?q=rabbit&amp;hl=en&amp;lr=&amp;ie=UTF-8&amp;oe=UTF-8" TargetMode="External"/><Relationship Id="rId4" Type="http://schemas.openxmlformats.org/officeDocument/2006/relationships/image" Target="../media/image19.jpeg"/><Relationship Id="rId5" Type="http://schemas.openxmlformats.org/officeDocument/2006/relationships/hyperlink" Target="http://images.google.com/imgres?imgurl=www.gov.bw/tourism/multimedia/img/elephant.jpg&amp;imgrefurl=http://www.gov.bw/tourism/multimedia/multimedia.html&amp;h=600&amp;w=800&amp;sz=128&amp;tbnid=XsGM6DXBSFoJ:&amp;tbnh=106&amp;tbnw=141&amp;prev=/images?q=elephant&amp;hl=en&amp;lr=&amp;ie=UTF-8&amp;oe=UTF-8" TargetMode="External"/><Relationship Id="rId6" Type="http://schemas.openxmlformats.org/officeDocument/2006/relationships/image" Target="../media/image20.jpeg"/><Relationship Id="rId7" Type="http://schemas.openxmlformats.org/officeDocument/2006/relationships/hyperlink" Target="http://images.google.com/imgres?imgurl=www.harunyahya.com/kids/pictures/wallpaper1024/zebra.jpg&amp;imgrefurl=http://www.harunyahya.com/kids/pictures.html&amp;h=768&amp;w=1024&amp;sz=123&amp;tbnid=pceRFxgYLf4J:&amp;tbnh=112&amp;tbnw=149&amp;prev=/images?q=zebra&amp;hl=en&amp;lr=&amp;ie=UTF-8&amp;oe=UTF-8" TargetMode="External"/><Relationship Id="rId8" Type="http://schemas.openxmlformats.org/officeDocument/2006/relationships/image" Target="../media/image21.jpeg"/><Relationship Id="rId9" Type="http://schemas.openxmlformats.org/officeDocument/2006/relationships/hyperlink" Target="http://images.google.com/imgres?imgurl=www.sacrs.org.za/ecm21/gallery/black-wildebeest-01300120b.jpg&amp;imgrefurl=http://www.sacrs.org.za/ecm21/gallery/Gallery1.html&amp;h=720&amp;w=1024&amp;sz=215&amp;tbnid=7be5hDYtmtwJ:&amp;tbnh=105&amp;tbnw=149&amp;prev=/images?q=wildebeest&amp;hl=en&amp;lr=&amp;ie=UTF-8&amp;oe=UTF-8" TargetMode="External"/><Relationship Id="rId10" Type="http://schemas.openxmlformats.org/officeDocument/2006/relationships/image" Target="../media/image22.jpeg"/><Relationship Id="rId11" Type="http://schemas.openxmlformats.org/officeDocument/2006/relationships/hyperlink" Target="http://www.monteverdetours.com/images/gallery1/sloth.jpg" TargetMode="External"/><Relationship Id="rId12" Type="http://schemas.openxmlformats.org/officeDocument/2006/relationships/image" Target="../media/image23.jpeg"/><Relationship Id="rId13" Type="http://schemas.openxmlformats.org/officeDocument/2006/relationships/hyperlink" Target="http://www.peachkin.com/ecards/pics/kangaroo.jpg" TargetMode="External"/><Relationship Id="rId14" Type="http://schemas.openxmlformats.org/officeDocument/2006/relationships/image" Target="../media/image24.jpeg"/><Relationship Id="rId15" Type="http://schemas.openxmlformats.org/officeDocument/2006/relationships/hyperlink" Target="http://www.guidedculturaltours.com/wildlife/hoatzin.jpg" TargetMode="External"/><Relationship Id="rId16" Type="http://schemas.openxmlformats.org/officeDocument/2006/relationships/image" Target="../media/image25.jpeg"/><Relationship Id="rId17" Type="http://schemas.openxmlformats.org/officeDocument/2006/relationships/image" Target="../media/image26.jpeg"/><Relationship Id="rId18" Type="http://schemas.openxmlformats.org/officeDocument/2006/relationships/image" Target="../media/image27.jpeg"/><Relationship Id="rId1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Digestive System of Animal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ideo (nutrients and digestive syste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gestive system of humans (Dummy and handou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plete pages131-134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mework – different diets p 135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881C-AEBD-4626-A610-F6EC07A341C5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2F0B3-F01E-402F-B0D9-041640E17671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447920" y="1219320"/>
            <a:ext cx="7086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 True Stomach is used to digest excess micro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s is how ruminants get their protei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1063800" y="2209680"/>
            <a:ext cx="5323680" cy="1054080"/>
            <a:chOff x="1063800" y="2209680"/>
            <a:chExt cx="5323680" cy="1054080"/>
          </a:xfrm>
        </p:grpSpPr>
        <p:sp>
          <p:nvSpPr>
            <p:cNvPr id="137" name="Text Box 4"/>
            <p:cNvSpPr/>
            <p:nvPr/>
          </p:nvSpPr>
          <p:spPr>
            <a:xfrm>
              <a:off x="1063800" y="2209680"/>
              <a:ext cx="387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Not easy to do: requires </a:t>
              </a:r>
              <a:r>
                <a:rPr b="0" lang="en-US" sz="1800" spc="-1" strike="noStrike">
                  <a:solidFill>
                    <a:srgbClr val="3009f5"/>
                  </a:solidFill>
                  <a:latin typeface="Comic Sans MS"/>
                </a:rPr>
                <a:t>Lysozyme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8" name="Text Box 5"/>
            <p:cNvSpPr/>
            <p:nvPr/>
          </p:nvSpPr>
          <p:spPr>
            <a:xfrm>
              <a:off x="2779200" y="2895480"/>
              <a:ext cx="360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Most mammals secrete in saliva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39" name="Group 6"/>
          <p:cNvGrpSpPr/>
          <p:nvPr/>
        </p:nvGrpSpPr>
        <p:grpSpPr>
          <a:xfrm>
            <a:off x="2819520" y="2743200"/>
            <a:ext cx="6113520" cy="2971800"/>
            <a:chOff x="2819520" y="2743200"/>
            <a:chExt cx="6113520" cy="2971800"/>
          </a:xfrm>
        </p:grpSpPr>
        <p:sp>
          <p:nvSpPr>
            <p:cNvPr id="140" name="Text Box 7"/>
            <p:cNvSpPr/>
            <p:nvPr/>
          </p:nvSpPr>
          <p:spPr>
            <a:xfrm>
              <a:off x="2819520" y="3581280"/>
              <a:ext cx="4054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4 aa substitutions allow enzyme to be acid - tolerant in cow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1" name="Picture 8" descr="cow eating hay"/>
            <p:cNvPicPr/>
            <p:nvPr/>
          </p:nvPicPr>
          <p:blipFill>
            <a:blip r:embed="rId1"/>
            <a:stretch/>
          </p:blipFill>
          <p:spPr>
            <a:xfrm>
              <a:off x="6858000" y="2743200"/>
              <a:ext cx="207504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2" name="Group 9"/>
          <p:cNvGrpSpPr/>
          <p:nvPr/>
        </p:nvGrpSpPr>
        <p:grpSpPr>
          <a:xfrm>
            <a:off x="380880" y="2743200"/>
            <a:ext cx="6365520" cy="3219480"/>
            <a:chOff x="380880" y="2743200"/>
            <a:chExt cx="6365520" cy="3219480"/>
          </a:xfrm>
        </p:grpSpPr>
        <p:sp>
          <p:nvSpPr>
            <p:cNvPr id="143" name="Text Box 10"/>
            <p:cNvSpPr/>
            <p:nvPr/>
          </p:nvSpPr>
          <p:spPr>
            <a:xfrm>
              <a:off x="2882160" y="4572000"/>
              <a:ext cx="386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ame 4 substitutions in the langu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pic>
          <p:nvPicPr>
            <p:cNvPr id="144" name="Picture 11" descr="langur"/>
            <p:cNvPicPr/>
            <p:nvPr/>
          </p:nvPicPr>
          <p:blipFill>
            <a:blip r:embed="rId2"/>
            <a:stretch/>
          </p:blipFill>
          <p:spPr>
            <a:xfrm>
              <a:off x="380880" y="2743200"/>
              <a:ext cx="2300400" cy="32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Text Box 12"/>
            <p:cNvSpPr/>
            <p:nvPr/>
          </p:nvSpPr>
          <p:spPr>
            <a:xfrm>
              <a:off x="3228840" y="5146560"/>
              <a:ext cx="252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3009f5"/>
                  </a:solidFill>
                  <a:latin typeface="Comic Sans MS"/>
                </a:rPr>
                <a:t>Independent evolution!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C5DF5-5135-40E8-8EB8-A960EA1888B8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Rumination or foregut fermentation:</a:t>
            </a:r>
            <a:br>
              <a:rPr sz="2400"/>
            </a:b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A highly efficient way to use cellulose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1053360" y="2257560"/>
            <a:ext cx="630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Fermentation vat (rumen) comes before the “stomach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Food is entirely processed by microorganism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) VFA’s are absorbed straight through rumen wa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s is how ruminants get their energy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 True stomach is used to digest excess micro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This is how ruminants get their protei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477FF-F0CC-49F4-A5C8-3563788CF47B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11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Foregut fermenters: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pic>
        <p:nvPicPr>
          <p:cNvPr id="151" name="Picture 3" descr="llama"/>
          <p:cNvPicPr/>
          <p:nvPr/>
        </p:nvPicPr>
        <p:blipFill>
          <a:blip r:embed="rId1"/>
          <a:stretch/>
        </p:blipFill>
        <p:spPr>
          <a:xfrm>
            <a:off x="382680" y="900000"/>
            <a:ext cx="3151080" cy="5189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sheep"/>
          <p:cNvPicPr/>
          <p:nvPr/>
        </p:nvPicPr>
        <p:blipFill>
          <a:blip r:embed="rId2"/>
          <a:stretch/>
        </p:blipFill>
        <p:spPr>
          <a:xfrm>
            <a:off x="4610160" y="923760"/>
            <a:ext cx="3492360" cy="5075280"/>
          </a:xfrm>
          <a:prstGeom prst="rect">
            <a:avLst/>
          </a:prstGeom>
          <a:ln w="0">
            <a:noFill/>
          </a:ln>
        </p:spPr>
      </p:pic>
      <p:sp>
        <p:nvSpPr>
          <p:cNvPr id="153" name="AutoShape 5"/>
          <p:cNvSpPr/>
          <p:nvPr/>
        </p:nvSpPr>
        <p:spPr>
          <a:xfrm>
            <a:off x="3425760" y="1581120"/>
            <a:ext cx="557280" cy="1595520"/>
          </a:xfrm>
          <a:custGeom>
            <a:avLst/>
            <a:gdLst>
              <a:gd name="textAreaLeft" fmla="*/ 0 w 557280"/>
              <a:gd name="textAreaRight" fmla="*/ 201240 w 557280"/>
              <a:gd name="textAreaTop" fmla="*/ 41400 h 1595520"/>
              <a:gd name="textAreaBottom" fmla="*/ 155412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AutoShape 6"/>
          <p:cNvSpPr/>
          <p:nvPr/>
        </p:nvSpPr>
        <p:spPr>
          <a:xfrm>
            <a:off x="7900920" y="1484280"/>
            <a:ext cx="557280" cy="1595520"/>
          </a:xfrm>
          <a:custGeom>
            <a:avLst/>
            <a:gdLst>
              <a:gd name="textAreaLeft" fmla="*/ 0 w 557280"/>
              <a:gd name="textAreaRight" fmla="*/ 201240 w 557280"/>
              <a:gd name="textAreaTop" fmla="*/ 41400 h 1595520"/>
              <a:gd name="textAreaBottom" fmla="*/ 1554120 h 1595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4074840" y="227484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2435400" y="5851440"/>
            <a:ext cx="542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* Both have enlarged, multi-chambered foregu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8488080" y="215892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8125B-5326-493E-B80E-0F0BCB1168CC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Hindgut fermenters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pic>
        <p:nvPicPr>
          <p:cNvPr id="160" name="Picture 3" descr="pony"/>
          <p:cNvPicPr/>
          <p:nvPr/>
        </p:nvPicPr>
        <p:blipFill>
          <a:blip r:embed="rId1"/>
          <a:stretch/>
        </p:blipFill>
        <p:spPr>
          <a:xfrm>
            <a:off x="947880" y="1025640"/>
            <a:ext cx="3090600" cy="4948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apybara"/>
          <p:cNvPicPr/>
          <p:nvPr/>
        </p:nvPicPr>
        <p:blipFill>
          <a:blip r:embed="rId2"/>
          <a:stretch/>
        </p:blipFill>
        <p:spPr>
          <a:xfrm>
            <a:off x="4971960" y="1273320"/>
            <a:ext cx="2935440" cy="462420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5"/>
          <p:cNvSpPr/>
          <p:nvPr/>
        </p:nvSpPr>
        <p:spPr>
          <a:xfrm>
            <a:off x="3968640" y="2525760"/>
            <a:ext cx="542880" cy="2976480"/>
          </a:xfrm>
          <a:custGeom>
            <a:avLst/>
            <a:gdLst>
              <a:gd name="textAreaLeft" fmla="*/ 0 w 542880"/>
              <a:gd name="textAreaRight" fmla="*/ 195840 w 542880"/>
              <a:gd name="textAreaTop" fmla="*/ 77400 h 2976480"/>
              <a:gd name="textAreaBottom" fmla="*/ 2899080 h 2976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AutoShape 6"/>
          <p:cNvSpPr/>
          <p:nvPr/>
        </p:nvSpPr>
        <p:spPr>
          <a:xfrm>
            <a:off x="7905600" y="2446200"/>
            <a:ext cx="295560" cy="1629000"/>
          </a:xfrm>
          <a:custGeom>
            <a:avLst/>
            <a:gdLst>
              <a:gd name="textAreaLeft" fmla="*/ 0 w 295560"/>
              <a:gd name="textAreaRight" fmla="*/ 106560 w 295560"/>
              <a:gd name="textAreaTop" fmla="*/ 42480 h 1629000"/>
              <a:gd name="textAreaBottom" fmla="*/ 1586520 h 1629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8144640" y="303372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ec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4620960" y="3917880"/>
            <a:ext cx="3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3454560" y="57754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* Enlarged hindg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6689520" y="1035000"/>
            <a:ext cx="210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a big S. America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den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807C7-EE82-4123-9871-A7FEC42EA179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54120" y="71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Hindgut fermentation:</a:t>
            </a:r>
            <a:br>
              <a:rPr sz="2400"/>
            </a:b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A way to use cellulose without losing the rest</a:t>
            </a:r>
            <a:br>
              <a:rPr sz="2400"/>
            </a:b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of your dietary nutrients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993960" y="2305080"/>
            <a:ext cx="7500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Fermentation chamber(s) comes after the “stomach” and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mall intest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  <a:ea typeface="ＭＳ Ｐゴシック"/>
              </a:rPr>
              <a:t>Enlarged hindgut or pouches called “cecae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Microorganisms get what the animal doesn’t 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Better if your diet is of higher quality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) VFA’s are absorbed straight through hindgut wa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 Excess microorganisms are defecate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indgut fermenters miss out on microbial protei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4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81D7-21F2-4C98-8E88-D5EDFDD0269F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34880" y="-3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Coprophagy in rabbit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733920" y="4267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duces two kinds of fec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has lots of undigested fib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other is a clearance of caecal contents (soft, high in microbial content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bbits eat this to gain microbial nutrition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4" name="Picture 5" descr="rabbit"/>
          <p:cNvPicPr/>
          <p:nvPr/>
        </p:nvPicPr>
        <p:blipFill>
          <a:blip r:embed="rId1"/>
          <a:srcRect l="0" t="0" r="0" b="12444"/>
          <a:stretch/>
        </p:blipFill>
        <p:spPr>
          <a:xfrm>
            <a:off x="304920" y="0"/>
            <a:ext cx="3017880" cy="360360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7"/>
          <p:cNvSpPr/>
          <p:nvPr/>
        </p:nvSpPr>
        <p:spPr>
          <a:xfrm>
            <a:off x="3505320" y="1828800"/>
            <a:ext cx="990360" cy="1371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12" descr="rabbit_cecum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0880" y="3733920"/>
            <a:ext cx="2895840" cy="28414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39"/>
          <p:cNvGrpSpPr/>
          <p:nvPr/>
        </p:nvGrpSpPr>
        <p:grpSpPr>
          <a:xfrm>
            <a:off x="4850640" y="1066680"/>
            <a:ext cx="3627000" cy="3015360"/>
            <a:chOff x="4850640" y="1066680"/>
            <a:chExt cx="3627000" cy="3015360"/>
          </a:xfrm>
        </p:grpSpPr>
        <p:grpSp>
          <p:nvGrpSpPr>
            <p:cNvPr id="178" name="Group 40"/>
            <p:cNvGrpSpPr/>
            <p:nvPr/>
          </p:nvGrpSpPr>
          <p:grpSpPr>
            <a:xfrm>
              <a:off x="4942800" y="1591920"/>
              <a:ext cx="3174120" cy="1920600"/>
              <a:chOff x="4942800" y="1591920"/>
              <a:chExt cx="3174120" cy="1920600"/>
            </a:xfrm>
          </p:grpSpPr>
          <p:sp>
            <p:nvSpPr>
              <p:cNvPr id="179" name="Freeform 41"/>
              <p:cNvSpPr/>
              <p:nvPr/>
            </p:nvSpPr>
            <p:spPr>
              <a:xfrm>
                <a:off x="4942800" y="1963800"/>
                <a:ext cx="290880" cy="1503000"/>
              </a:xfrm>
              <a:custGeom>
                <a:avLst/>
                <a:gdLst>
                  <a:gd name="textAreaLeft" fmla="*/ 0 w 290880"/>
                  <a:gd name="textAreaRight" fmla="*/ 291240 w 290880"/>
                  <a:gd name="textAreaTop" fmla="*/ 0 h 1503000"/>
                  <a:gd name="textAreaBottom" fmla="*/ 1503360 h 1503000"/>
                </a:gdLst>
                <a:ahLst/>
                <a:rect l="textAreaLeft" t="textAreaTop" r="textAreaRight" b="textAreaBottom"/>
                <a:pathLst>
                  <a:path w="255" h="1224">
                    <a:moveTo>
                      <a:pt x="37" y="0"/>
                    </a:moveTo>
                    <a:cubicBezTo>
                      <a:pt x="79" y="42"/>
                      <a:pt x="109" y="76"/>
                      <a:pt x="158" y="109"/>
                    </a:cubicBezTo>
                    <a:cubicBezTo>
                      <a:pt x="170" y="125"/>
                      <a:pt x="181" y="142"/>
                      <a:pt x="194" y="158"/>
                    </a:cubicBezTo>
                    <a:cubicBezTo>
                      <a:pt x="201" y="166"/>
                      <a:pt x="213" y="171"/>
                      <a:pt x="219" y="182"/>
                    </a:cubicBezTo>
                    <a:cubicBezTo>
                      <a:pt x="230" y="204"/>
                      <a:pt x="243" y="254"/>
                      <a:pt x="243" y="254"/>
                    </a:cubicBezTo>
                    <a:cubicBezTo>
                      <a:pt x="247" y="302"/>
                      <a:pt x="255" y="351"/>
                      <a:pt x="255" y="400"/>
                    </a:cubicBezTo>
                    <a:cubicBezTo>
                      <a:pt x="255" y="473"/>
                      <a:pt x="229" y="548"/>
                      <a:pt x="206" y="618"/>
                    </a:cubicBezTo>
                    <a:cubicBezTo>
                      <a:pt x="175" y="708"/>
                      <a:pt x="150" y="793"/>
                      <a:pt x="97" y="873"/>
                    </a:cubicBezTo>
                    <a:cubicBezTo>
                      <a:pt x="58" y="987"/>
                      <a:pt x="0" y="1102"/>
                      <a:pt x="0" y="12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Freeform 42"/>
              <p:cNvSpPr/>
              <p:nvPr/>
            </p:nvSpPr>
            <p:spPr>
              <a:xfrm>
                <a:off x="5398920" y="1591920"/>
                <a:ext cx="2718000" cy="1920600"/>
              </a:xfrm>
              <a:custGeom>
                <a:avLst/>
                <a:gdLst>
                  <a:gd name="textAreaLeft" fmla="*/ 0 w 2718000"/>
                  <a:gd name="textAreaRight" fmla="*/ 2718360 w 2718000"/>
                  <a:gd name="textAreaTop" fmla="*/ 0 h 1920600"/>
                  <a:gd name="textAreaBottom" fmla="*/ 1920960 h 1920600"/>
                </a:gdLst>
                <a:ahLst/>
                <a:rect l="textAreaLeft" t="textAreaTop" r="textAreaRight" b="textAreaBottom"/>
                <a:pathLst>
                  <a:path w="2382" h="1564">
                    <a:moveTo>
                      <a:pt x="0" y="109"/>
                    </a:moveTo>
                    <a:cubicBezTo>
                      <a:pt x="2" y="121"/>
                      <a:pt x="16" y="201"/>
                      <a:pt x="25" y="218"/>
                    </a:cubicBezTo>
                    <a:cubicBezTo>
                      <a:pt x="50" y="269"/>
                      <a:pt x="85" y="311"/>
                      <a:pt x="109" y="364"/>
                    </a:cubicBezTo>
                    <a:cubicBezTo>
                      <a:pt x="131" y="413"/>
                      <a:pt x="144" y="468"/>
                      <a:pt x="158" y="521"/>
                    </a:cubicBezTo>
                    <a:cubicBezTo>
                      <a:pt x="181" y="450"/>
                      <a:pt x="151" y="515"/>
                      <a:pt x="206" y="461"/>
                    </a:cubicBezTo>
                    <a:cubicBezTo>
                      <a:pt x="216" y="450"/>
                      <a:pt x="220" y="434"/>
                      <a:pt x="231" y="424"/>
                    </a:cubicBezTo>
                    <a:cubicBezTo>
                      <a:pt x="282" y="372"/>
                      <a:pt x="385" y="371"/>
                      <a:pt x="449" y="364"/>
                    </a:cubicBezTo>
                    <a:cubicBezTo>
                      <a:pt x="461" y="359"/>
                      <a:pt x="472" y="351"/>
                      <a:pt x="485" y="351"/>
                    </a:cubicBezTo>
                    <a:cubicBezTo>
                      <a:pt x="501" y="351"/>
                      <a:pt x="517" y="366"/>
                      <a:pt x="534" y="364"/>
                    </a:cubicBezTo>
                    <a:cubicBezTo>
                      <a:pt x="545" y="362"/>
                      <a:pt x="549" y="346"/>
                      <a:pt x="558" y="339"/>
                    </a:cubicBezTo>
                    <a:cubicBezTo>
                      <a:pt x="569" y="329"/>
                      <a:pt x="581" y="321"/>
                      <a:pt x="594" y="315"/>
                    </a:cubicBezTo>
                    <a:cubicBezTo>
                      <a:pt x="643" y="290"/>
                      <a:pt x="711" y="286"/>
                      <a:pt x="764" y="279"/>
                    </a:cubicBezTo>
                    <a:cubicBezTo>
                      <a:pt x="845" y="295"/>
                      <a:pt x="884" y="338"/>
                      <a:pt x="958" y="364"/>
                    </a:cubicBezTo>
                    <a:cubicBezTo>
                      <a:pt x="1019" y="269"/>
                      <a:pt x="1053" y="160"/>
                      <a:pt x="1152" y="97"/>
                    </a:cubicBezTo>
                    <a:cubicBezTo>
                      <a:pt x="1221" y="105"/>
                      <a:pt x="1290" y="111"/>
                      <a:pt x="1358" y="133"/>
                    </a:cubicBezTo>
                    <a:cubicBezTo>
                      <a:pt x="1441" y="77"/>
                      <a:pt x="1502" y="60"/>
                      <a:pt x="1600" y="36"/>
                    </a:cubicBezTo>
                    <a:cubicBezTo>
                      <a:pt x="1616" y="40"/>
                      <a:pt x="1634" y="40"/>
                      <a:pt x="1649" y="48"/>
                    </a:cubicBezTo>
                    <a:cubicBezTo>
                      <a:pt x="1659" y="53"/>
                      <a:pt x="1663" y="66"/>
                      <a:pt x="1673" y="73"/>
                    </a:cubicBezTo>
                    <a:cubicBezTo>
                      <a:pt x="1683" y="79"/>
                      <a:pt x="1697" y="81"/>
                      <a:pt x="1709" y="85"/>
                    </a:cubicBezTo>
                    <a:cubicBezTo>
                      <a:pt x="1780" y="67"/>
                      <a:pt x="1849" y="32"/>
                      <a:pt x="1915" y="0"/>
                    </a:cubicBezTo>
                    <a:cubicBezTo>
                      <a:pt x="1930" y="2"/>
                      <a:pt x="2000" y="10"/>
                      <a:pt x="2024" y="24"/>
                    </a:cubicBezTo>
                    <a:cubicBezTo>
                      <a:pt x="2107" y="73"/>
                      <a:pt x="1984" y="26"/>
                      <a:pt x="2085" y="60"/>
                    </a:cubicBezTo>
                    <a:cubicBezTo>
                      <a:pt x="2142" y="40"/>
                      <a:pt x="2198" y="40"/>
                      <a:pt x="2243" y="85"/>
                    </a:cubicBezTo>
                    <a:cubicBezTo>
                      <a:pt x="2283" y="206"/>
                      <a:pt x="2215" y="19"/>
                      <a:pt x="2291" y="157"/>
                    </a:cubicBezTo>
                    <a:cubicBezTo>
                      <a:pt x="2303" y="179"/>
                      <a:pt x="2300" y="208"/>
                      <a:pt x="2315" y="230"/>
                    </a:cubicBezTo>
                    <a:cubicBezTo>
                      <a:pt x="2331" y="254"/>
                      <a:pt x="2364" y="303"/>
                      <a:pt x="2364" y="303"/>
                    </a:cubicBezTo>
                    <a:cubicBezTo>
                      <a:pt x="2382" y="357"/>
                      <a:pt x="2364" y="417"/>
                      <a:pt x="2352" y="473"/>
                    </a:cubicBezTo>
                    <a:cubicBezTo>
                      <a:pt x="2349" y="485"/>
                      <a:pt x="2348" y="500"/>
                      <a:pt x="2339" y="509"/>
                    </a:cubicBezTo>
                    <a:cubicBezTo>
                      <a:pt x="2329" y="517"/>
                      <a:pt x="2315" y="517"/>
                      <a:pt x="2303" y="521"/>
                    </a:cubicBezTo>
                    <a:cubicBezTo>
                      <a:pt x="2331" y="691"/>
                      <a:pt x="2351" y="917"/>
                      <a:pt x="2158" y="982"/>
                    </a:cubicBezTo>
                    <a:cubicBezTo>
                      <a:pt x="2100" y="963"/>
                      <a:pt x="2069" y="920"/>
                      <a:pt x="2036" y="873"/>
                    </a:cubicBezTo>
                    <a:cubicBezTo>
                      <a:pt x="1969" y="1006"/>
                      <a:pt x="1891" y="1078"/>
                      <a:pt x="1746" y="1115"/>
                    </a:cubicBezTo>
                    <a:cubicBezTo>
                      <a:pt x="1627" y="1105"/>
                      <a:pt x="1607" y="1123"/>
                      <a:pt x="1540" y="1054"/>
                    </a:cubicBezTo>
                    <a:cubicBezTo>
                      <a:pt x="1513" y="979"/>
                      <a:pt x="1546" y="1036"/>
                      <a:pt x="1455" y="1067"/>
                    </a:cubicBezTo>
                    <a:cubicBezTo>
                      <a:pt x="1430" y="1075"/>
                      <a:pt x="1406" y="1082"/>
                      <a:pt x="1382" y="1091"/>
                    </a:cubicBezTo>
                    <a:cubicBezTo>
                      <a:pt x="1369" y="1094"/>
                      <a:pt x="1346" y="1103"/>
                      <a:pt x="1346" y="1103"/>
                    </a:cubicBezTo>
                    <a:cubicBezTo>
                      <a:pt x="1160" y="1088"/>
                      <a:pt x="1223" y="1103"/>
                      <a:pt x="1103" y="1042"/>
                    </a:cubicBezTo>
                    <a:cubicBezTo>
                      <a:pt x="1087" y="1046"/>
                      <a:pt x="1067" y="1043"/>
                      <a:pt x="1055" y="1054"/>
                    </a:cubicBezTo>
                    <a:cubicBezTo>
                      <a:pt x="987" y="1113"/>
                      <a:pt x="1010" y="1206"/>
                      <a:pt x="921" y="1236"/>
                    </a:cubicBezTo>
                    <a:cubicBezTo>
                      <a:pt x="673" y="1224"/>
                      <a:pt x="702" y="1263"/>
                      <a:pt x="570" y="1164"/>
                    </a:cubicBezTo>
                    <a:cubicBezTo>
                      <a:pt x="566" y="1151"/>
                      <a:pt x="569" y="1131"/>
                      <a:pt x="558" y="1127"/>
                    </a:cubicBezTo>
                    <a:cubicBezTo>
                      <a:pt x="550" y="1124"/>
                      <a:pt x="484" y="1147"/>
                      <a:pt x="473" y="1151"/>
                    </a:cubicBezTo>
                    <a:cubicBezTo>
                      <a:pt x="363" y="1123"/>
                      <a:pt x="407" y="1137"/>
                      <a:pt x="340" y="1115"/>
                    </a:cubicBezTo>
                    <a:cubicBezTo>
                      <a:pt x="331" y="1107"/>
                      <a:pt x="320" y="1100"/>
                      <a:pt x="315" y="1091"/>
                    </a:cubicBezTo>
                    <a:cubicBezTo>
                      <a:pt x="308" y="1079"/>
                      <a:pt x="313" y="1062"/>
                      <a:pt x="303" y="1054"/>
                    </a:cubicBezTo>
                    <a:cubicBezTo>
                      <a:pt x="280" y="1035"/>
                      <a:pt x="246" y="1039"/>
                      <a:pt x="219" y="1030"/>
                    </a:cubicBezTo>
                    <a:cubicBezTo>
                      <a:pt x="210" y="1006"/>
                      <a:pt x="202" y="933"/>
                      <a:pt x="194" y="958"/>
                    </a:cubicBezTo>
                    <a:cubicBezTo>
                      <a:pt x="156" y="1070"/>
                      <a:pt x="126" y="1179"/>
                      <a:pt x="109" y="1297"/>
                    </a:cubicBezTo>
                    <a:cubicBezTo>
                      <a:pt x="117" y="1386"/>
                      <a:pt x="134" y="1564"/>
                      <a:pt x="134" y="156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81" name="Text Box 43"/>
            <p:cNvSpPr/>
            <p:nvPr/>
          </p:nvSpPr>
          <p:spPr>
            <a:xfrm>
              <a:off x="7209360" y="1238400"/>
              <a:ext cx="104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aecu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2" name="Text Box 44"/>
            <p:cNvSpPr/>
            <p:nvPr/>
          </p:nvSpPr>
          <p:spPr>
            <a:xfrm>
              <a:off x="4850640" y="1242000"/>
              <a:ext cx="78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leum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3" name="Text Box 45"/>
            <p:cNvSpPr/>
            <p:nvPr/>
          </p:nvSpPr>
          <p:spPr>
            <a:xfrm>
              <a:off x="4967640" y="3713760"/>
              <a:ext cx="80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Col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4" name="Group 46"/>
            <p:cNvGrpSpPr/>
            <p:nvPr/>
          </p:nvGrpSpPr>
          <p:grpSpPr>
            <a:xfrm>
              <a:off x="5052600" y="1768680"/>
              <a:ext cx="1187280" cy="1217880"/>
              <a:chOff x="5052600" y="1768680"/>
              <a:chExt cx="1187280" cy="1217880"/>
            </a:xfrm>
          </p:grpSpPr>
          <p:grpSp>
            <p:nvGrpSpPr>
              <p:cNvPr id="185" name="Group 47"/>
              <p:cNvGrpSpPr/>
              <p:nvPr/>
            </p:nvGrpSpPr>
            <p:grpSpPr>
              <a:xfrm>
                <a:off x="5052600" y="1768680"/>
                <a:ext cx="1119960" cy="1190520"/>
                <a:chOff x="5052600" y="1768680"/>
                <a:chExt cx="1119960" cy="1190520"/>
              </a:xfrm>
            </p:grpSpPr>
            <p:sp>
              <p:nvSpPr>
                <p:cNvPr id="186" name="Freeform 48"/>
                <p:cNvSpPr/>
                <p:nvPr/>
              </p:nvSpPr>
              <p:spPr>
                <a:xfrm>
                  <a:off x="5052600" y="1768680"/>
                  <a:ext cx="1119960" cy="773280"/>
                </a:xfrm>
                <a:custGeom>
                  <a:avLst/>
                  <a:gdLst>
                    <a:gd name="textAreaLeft" fmla="*/ 0 w 1119960"/>
                    <a:gd name="textAreaRight" fmla="*/ 1120320 w 1119960"/>
                    <a:gd name="textAreaTop" fmla="*/ 0 h 773280"/>
                    <a:gd name="textAreaBottom" fmla="*/ 773640 h 773280"/>
                  </a:gdLst>
                  <a:ahLst/>
                  <a:rect l="textAreaLeft" t="textAreaTop" r="textAreaRight" b="textAreaBottom"/>
                  <a:pathLst>
                    <a:path w="982" h="630">
                      <a:moveTo>
                        <a:pt x="0" y="0"/>
                      </a:moveTo>
                      <a:cubicBezTo>
                        <a:pt x="12" y="8"/>
                        <a:pt x="27" y="12"/>
                        <a:pt x="37" y="24"/>
                      </a:cubicBezTo>
                      <a:cubicBezTo>
                        <a:pt x="45" y="34"/>
                        <a:pt x="42" y="49"/>
                        <a:pt x="49" y="61"/>
                      </a:cubicBezTo>
                      <a:cubicBezTo>
                        <a:pt x="90" y="131"/>
                        <a:pt x="92" y="130"/>
                        <a:pt x="134" y="170"/>
                      </a:cubicBezTo>
                      <a:cubicBezTo>
                        <a:pt x="155" y="233"/>
                        <a:pt x="195" y="292"/>
                        <a:pt x="243" y="340"/>
                      </a:cubicBezTo>
                      <a:cubicBezTo>
                        <a:pt x="251" y="364"/>
                        <a:pt x="249" y="393"/>
                        <a:pt x="267" y="412"/>
                      </a:cubicBezTo>
                      <a:cubicBezTo>
                        <a:pt x="292" y="438"/>
                        <a:pt x="316" y="468"/>
                        <a:pt x="340" y="497"/>
                      </a:cubicBezTo>
                      <a:cubicBezTo>
                        <a:pt x="349" y="508"/>
                        <a:pt x="352" y="523"/>
                        <a:pt x="364" y="533"/>
                      </a:cubicBezTo>
                      <a:cubicBezTo>
                        <a:pt x="373" y="541"/>
                        <a:pt x="388" y="541"/>
                        <a:pt x="400" y="546"/>
                      </a:cubicBezTo>
                      <a:cubicBezTo>
                        <a:pt x="462" y="592"/>
                        <a:pt x="531" y="611"/>
                        <a:pt x="606" y="630"/>
                      </a:cubicBezTo>
                      <a:cubicBezTo>
                        <a:pt x="658" y="626"/>
                        <a:pt x="712" y="627"/>
                        <a:pt x="764" y="618"/>
                      </a:cubicBezTo>
                      <a:cubicBezTo>
                        <a:pt x="847" y="602"/>
                        <a:pt x="750" y="582"/>
                        <a:pt x="837" y="558"/>
                      </a:cubicBezTo>
                      <a:cubicBezTo>
                        <a:pt x="880" y="545"/>
                        <a:pt x="933" y="546"/>
                        <a:pt x="982" y="54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87" name="Freeform 49"/>
                <p:cNvSpPr/>
                <p:nvPr/>
              </p:nvSpPr>
              <p:spPr>
                <a:xfrm>
                  <a:off x="5370480" y="2319840"/>
                  <a:ext cx="91080" cy="639360"/>
                </a:xfrm>
                <a:custGeom>
                  <a:avLst/>
                  <a:gdLst>
                    <a:gd name="textAreaLeft" fmla="*/ 0 w 91080"/>
                    <a:gd name="textAreaRight" fmla="*/ 91440 w 91080"/>
                    <a:gd name="textAreaTop" fmla="*/ 0 h 639360"/>
                    <a:gd name="textAreaBottom" fmla="*/ 639720 h 639360"/>
                  </a:gdLst>
                  <a:ahLst/>
                  <a:rect l="textAreaLeft" t="textAreaTop" r="textAreaRight" b="textAreaBottom"/>
                  <a:pathLst>
                    <a:path w="80" h="521">
                      <a:moveTo>
                        <a:pt x="12" y="0"/>
                      </a:moveTo>
                      <a:cubicBezTo>
                        <a:pt x="58" y="70"/>
                        <a:pt x="62" y="146"/>
                        <a:pt x="73" y="230"/>
                      </a:cubicBezTo>
                      <a:cubicBezTo>
                        <a:pt x="47" y="484"/>
                        <a:pt x="80" y="244"/>
                        <a:pt x="36" y="424"/>
                      </a:cubicBezTo>
                      <a:cubicBezTo>
                        <a:pt x="27" y="456"/>
                        <a:pt x="24" y="496"/>
                        <a:pt x="0" y="521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88" name="Line 50"/>
              <p:cNvSpPr/>
              <p:nvPr/>
            </p:nvSpPr>
            <p:spPr>
              <a:xfrm>
                <a:off x="6130440" y="2455920"/>
                <a:ext cx="10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9" name="Line 51"/>
              <p:cNvSpPr/>
              <p:nvPr/>
            </p:nvSpPr>
            <p:spPr>
              <a:xfrm flipH="1">
                <a:off x="5364000" y="2868840"/>
                <a:ext cx="54720" cy="117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190" name="Text Box 52"/>
            <p:cNvSpPr/>
            <p:nvPr/>
          </p:nvSpPr>
          <p:spPr>
            <a:xfrm>
              <a:off x="6329880" y="2300400"/>
              <a:ext cx="2108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ermentable fiber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1" name="Line 53"/>
            <p:cNvSpPr/>
            <p:nvPr/>
          </p:nvSpPr>
          <p:spPr>
            <a:xfrm flipH="1" flipV="1">
              <a:off x="6695640" y="1414800"/>
              <a:ext cx="109440" cy="530280"/>
            </a:xfrm>
            <a:prstGeom prst="line">
              <a:avLst/>
            </a:prstGeom>
            <a:ln w="9360">
              <a:solidFill>
                <a:srgbClr val="3009f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2" name="Line 54"/>
            <p:cNvSpPr/>
            <p:nvPr/>
          </p:nvSpPr>
          <p:spPr>
            <a:xfrm flipH="1">
              <a:off x="6695640" y="2770560"/>
              <a:ext cx="109440" cy="471600"/>
            </a:xfrm>
            <a:prstGeom prst="line">
              <a:avLst/>
            </a:prstGeom>
            <a:ln w="9360">
              <a:solidFill>
                <a:srgbClr val="3009f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3" name="Line 55"/>
            <p:cNvSpPr/>
            <p:nvPr/>
          </p:nvSpPr>
          <p:spPr>
            <a:xfrm flipV="1">
              <a:off x="7900560" y="1827360"/>
              <a:ext cx="328320" cy="117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4" name="Line 56"/>
            <p:cNvSpPr/>
            <p:nvPr/>
          </p:nvSpPr>
          <p:spPr>
            <a:xfrm>
              <a:off x="7462440" y="2711880"/>
              <a:ext cx="273600" cy="412200"/>
            </a:xfrm>
            <a:prstGeom prst="line">
              <a:avLst/>
            </a:prstGeom>
            <a:ln w="9360">
              <a:solidFill>
                <a:srgbClr val="3009f5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5" name="Text Box 57"/>
            <p:cNvSpPr/>
            <p:nvPr/>
          </p:nvSpPr>
          <p:spPr>
            <a:xfrm>
              <a:off x="6439320" y="106668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009f5"/>
                  </a:solidFill>
                  <a:latin typeface="Comic Sans MS"/>
                </a:rPr>
                <a:t>VFA’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6" name="Text Box 58"/>
            <p:cNvSpPr/>
            <p:nvPr/>
          </p:nvSpPr>
          <p:spPr>
            <a:xfrm>
              <a:off x="7601040" y="318456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009f5"/>
                  </a:solidFill>
                  <a:latin typeface="Comic Sans MS"/>
                </a:rPr>
                <a:t>VFA’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7" name="Text Box 59"/>
            <p:cNvSpPr/>
            <p:nvPr/>
          </p:nvSpPr>
          <p:spPr>
            <a:xfrm>
              <a:off x="6450120" y="3360240"/>
              <a:ext cx="732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009f5"/>
                  </a:solidFill>
                  <a:latin typeface="Comic Sans MS"/>
                </a:rPr>
                <a:t>VFA’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8" name="Text Box 60"/>
            <p:cNvSpPr/>
            <p:nvPr/>
          </p:nvSpPr>
          <p:spPr>
            <a:xfrm>
              <a:off x="6651000" y="1828800"/>
              <a:ext cx="182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Microorganism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916F-AE22-49E1-9C09-9A17B3346EA7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Comparing fermentation strategie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489600" y="1219320"/>
            <a:ext cx="8090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haracteristics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        Foregut (Ruminants)       Hindg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here are the microbes?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re microbes digested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of energ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urce of prote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etary flexibility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roughput rate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fficiency of cellulose assimilation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4671720" y="1752480"/>
            <a:ext cx="443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Before stomach 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After stoma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4732560" y="2286000"/>
            <a:ext cx="32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YES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4661280" y="3352680"/>
            <a:ext cx="33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Microbes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Di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4684320" y="3886200"/>
            <a:ext cx="37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LOW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HIGH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4699440" y="4419720"/>
            <a:ext cx="37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SLOW (40-50 hrs 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FASTER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retention time)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(3 - 5 X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4615920" y="5181480"/>
            <a:ext cx="38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HIGH (70-100%)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LOWER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  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(20-65%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4671720" y="2819520"/>
            <a:ext cx="41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VFA’s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Food, VFA’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6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A0229-A167-4FF5-A4D4-2117AB65963E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Who are they?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pic>
        <p:nvPicPr>
          <p:cNvPr id="211" name="Picture 3" descr="grouse"/>
          <p:cNvPicPr/>
          <p:nvPr/>
        </p:nvPicPr>
        <p:blipFill>
          <a:blip r:embed="rId1"/>
          <a:stretch/>
        </p:blipFill>
        <p:spPr>
          <a:xfrm>
            <a:off x="6019920" y="152280"/>
            <a:ext cx="1155600" cy="1752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sanctuary-iguana-on-ground-large"/>
          <p:cNvPicPr/>
          <p:nvPr/>
        </p:nvPicPr>
        <p:blipFill>
          <a:blip r:embed="rId2"/>
          <a:stretch/>
        </p:blipFill>
        <p:spPr>
          <a:xfrm>
            <a:off x="7238880" y="1447920"/>
            <a:ext cx="1524240" cy="1164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rabbi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391520" y="4343400"/>
            <a:ext cx="1523880" cy="14223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6"/>
          <p:cNvSpPr/>
          <p:nvPr/>
        </p:nvSpPr>
        <p:spPr>
          <a:xfrm>
            <a:off x="1771560" y="1905120"/>
            <a:ext cx="23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egut fermenter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7"/>
          <p:cNvSpPr/>
          <p:nvPr/>
        </p:nvSpPr>
        <p:spPr>
          <a:xfrm>
            <a:off x="4500360" y="1905120"/>
            <a:ext cx="23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indgut fermenters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2144880" y="2590920"/>
            <a:ext cx="2085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ovi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melid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loth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obus monkey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angaroo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atzin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4968720" y="2590920"/>
            <a:ext cx="1546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pha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r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bbi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d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ous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guana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ome turt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4038480" y="51814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c0816"/>
                </a:solidFill>
                <a:latin typeface="Comic Sans MS"/>
              </a:rPr>
              <a:t>And to some extent, many omnivore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11" descr="elephan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086600" y="2819520"/>
            <a:ext cx="1790640" cy="13460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2" descr="zebra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467480" y="228600"/>
            <a:ext cx="1419480" cy="10666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3" descr="black-wildebeest-01300120b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0" y="228600"/>
            <a:ext cx="1905120" cy="1343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4" descr="sloth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0" y="5410080"/>
            <a:ext cx="1523880" cy="1149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16" descr="kangaroo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228600" y="1828800"/>
            <a:ext cx="1014480" cy="16765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7" descr="hoatzin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2209680" y="4495680"/>
            <a:ext cx="1516320" cy="2038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8" descr="llama"/>
          <p:cNvPicPr/>
          <p:nvPr/>
        </p:nvPicPr>
        <p:blipFill>
          <a:blip r:embed="rId17"/>
          <a:stretch/>
        </p:blipFill>
        <p:spPr>
          <a:xfrm>
            <a:off x="1981080" y="0"/>
            <a:ext cx="1249560" cy="1447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1" descr="muskox"/>
          <p:cNvPicPr/>
          <p:nvPr/>
        </p:nvPicPr>
        <p:blipFill>
          <a:blip r:embed="rId18"/>
          <a:stretch/>
        </p:blipFill>
        <p:spPr>
          <a:xfrm>
            <a:off x="0" y="3678120"/>
            <a:ext cx="1981080" cy="13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B9FC-4ABE-49A8-BA38-816BE5B308E8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Carnivores in contrast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pic>
        <p:nvPicPr>
          <p:cNvPr id="229" name="Picture 3" descr="cat"/>
          <p:cNvPicPr/>
          <p:nvPr/>
        </p:nvPicPr>
        <p:blipFill>
          <a:blip r:embed="rId1"/>
          <a:stretch/>
        </p:blipFill>
        <p:spPr>
          <a:xfrm>
            <a:off x="6039000" y="2181240"/>
            <a:ext cx="2647800" cy="4243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mink"/>
          <p:cNvPicPr/>
          <p:nvPr/>
        </p:nvPicPr>
        <p:blipFill>
          <a:blip r:embed="rId2"/>
          <a:stretch/>
        </p:blipFill>
        <p:spPr>
          <a:xfrm>
            <a:off x="2685960" y="2239920"/>
            <a:ext cx="3003480" cy="42451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1960920" y="1217520"/>
            <a:ext cx="551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ple, single chambered, muscular stoma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raight, simple hindg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imary nutrient is prote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424240" y="2801880"/>
            <a:ext cx="71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in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AutoShape 7"/>
          <p:cNvSpPr/>
          <p:nvPr/>
        </p:nvSpPr>
        <p:spPr>
          <a:xfrm>
            <a:off x="2401920" y="4230720"/>
            <a:ext cx="325440" cy="2076480"/>
          </a:xfrm>
          <a:custGeom>
            <a:avLst/>
            <a:gdLst>
              <a:gd name="textAreaLeft" fmla="*/ 208080 w 325440"/>
              <a:gd name="textAreaRight" fmla="*/ 325800 w 325440"/>
              <a:gd name="textAreaTop" fmla="*/ 54000 h 2076480"/>
              <a:gd name="textAreaBottom" fmla="*/ 2022480 h 207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8"/>
          <p:cNvSpPr/>
          <p:nvPr/>
        </p:nvSpPr>
        <p:spPr>
          <a:xfrm>
            <a:off x="225360" y="4768920"/>
            <a:ext cx="235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fference between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Midgut and hindgu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s not obvious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17080" y="1981080"/>
            <a:ext cx="467388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andout on ringtail po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Slide Number Placeholder 6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EE1CC-31A9-42BD-AF73-425202D08361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17440" y="609120"/>
            <a:ext cx="6909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Different diet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17440" y="1981080"/>
            <a:ext cx="69091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mniv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rniv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rbivor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egut fermenters and Hind gut fermenters (cont…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67F3-B243-4CEF-AB22-103F043443B7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Slide Number Placeholder 3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7CB1-2910-4BBA-8392-F741A5BA7CD6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Ruminants are big fermentation vat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men is an anaerobic environ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lonized by a great diversity of 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llulytic organisms are only ~ 10%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nimal provides cellulose, microorganisms provide VFAs and protei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3" descr="cow &amp; rumen cartoon"/>
          <p:cNvPicPr/>
          <p:nvPr/>
        </p:nvPicPr>
        <p:blipFill>
          <a:blip r:embed="rId1"/>
          <a:stretch/>
        </p:blipFill>
        <p:spPr>
          <a:xfrm>
            <a:off x="1981080" y="2552760"/>
            <a:ext cx="5867640" cy="430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1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750DF-8B82-47C9-B951-24493BE279B0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" name="Picture 2" descr="rumen bacteria table 2"/>
          <p:cNvPicPr/>
          <p:nvPr/>
        </p:nvPicPr>
        <p:blipFill>
          <a:blip r:embed="rId1"/>
          <a:stretch/>
        </p:blipFill>
        <p:spPr>
          <a:xfrm>
            <a:off x="0" y="0"/>
            <a:ext cx="38592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rumen bacteria"/>
          <p:cNvPicPr/>
          <p:nvPr/>
        </p:nvPicPr>
        <p:blipFill>
          <a:blip r:embed="rId2"/>
          <a:stretch/>
        </p:blipFill>
        <p:spPr>
          <a:xfrm>
            <a:off x="3811680" y="3767040"/>
            <a:ext cx="2369880" cy="2657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rumen fungi"/>
          <p:cNvPicPr/>
          <p:nvPr/>
        </p:nvPicPr>
        <p:blipFill>
          <a:blip r:embed="rId3"/>
          <a:stretch/>
        </p:blipFill>
        <p:spPr>
          <a:xfrm>
            <a:off x="6299280" y="3778200"/>
            <a:ext cx="2394000" cy="2662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4137480" y="1095480"/>
            <a:ext cx="37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Rumen is a large and divers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community of bacteria, archaea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fungi, and protists –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A cow is an ecosystem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AutoShape 6"/>
          <p:cNvSpPr/>
          <p:nvPr/>
        </p:nvSpPr>
        <p:spPr>
          <a:xfrm>
            <a:off x="3316320" y="295200"/>
            <a:ext cx="558720" cy="6043680"/>
          </a:xfrm>
          <a:custGeom>
            <a:avLst/>
            <a:gdLst>
              <a:gd name="textAreaLeft" fmla="*/ 0 w 558720"/>
              <a:gd name="textAreaRight" fmla="*/ 201600 w 558720"/>
              <a:gd name="textAreaTop" fmla="*/ 157320 h 6043680"/>
              <a:gd name="textAreaBottom" fmla="*/ 5886360 h 604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F0A9-F6C5-4D18-B3FF-8E3ABC8D91C4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Rectangle 29"/>
          <p:cNvSpPr/>
          <p:nvPr/>
        </p:nvSpPr>
        <p:spPr>
          <a:xfrm>
            <a:off x="1828800" y="1219320"/>
            <a:ext cx="579132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Stoichiometry of rumen fermentation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269800" y="1447920"/>
            <a:ext cx="50061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llulose (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+ micro-organisms +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micro-organisms + VFAs +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4"/>
          <p:cNvGrpSpPr/>
          <p:nvPr/>
        </p:nvGrpSpPr>
        <p:grpSpPr>
          <a:xfrm>
            <a:off x="611280" y="2362320"/>
            <a:ext cx="4259160" cy="1009440"/>
            <a:chOff x="611280" y="2362320"/>
            <a:chExt cx="4259160" cy="1009440"/>
          </a:xfrm>
        </p:grpSpPr>
        <p:sp>
          <p:nvSpPr>
            <p:cNvPr id="68" name="Line 5"/>
            <p:cNvSpPr/>
            <p:nvPr/>
          </p:nvSpPr>
          <p:spPr>
            <a:xfrm flipH="1">
              <a:off x="3584520" y="2362320"/>
              <a:ext cx="1285920" cy="5414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Text Box 6"/>
            <p:cNvSpPr/>
            <p:nvPr/>
          </p:nvSpPr>
          <p:spPr>
            <a:xfrm>
              <a:off x="611280" y="2729160"/>
              <a:ext cx="3876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Volatile fatty acids =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Short fatty acids with 1 - 4 carbon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70" name="Group 10"/>
          <p:cNvGrpSpPr/>
          <p:nvPr/>
        </p:nvGrpSpPr>
        <p:grpSpPr>
          <a:xfrm>
            <a:off x="312840" y="3801960"/>
            <a:ext cx="4299840" cy="1757520"/>
            <a:chOff x="312840" y="3801960"/>
            <a:chExt cx="4299840" cy="1757520"/>
          </a:xfrm>
        </p:grpSpPr>
        <p:grpSp>
          <p:nvGrpSpPr>
            <p:cNvPr id="71" name="Group 11"/>
            <p:cNvGrpSpPr/>
            <p:nvPr/>
          </p:nvGrpSpPr>
          <p:grpSpPr>
            <a:xfrm>
              <a:off x="312840" y="3801960"/>
              <a:ext cx="2459160" cy="1566720"/>
              <a:chOff x="312840" y="3801960"/>
              <a:chExt cx="2459160" cy="1566720"/>
            </a:xfrm>
          </p:grpSpPr>
          <p:sp>
            <p:nvSpPr>
              <p:cNvPr id="72" name="Rectangle 12"/>
              <p:cNvSpPr/>
              <p:nvPr/>
            </p:nvSpPr>
            <p:spPr>
              <a:xfrm>
                <a:off x="312840" y="3801960"/>
                <a:ext cx="1225800" cy="1566720"/>
              </a:xfrm>
              <a:prstGeom prst="rect">
                <a:avLst/>
              </a:prstGeom>
              <a:solidFill>
                <a:srgbClr val="ffff66"/>
              </a:solidFill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3" name="Rectangle 13"/>
              <p:cNvSpPr/>
              <p:nvPr/>
            </p:nvSpPr>
            <p:spPr>
              <a:xfrm>
                <a:off x="1570320" y="3817800"/>
                <a:ext cx="1201680" cy="1535040"/>
              </a:xfrm>
              <a:prstGeom prst="rect">
                <a:avLst/>
              </a:prstGeom>
              <a:solidFill>
                <a:srgbClr val="99ffcc"/>
              </a:solidFill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4" name="Text Box 14"/>
              <p:cNvSpPr/>
              <p:nvPr/>
            </p:nvSpPr>
            <p:spPr>
              <a:xfrm>
                <a:off x="1169280" y="3882960"/>
                <a:ext cx="35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5" name="Line 15"/>
              <p:cNvSpPr/>
              <p:nvPr/>
            </p:nvSpPr>
            <p:spPr>
              <a:xfrm>
                <a:off x="1301760" y="429696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6" name="Line 16"/>
              <p:cNvSpPr/>
              <p:nvPr/>
            </p:nvSpPr>
            <p:spPr>
              <a:xfrm>
                <a:off x="1352880" y="429696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7" name="Text Box 17"/>
              <p:cNvSpPr/>
              <p:nvPr/>
            </p:nvSpPr>
            <p:spPr>
              <a:xfrm rot="10800000">
                <a:off x="1559520" y="499068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8" name="Line 18"/>
              <p:cNvSpPr/>
              <p:nvPr/>
            </p:nvSpPr>
            <p:spPr>
              <a:xfrm flipV="1">
                <a:off x="1738440" y="480348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79" name="Text Box 19"/>
              <p:cNvSpPr/>
              <p:nvPr/>
            </p:nvSpPr>
            <p:spPr>
              <a:xfrm rot="10800000">
                <a:off x="1986480" y="499068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0" name="Line 20"/>
              <p:cNvSpPr/>
              <p:nvPr/>
            </p:nvSpPr>
            <p:spPr>
              <a:xfrm flipV="1">
                <a:off x="2165400" y="480348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1" name="Text Box 21"/>
              <p:cNvSpPr/>
              <p:nvPr/>
            </p:nvSpPr>
            <p:spPr>
              <a:xfrm>
                <a:off x="1572120" y="388440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2" name="Line 22"/>
              <p:cNvSpPr/>
              <p:nvPr/>
            </p:nvSpPr>
            <p:spPr>
              <a:xfrm>
                <a:off x="1743120" y="425268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3" name="Text Box 23"/>
              <p:cNvSpPr/>
              <p:nvPr/>
            </p:nvSpPr>
            <p:spPr>
              <a:xfrm>
                <a:off x="1997640" y="3884400"/>
                <a:ext cx="349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H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4" name="Line 24"/>
              <p:cNvSpPr/>
              <p:nvPr/>
            </p:nvSpPr>
            <p:spPr>
              <a:xfrm>
                <a:off x="2168640" y="4252680"/>
                <a:ext cx="0" cy="185760"/>
              </a:xfrm>
              <a:prstGeom prst="line">
                <a:avLst/>
              </a:prstGeom>
              <a:ln w="22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85" name="Text Box 25"/>
              <p:cNvSpPr/>
              <p:nvPr/>
            </p:nvSpPr>
            <p:spPr>
              <a:xfrm>
                <a:off x="524520" y="4427280"/>
                <a:ext cx="218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OH – C – C – C – H  </a:t>
                </a: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86" name="Text Box 26"/>
            <p:cNvSpPr/>
            <p:nvPr/>
          </p:nvSpPr>
          <p:spPr>
            <a:xfrm>
              <a:off x="2767680" y="3819600"/>
              <a:ext cx="1845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.g.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Acetate (2C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ropionate (3C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Butyrate (4C)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87" name="Line 27"/>
          <p:cNvSpPr/>
          <p:nvPr/>
        </p:nvSpPr>
        <p:spPr>
          <a:xfrm flipV="1">
            <a:off x="914400" y="4800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8"/>
          <p:cNvSpPr/>
          <p:nvPr/>
        </p:nvSpPr>
        <p:spPr>
          <a:xfrm>
            <a:off x="380880" y="571500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This H+ dissociates, making solution acidi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34" descr="vfa_ratio"/>
          <p:cNvPicPr/>
          <p:nvPr/>
        </p:nvPicPr>
        <p:blipFill>
          <a:blip r:embed="rId1"/>
          <a:stretch/>
        </p:blipFill>
        <p:spPr>
          <a:xfrm>
            <a:off x="5486400" y="2819520"/>
            <a:ext cx="3048120" cy="2492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5"/>
          <p:cNvSpPr/>
          <p:nvPr/>
        </p:nvSpPr>
        <p:spPr>
          <a:xfrm>
            <a:off x="4952880" y="5562720"/>
            <a:ext cx="382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prionate is the only fatty acid that can be used to synthesize glucos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9A98-CE04-439E-86E7-54AED31F81E7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2"/>
          <p:cNvSpPr/>
          <p:nvPr/>
        </p:nvSpPr>
        <p:spPr>
          <a:xfrm>
            <a:off x="1828800" y="1219320"/>
            <a:ext cx="5791320" cy="1447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09f5"/>
                </a:solidFill>
                <a:latin typeface="Comic Sans MS"/>
              </a:rPr>
              <a:t>Stoichiometry of rumen fermentation</a:t>
            </a:r>
            <a:endParaRPr b="0" lang="en-US" sz="24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269800" y="1447920"/>
            <a:ext cx="50061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ellulose (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0)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+ micro-organisms + N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re micro-organisms + VFAs + C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+ C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" name="Group 8"/>
          <p:cNvGrpSpPr/>
          <p:nvPr/>
        </p:nvGrpSpPr>
        <p:grpSpPr>
          <a:xfrm>
            <a:off x="5278680" y="2666520"/>
            <a:ext cx="3555000" cy="2164320"/>
            <a:chOff x="5278680" y="2666520"/>
            <a:chExt cx="3555000" cy="2164320"/>
          </a:xfrm>
        </p:grpSpPr>
        <p:sp>
          <p:nvSpPr>
            <p:cNvPr id="96" name="AutoShape 9"/>
            <p:cNvSpPr/>
            <p:nvPr/>
          </p:nvSpPr>
          <p:spPr>
            <a:xfrm rot="16200000">
              <a:off x="6367680" y="1861200"/>
              <a:ext cx="249480" cy="1860120"/>
            </a:xfrm>
            <a:custGeom>
              <a:avLst/>
              <a:gdLst>
                <a:gd name="textAreaLeft" fmla="*/ 159480 w 249480"/>
                <a:gd name="textAreaRight" fmla="*/ 249840 w 249480"/>
                <a:gd name="textAreaTop" fmla="*/ 48240 h 1860120"/>
                <a:gd name="textAreaBottom" fmla="*/ 1811880 h 1860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Text Box 10"/>
            <p:cNvSpPr/>
            <p:nvPr/>
          </p:nvSpPr>
          <p:spPr>
            <a:xfrm>
              <a:off x="5278680" y="3090960"/>
              <a:ext cx="355500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1 cow produces ~100,000 liters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f methane annually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Total methane production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per year by cattle = 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~ 94 million ton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98" name="Rectangle 30"/>
          <p:cNvSpPr/>
          <p:nvPr/>
        </p:nvSpPr>
        <p:spPr>
          <a:xfrm>
            <a:off x="838080" y="3352680"/>
            <a:ext cx="3657600" cy="12193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Q: where does the NH3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me from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56A30-6479-4294-B3A8-D18FCF5E5965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A: SALIVA!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77216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uminants produce and swallow ENORMOUS quantities of saliva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840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vides fluid environment for micro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840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rea is actively secreted into saliva “urea recycling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s is the source of N for microorganism protein synthesis and growth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840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icarbonate is also actively secreted into saliv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latile fatty acid production makes rumen acidic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alivary bicarbonate buffers the acid back to normalit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232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imated at ~ 100-150 liters/day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2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0C7A-7475-4F38-80D1-3916DB7ABD65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3" name="Picture 2" descr="figure 50-18"/>
          <p:cNvPicPr/>
          <p:nvPr/>
        </p:nvPicPr>
        <p:blipFill>
          <a:blip r:embed="rId1"/>
          <a:stretch/>
        </p:blipFill>
        <p:spPr>
          <a:xfrm>
            <a:off x="1776240" y="2536920"/>
            <a:ext cx="5634360" cy="4321080"/>
          </a:xfrm>
          <a:prstGeom prst="rect">
            <a:avLst/>
          </a:prstGeom>
          <a:ln w="0">
            <a:noFill/>
          </a:ln>
        </p:spPr>
      </p:pic>
      <p:grpSp>
        <p:nvGrpSpPr>
          <p:cNvPr id="104" name="Group 3"/>
          <p:cNvGrpSpPr/>
          <p:nvPr/>
        </p:nvGrpSpPr>
        <p:grpSpPr>
          <a:xfrm>
            <a:off x="1792440" y="277920"/>
            <a:ext cx="5469840" cy="1780560"/>
            <a:chOff x="1792440" y="277920"/>
            <a:chExt cx="5469840" cy="1780560"/>
          </a:xfrm>
        </p:grpSpPr>
        <p:sp>
          <p:nvSpPr>
            <p:cNvPr id="105" name="Oval 4"/>
            <p:cNvSpPr/>
            <p:nvPr/>
          </p:nvSpPr>
          <p:spPr>
            <a:xfrm>
              <a:off x="2202120" y="277920"/>
              <a:ext cx="1983600" cy="17805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6" name="Line 5"/>
            <p:cNvSpPr/>
            <p:nvPr/>
          </p:nvSpPr>
          <p:spPr>
            <a:xfrm>
              <a:off x="4169520" y="99288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7" name="Line 6"/>
            <p:cNvSpPr/>
            <p:nvPr/>
          </p:nvSpPr>
          <p:spPr>
            <a:xfrm>
              <a:off x="4150800" y="137592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8" name="Oval 7"/>
            <p:cNvSpPr/>
            <p:nvPr/>
          </p:nvSpPr>
          <p:spPr>
            <a:xfrm>
              <a:off x="4524840" y="782280"/>
              <a:ext cx="8560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9" name="Line 8"/>
            <p:cNvSpPr/>
            <p:nvPr/>
          </p:nvSpPr>
          <p:spPr>
            <a:xfrm>
              <a:off x="5377680" y="102492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0" name="Line 9"/>
            <p:cNvSpPr/>
            <p:nvPr/>
          </p:nvSpPr>
          <p:spPr>
            <a:xfrm>
              <a:off x="5359680" y="140796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1" name="Oval 10"/>
            <p:cNvSpPr/>
            <p:nvPr/>
          </p:nvSpPr>
          <p:spPr>
            <a:xfrm>
              <a:off x="5766480" y="696240"/>
              <a:ext cx="1097280" cy="1065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2" name="Line 11"/>
            <p:cNvSpPr/>
            <p:nvPr/>
          </p:nvSpPr>
          <p:spPr>
            <a:xfrm>
              <a:off x="1810080" y="95544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3" name="Line 12"/>
            <p:cNvSpPr/>
            <p:nvPr/>
          </p:nvSpPr>
          <p:spPr>
            <a:xfrm>
              <a:off x="1792440" y="133812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4" name="Line 13"/>
            <p:cNvSpPr/>
            <p:nvPr/>
          </p:nvSpPr>
          <p:spPr>
            <a:xfrm>
              <a:off x="6859080" y="102168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5" name="Line 14"/>
            <p:cNvSpPr/>
            <p:nvPr/>
          </p:nvSpPr>
          <p:spPr>
            <a:xfrm>
              <a:off x="6840720" y="1404000"/>
              <a:ext cx="40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16" name="Text Box 15"/>
          <p:cNvSpPr/>
          <p:nvPr/>
        </p:nvSpPr>
        <p:spPr>
          <a:xfrm>
            <a:off x="2559600" y="506520"/>
            <a:ext cx="12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Rum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&amp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Reticul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16"/>
          <p:cNvSpPr/>
          <p:nvPr/>
        </p:nvSpPr>
        <p:spPr>
          <a:xfrm>
            <a:off x="5545440" y="243000"/>
            <a:ext cx="15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Aboma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17"/>
          <p:cNvSpPr/>
          <p:nvPr/>
        </p:nvSpPr>
        <p:spPr>
          <a:xfrm>
            <a:off x="4249080" y="368280"/>
            <a:ext cx="127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09f5"/>
                </a:solidFill>
                <a:latin typeface="Comic Sans MS"/>
              </a:rPr>
              <a:t>Oma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325960" y="202572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Ferment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4734000" y="1778040"/>
            <a:ext cx="7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5985000" y="1855800"/>
            <a:ext cx="18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True digestiv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mic Sans MS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Line 21"/>
          <p:cNvSpPr/>
          <p:nvPr/>
        </p:nvSpPr>
        <p:spPr>
          <a:xfrm>
            <a:off x="7129440" y="117792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7739640" y="817560"/>
            <a:ext cx="11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stin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Text Box 23"/>
          <p:cNvSpPr/>
          <p:nvPr/>
        </p:nvSpPr>
        <p:spPr>
          <a:xfrm>
            <a:off x="5950440" y="893880"/>
            <a:ext cx="74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 =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 - 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Line 24"/>
          <p:cNvSpPr/>
          <p:nvPr/>
        </p:nvSpPr>
        <p:spPr>
          <a:xfrm>
            <a:off x="1379520" y="1131840"/>
            <a:ext cx="49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25"/>
          <p:cNvSpPr/>
          <p:nvPr/>
        </p:nvSpPr>
        <p:spPr>
          <a:xfrm>
            <a:off x="421560" y="89532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outh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lide Number Placeholder 5"/>
          <p:cNvSpPr/>
          <p:nvPr/>
        </p:nvSpPr>
        <p:spPr>
          <a:xfrm>
            <a:off x="6781680" y="380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45E9-5C46-48E0-A999-98DA2B88EF38}" type="slidenum">
              <a:rPr b="1" lang="en-US" sz="20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9087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09f5"/>
                </a:solidFill>
                <a:latin typeface="Comic Sans MS"/>
              </a:rPr>
              <a:t>Four chambered foreguts</a:t>
            </a:r>
            <a:endParaRPr b="0" lang="en-US" sz="2800" spc="-1" strike="noStrike">
              <a:solidFill>
                <a:srgbClr val="3009f5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37824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eticulum and Rum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ermentation,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H 5.5 - 7.5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ouses the microorganis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olatile fatty acids absorbed through rumen wall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5" descr="rumen_right"/>
          <p:cNvPicPr/>
          <p:nvPr/>
        </p:nvPicPr>
        <p:blipFill>
          <a:blip r:embed="rId1"/>
          <a:stretch/>
        </p:blipFill>
        <p:spPr>
          <a:xfrm>
            <a:off x="4572000" y="1066680"/>
            <a:ext cx="4076640" cy="2435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7"/>
          <p:cNvSpPr/>
          <p:nvPr/>
        </p:nvSpPr>
        <p:spPr>
          <a:xfrm>
            <a:off x="4495680" y="3886200"/>
            <a:ext cx="4191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ma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Acts like a filter: accepts only smallest particl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bomass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ue stomach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H 1-2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psin secreting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2" name="Picture 9" descr="omasum"/>
          <p:cNvPicPr/>
          <p:nvPr/>
        </p:nvPicPr>
        <p:blipFill>
          <a:blip r:embed="rId2"/>
          <a:stretch/>
        </p:blipFill>
        <p:spPr>
          <a:xfrm>
            <a:off x="762120" y="3809880"/>
            <a:ext cx="2997000" cy="256860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1"/>
          <p:cNvSpPr/>
          <p:nvPr/>
        </p:nvSpPr>
        <p:spPr>
          <a:xfrm>
            <a:off x="3886200" y="4114800"/>
            <a:ext cx="533520" cy="6094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07:05:02Z</dcterms:created>
  <dc:creator> </dc:creator>
  <dc:description/>
  <dc:language>en-US</dc:language>
  <cp:lastModifiedBy>luponed</cp:lastModifiedBy>
  <dcterms:modified xsi:type="dcterms:W3CDTF">2010-05-23T23:39:58Z</dcterms:modified>
  <cp:revision>168</cp:revision>
  <dc:subject/>
  <dc:title>Slide 1</dc:title>
</cp:coreProperties>
</file>