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png" ContentType="image/pn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3A478-A949-43B4-BB17-99D8C5B8A8F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F5FF-44BE-4D97-AC61-139325EFF838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30D-E498-42CD-8F2D-3C88AE9A3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2001-C26C-4E5D-81A7-7520358E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E6C-07B4-41C6-8509-5F4C64952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D780-6933-4002-BE42-8B5DD5E7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785-8B74-4BF7-9255-07084FCD7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FD91-DB35-4884-9B72-45CEB981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226A-0DE1-4FFF-AE4B-6656E7BE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7391-07FB-4FF3-9C47-6E0B5E5F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1B7E-FB14-45CA-8B48-32A6E467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837E-DD11-4FF6-970D-06F67D8BD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BE5D-82AF-4F4D-A7A8-96565E5B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F146-49D6-48A5-BFB2-AA00BDC2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E4619-7E34-47BD-B8BC-031E6141E3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Regulatory Mechanisms in Animal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\\columba\users\Teachers\OMahonyE\My Pictures\_hot head.jpg"/>
          <p:cNvPicPr/>
          <p:nvPr/>
        </p:nvPicPr>
        <p:blipFill>
          <a:blip r:embed="rId1"/>
          <a:stretch/>
        </p:blipFill>
        <p:spPr>
          <a:xfrm>
            <a:off x="857160" y="171468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357720" y="5357880"/>
            <a:ext cx="44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 new Melbourne Cup Hat fashion. Why is she doing th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entral Nervous System consists of the brain and spinal co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Peripheral Nervous System delivers information to the CNS and carries messages from the CNS to other organs through communication lines called nerv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428760" y="214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ree Main Types of Neur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nsory- Conduct information from receptors to C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Intermediate- inter connne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Motor- Leave- CNS  and stimulate muscles or gland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Oval 6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68580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2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r g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5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6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7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8"/>
          <p:cNvSpPr/>
          <p:nvPr/>
        </p:nvSpPr>
        <p:spPr>
          <a:xfrm>
            <a:off x="685800" y="26668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 nervous system in 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Box 15"/>
          <p:cNvSpPr/>
          <p:nvPr/>
        </p:nvSpPr>
        <p:spPr>
          <a:xfrm>
            <a:off x="1857240" y="214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Sensory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16"/>
          <p:cNvSpPr/>
          <p:nvPr/>
        </p:nvSpPr>
        <p:spPr>
          <a:xfrm>
            <a:off x="2143080" y="6396120"/>
            <a:ext cx="322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Motor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17"/>
          <p:cNvSpPr/>
          <p:nvPr/>
        </p:nvSpPr>
        <p:spPr>
          <a:xfrm>
            <a:off x="5000760" y="31431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0000"/>
                </a:solidFill>
                <a:latin typeface="Calibr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7724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What is going on with the nervous system when you are driving and you see a red ligh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4" descr="\\columba\users\Teachers\OMahonyE\My Pictures\Traffic_lights.jpg"/>
          <p:cNvPicPr/>
          <p:nvPr/>
        </p:nvPicPr>
        <p:blipFill>
          <a:blip r:embed="rId1"/>
          <a:stretch/>
        </p:blipFill>
        <p:spPr>
          <a:xfrm>
            <a:off x="3048120" y="3352680"/>
            <a:ext cx="3174840" cy="31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6094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timul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e a red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5410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ens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3124080" y="6858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tina in e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5"/>
          <p:cNvSpPr/>
          <p:nvPr/>
        </p:nvSpPr>
        <p:spPr>
          <a:xfrm>
            <a:off x="6781680" y="2666880"/>
            <a:ext cx="2133720" cy="182880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in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Spinal C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990720" y="480060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Car co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o a 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3352680" y="3809880"/>
            <a:ext cx="1828800" cy="22860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Eff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us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ress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ra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and clu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5638680" y="4724280"/>
            <a:ext cx="1828800" cy="13716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Mot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Neur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9"/>
          <p:cNvSpPr/>
          <p:nvPr/>
        </p:nvSpPr>
        <p:spPr>
          <a:xfrm>
            <a:off x="2438280" y="1447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0"/>
          <p:cNvSpPr/>
          <p:nvPr/>
        </p:nvSpPr>
        <p:spPr>
          <a:xfrm>
            <a:off x="4952880" y="13716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11"/>
          <p:cNvSpPr/>
          <p:nvPr/>
        </p:nvSpPr>
        <p:spPr>
          <a:xfrm>
            <a:off x="6781680" y="1981080"/>
            <a:ext cx="6858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2"/>
          <p:cNvSpPr/>
          <p:nvPr/>
        </p:nvSpPr>
        <p:spPr>
          <a:xfrm flipH="1">
            <a:off x="6857640" y="4038480"/>
            <a:ext cx="6094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Line 13"/>
          <p:cNvSpPr/>
          <p:nvPr/>
        </p:nvSpPr>
        <p:spPr>
          <a:xfrm flipH="1">
            <a:off x="4952520" y="5638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14"/>
          <p:cNvSpPr/>
          <p:nvPr/>
        </p:nvSpPr>
        <p:spPr>
          <a:xfrm flipH="1">
            <a:off x="2590560" y="57913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Neuro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1066680" y="10666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se are chemicals that cross the gap (synapse) from one neuron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http://www.mtsu.edu/~studskl/synapse2.GIF"/>
          <p:cNvPicPr/>
          <p:nvPr/>
        </p:nvPicPr>
        <p:blipFill>
          <a:blip r:embed="rId1"/>
          <a:stretch/>
        </p:blipFill>
        <p:spPr>
          <a:xfrm>
            <a:off x="2241720" y="1905120"/>
            <a:ext cx="419400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The Reflex Ar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685800" y="2209680"/>
            <a:ext cx="784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A rapid response to a stimulus that provides protection from harm to an organism. Under involuntary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Examples………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3" descr="http://www.merck.com/media/mmhe2/figures/fg077_1.gif"/>
          <p:cNvPicPr/>
          <p:nvPr/>
        </p:nvPicPr>
        <p:blipFill>
          <a:blip r:embed="rId1"/>
          <a:stretch/>
        </p:blipFill>
        <p:spPr>
          <a:xfrm>
            <a:off x="1828800" y="1828800"/>
            <a:ext cx="4381560" cy="46483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4"/>
          <p:cNvSpPr/>
          <p:nvPr/>
        </p:nvSpPr>
        <p:spPr>
          <a:xfrm>
            <a:off x="1295280" y="3808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nee Jerk Refl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eflex Arc (Sharp object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4" descr="http://www.fotosearch.com/comp/LIF/LIF114/SA302028.jpg"/>
          <p:cNvPicPr/>
          <p:nvPr/>
        </p:nvPicPr>
        <p:blipFill>
          <a:blip r:embed="rId1"/>
          <a:stretch/>
        </p:blipFill>
        <p:spPr>
          <a:xfrm>
            <a:off x="2133720" y="1981080"/>
            <a:ext cx="499104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Routine Regulation- Regulatory Mechanisms in 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685800" y="2743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Biozone Worksheets 261-26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838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meostasis is the maintenance of a constant internal environment. That is the tissue fluid around the cells needs to remain in a relatively constant st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6" descr="http://fig.cox.miami.edu/~cmallery/150/metab/fig40x11.jpg"/>
          <p:cNvPicPr/>
          <p:nvPr/>
        </p:nvPicPr>
        <p:blipFill>
          <a:blip r:embed="rId1"/>
          <a:stretch/>
        </p:blipFill>
        <p:spPr>
          <a:xfrm>
            <a:off x="2057400" y="3003480"/>
            <a:ext cx="5695920" cy="38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000" spc="-1" strike="noStrike">
                <a:solidFill>
                  <a:srgbClr val="000000"/>
                </a:solidFill>
                <a:latin typeface="Calibri"/>
              </a:rPr>
              <a:t>What factors are under homeostatic control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ody Temp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lood glucose concentr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ater level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Oxygen and carbon dioxide concentration in bl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oncentrations of ions ie sodium, chloride,calciu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3049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nimals need to respond to changes in their external and internal environment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What are some respons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7" descr="http://www.cardmine.co.uk/list24/a240601.jpg"/>
          <p:cNvPicPr/>
          <p:nvPr/>
        </p:nvPicPr>
        <p:blipFill>
          <a:blip r:embed="rId1"/>
          <a:stretch/>
        </p:blipFill>
        <p:spPr>
          <a:xfrm>
            <a:off x="533520" y="1981080"/>
            <a:ext cx="2733480" cy="4119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http://environmental.science.dal.ca/Transportation/Cyclist-Drinking-Water.gif"/>
          <p:cNvPicPr/>
          <p:nvPr/>
        </p:nvPicPr>
        <p:blipFill>
          <a:blip r:embed="rId2"/>
          <a:stretch/>
        </p:blipFill>
        <p:spPr>
          <a:xfrm>
            <a:off x="3809880" y="1981080"/>
            <a:ext cx="2492640" cy="17035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http://www.globalgang.org.uk/images/sandwich_tcm7-788.gif"/>
          <p:cNvPicPr/>
          <p:nvPr/>
        </p:nvPicPr>
        <p:blipFill>
          <a:blip r:embed="rId3"/>
          <a:stretch/>
        </p:blipFill>
        <p:spPr>
          <a:xfrm>
            <a:off x="6248520" y="1752480"/>
            <a:ext cx="2114280" cy="2925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5" descr="http://news.bbc.co.uk/media/images/38732000/jpg/_38732687_cyclist_300_bbc.jpg"/>
          <p:cNvPicPr/>
          <p:nvPr/>
        </p:nvPicPr>
        <p:blipFill>
          <a:blip r:embed="rId4"/>
          <a:stretch/>
        </p:blipFill>
        <p:spPr>
          <a:xfrm>
            <a:off x="3581280" y="4191120"/>
            <a:ext cx="1714680" cy="20574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16"/>
          <p:cNvSpPr/>
          <p:nvPr/>
        </p:nvSpPr>
        <p:spPr>
          <a:xfrm>
            <a:off x="6019920" y="4952880"/>
            <a:ext cx="297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hese responses ensure that various internal factors stay within tolerance lim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990720" y="52578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Temper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3505320" y="3657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Water and solu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6781680" y="13716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Glucose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276720" y="64008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Oxygen, CO</a:t>
            </a: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71360" y="1142640"/>
            <a:ext cx="693396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Animals also have physiological, behavioural and structural adaptations to enure their core temperature remains within their upper and lower tolerance limit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Examples…………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Came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4" descr="http://www.catholicconvert.com/Portals/0/Gallery/Album/19/Camels.jpg"/>
          <p:cNvPicPr/>
          <p:nvPr/>
        </p:nvPicPr>
        <p:blipFill>
          <a:blip r:embed="rId1"/>
          <a:stretch/>
        </p:blipFill>
        <p:spPr>
          <a:xfrm>
            <a:off x="1214280" y="857160"/>
            <a:ext cx="7172640" cy="53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olar Bea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http://7art-screensavers.com/screenshots/bears/polar-bears.jpg"/>
          <p:cNvPicPr/>
          <p:nvPr/>
        </p:nvPicPr>
        <p:blipFill>
          <a:blip r:embed="rId1"/>
          <a:stretch/>
        </p:blipFill>
        <p:spPr>
          <a:xfrm>
            <a:off x="1428840" y="1357200"/>
            <a:ext cx="67150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Calibri"/>
              </a:rPr>
              <a:t>Homeostasis is maintained by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761760" y="1142640"/>
            <a:ext cx="38098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he Hormonal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47960" y="114300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nervous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http://www.cartoonstock.com/newscartoons/cartoonists/tzu/lowres/tzun186l.jpg"/>
          <p:cNvPicPr/>
          <p:nvPr/>
        </p:nvPicPr>
        <p:blipFill>
          <a:blip r:embed="rId1"/>
          <a:stretch/>
        </p:blipFill>
        <p:spPr>
          <a:xfrm>
            <a:off x="380880" y="1905120"/>
            <a:ext cx="4103640" cy="4572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http://www.yachigusaryu.com/blog/pics/top_ten_principles/3/image007.jpg"/>
          <p:cNvPicPr/>
          <p:nvPr/>
        </p:nvPicPr>
        <p:blipFill>
          <a:blip r:embed="rId2"/>
          <a:stretch/>
        </p:blipFill>
        <p:spPr>
          <a:xfrm>
            <a:off x="5181480" y="1981080"/>
            <a:ext cx="2476800" cy="44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0000"/>
                </a:solidFill>
                <a:latin typeface="Calibri"/>
              </a:rPr>
              <a:t>Nervous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599840"/>
            <a:ext cx="404352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e cell 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euron is th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functional (basic) unit of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nervous syst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\\columba\users\Teachers\OMahonyE\My Pictures\neuron1.gif"/>
          <p:cNvPicPr/>
          <p:nvPr/>
        </p:nvPicPr>
        <p:blipFill>
          <a:blip r:embed="rId1"/>
          <a:stretch/>
        </p:blipFill>
        <p:spPr>
          <a:xfrm>
            <a:off x="4876920" y="1676520"/>
            <a:ext cx="3840120" cy="46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7T01:48:57Z</dcterms:created>
  <dc:creator>omahonye</dc:creator>
  <dc:description/>
  <dc:language>en-US</dc:language>
  <cp:lastModifiedBy>luponed</cp:lastModifiedBy>
  <dcterms:modified xsi:type="dcterms:W3CDTF">2010-08-12T03:16:33Z</dcterms:modified>
  <cp:revision>14</cp:revision>
  <dc:subject/>
  <dc:title>Regulatory Mechanisms in Animals </dc:title>
</cp:coreProperties>
</file>