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08C3-1DC6-4D01-A7DA-115988C915D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38C7-799E-4F16-AA27-F3144B78C64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499-410B-4F20-B338-E48F96FB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5BE-85DB-4EA4-99F1-E82BFD72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C40-432E-44E8-A9C8-6D2FEEA9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20A-3374-49F5-A5DC-63A07BD4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8EC-3973-4D65-ABC9-0013F02D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CFE-097B-4C16-BC3F-8DC8F861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C11-0FB6-4728-B7F8-F72AA309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00E-5467-4D0C-B871-08EB61D8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E1C-8EED-426B-B82B-0DE15CF5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536-E80C-48FD-9248-689391EE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65B-C5E3-4FED-9B8D-46FDBBD2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FC0-5660-4B07-BA41-243CF7BE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1330-F713-40D1-8B5D-8A49D1F28B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Regulatory Mechanisms in Animal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\\columba\users\Teachers\OMahonyE\My Pictures\_hot head.jpg"/>
          <p:cNvPicPr/>
          <p:nvPr/>
        </p:nvPicPr>
        <p:blipFill>
          <a:blip r:embed="rId1"/>
          <a:stretch/>
        </p:blipFill>
        <p:spPr>
          <a:xfrm>
            <a:off x="857160" y="17146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357720" y="5357880"/>
            <a:ext cx="44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new Melbourne Cup Hat fashion. Why is she doing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entral Nervous System consists of the brain and spinal 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eripheral Nervous System delivers information to the CNS and carries messages from the CNS to other organs through communication lines called ner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2876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ree Main Types of Neur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nsory- Conduct information from receptors to C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termediate- inter connne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tor- Leave- CNS  and stimulate muscles or gla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094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410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124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781680" y="2666880"/>
            <a:ext cx="2133720" cy="1828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5800" y="48006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352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r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5638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67816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6857640" y="40384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 flipH="1">
            <a:off x="495252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7"/>
          <p:cNvSpPr/>
          <p:nvPr/>
        </p:nvSpPr>
        <p:spPr>
          <a:xfrm flipH="1">
            <a:off x="2590560" y="579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8580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nervous system in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1857240" y="214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Sensory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2143080" y="639612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Mot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5000760" y="31431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going on with the nervous system when you are driving and you see a red l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\\columba\users\Teachers\OMahonyE\My Pictures\Traffic_lights.jpg"/>
          <p:cNvPicPr/>
          <p:nvPr/>
        </p:nvPicPr>
        <p:blipFill>
          <a:blip r:embed="rId1"/>
          <a:stretch/>
        </p:blipFill>
        <p:spPr>
          <a:xfrm>
            <a:off x="3048120" y="3352680"/>
            <a:ext cx="3174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094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e a r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410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124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tina in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6781680" y="2666880"/>
            <a:ext cx="2133720" cy="1828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990720" y="48006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ar 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o a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352680" y="3809880"/>
            <a:ext cx="1828800" cy="228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clu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638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67816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6857640" y="40384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 flipH="1">
            <a:off x="495252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 flipH="1">
            <a:off x="2590560" y="579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se are chemicals that cross the gap (synapse) from one neuron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http://www.mtsu.edu/~studskl/synapse2.GIF"/>
          <p:cNvPicPr/>
          <p:nvPr/>
        </p:nvPicPr>
        <p:blipFill>
          <a:blip r:embed="rId1"/>
          <a:stretch/>
        </p:blipFill>
        <p:spPr>
          <a:xfrm>
            <a:off x="2241720" y="1905120"/>
            <a:ext cx="4194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Reflex Ar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85800" y="220968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rapid response to a stimulus that provides protection from harm to an organism. Under involuntary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xamples………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http://www.merck.com/media/mmhe2/figures/fg077_1.gif"/>
          <p:cNvPicPr/>
          <p:nvPr/>
        </p:nvPicPr>
        <p:blipFill>
          <a:blip r:embed="rId1"/>
          <a:stretch/>
        </p:blipFill>
        <p:spPr>
          <a:xfrm>
            <a:off x="1828800" y="1828800"/>
            <a:ext cx="4381560" cy="4648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29528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nee Jerk Ref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flex Arc (Sharp objec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http://www.fotosearch.com/comp/LIF/LIF114/SA302028.jpg"/>
          <p:cNvPicPr/>
          <p:nvPr/>
        </p:nvPicPr>
        <p:blipFill>
          <a:blip r:embed="rId1"/>
          <a:stretch/>
        </p:blipFill>
        <p:spPr>
          <a:xfrm>
            <a:off x="2133720" y="1981080"/>
            <a:ext cx="49910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outine Regulation- Regulatory Mechanisms in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85800" y="274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iozone Worksheets 261-2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Homeosta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meostasis is the maintenance of a constant internal environment. That is the tissue fluid around the cells needs to remain in a relatively constant 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http://fig.cox.miami.edu/~cmallery/150/metab/fig40x11.jpg"/>
          <p:cNvPicPr/>
          <p:nvPr/>
        </p:nvPicPr>
        <p:blipFill>
          <a:blip r:embed="rId1"/>
          <a:stretch/>
        </p:blipFill>
        <p:spPr>
          <a:xfrm>
            <a:off x="2057400" y="3003480"/>
            <a:ext cx="56959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What factors are under homeostatic contro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ody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lood glucose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ter level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xygen and carbon dioxide concentration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centrations of ions ie sodium, chloride,calc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imals need to respond to changes in their external and internal environ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are some respon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http://www.cardmine.co.uk/list24/a240601.jpg"/>
          <p:cNvPicPr/>
          <p:nvPr/>
        </p:nvPicPr>
        <p:blipFill>
          <a:blip r:embed="rId1"/>
          <a:stretch/>
        </p:blipFill>
        <p:spPr>
          <a:xfrm>
            <a:off x="533520" y="1981080"/>
            <a:ext cx="2733480" cy="411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environmental.science.dal.ca/Transportation/Cyclist-Drinking-Water.gif"/>
          <p:cNvPicPr/>
          <p:nvPr/>
        </p:nvPicPr>
        <p:blipFill>
          <a:blip r:embed="rId2"/>
          <a:stretch/>
        </p:blipFill>
        <p:spPr>
          <a:xfrm>
            <a:off x="3809880" y="1981080"/>
            <a:ext cx="2492640" cy="170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www.globalgang.org.uk/images/sandwich_tcm7-788.gif"/>
          <p:cNvPicPr/>
          <p:nvPr/>
        </p:nvPicPr>
        <p:blipFill>
          <a:blip r:embed="rId3"/>
          <a:stretch/>
        </p:blipFill>
        <p:spPr>
          <a:xfrm>
            <a:off x="6248520" y="1752480"/>
            <a:ext cx="2114280" cy="2925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http://news.bbc.co.uk/media/images/38732000/jpg/_38732687_cyclist_300_bbc.jpg"/>
          <p:cNvPicPr/>
          <p:nvPr/>
        </p:nvPicPr>
        <p:blipFill>
          <a:blip r:embed="rId4"/>
          <a:stretch/>
        </p:blipFill>
        <p:spPr>
          <a:xfrm>
            <a:off x="3581280" y="4191120"/>
            <a:ext cx="171468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6019920" y="49528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se responses ensure that various internal factors stay within tolerance li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990720" y="5257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3505320" y="3657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ater and sol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6781680" y="1371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lucose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27672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xygen, CO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71360" y="1142640"/>
            <a:ext cx="6933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nimals also have physiological, behavioural and structural adaptations to enure their core temperature remains within their upper and lower tolerance limi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xamples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am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www.catholicconvert.com/Portals/0/Gallery/Album/19/Camels.jpg"/>
          <p:cNvPicPr/>
          <p:nvPr/>
        </p:nvPicPr>
        <p:blipFill>
          <a:blip r:embed="rId1"/>
          <a:stretch/>
        </p:blipFill>
        <p:spPr>
          <a:xfrm>
            <a:off x="1214280" y="857160"/>
            <a:ext cx="717264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olar B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7art-screensavers.com/screenshots/bears/polar-bears.jpg"/>
          <p:cNvPicPr/>
          <p:nvPr/>
        </p:nvPicPr>
        <p:blipFill>
          <a:blip r:embed="rId1"/>
          <a:stretch/>
        </p:blipFill>
        <p:spPr>
          <a:xfrm>
            <a:off x="1428840" y="135720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Homeostasis is maintained b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1760" y="11426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Hormona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7960" y="11430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nervous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www.cartoonstock.com/newscartoons/cartoonists/tzu/lowres/tzun186l.jpg"/>
          <p:cNvPicPr/>
          <p:nvPr/>
        </p:nvPicPr>
        <p:blipFill>
          <a:blip r:embed="rId1"/>
          <a:stretch/>
        </p:blipFill>
        <p:spPr>
          <a:xfrm>
            <a:off x="380880" y="1905120"/>
            <a:ext cx="410364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ttp://www.yachigusaryu.com/blog/pics/top_ten_principles/3/image007.jpg"/>
          <p:cNvPicPr/>
          <p:nvPr/>
        </p:nvPicPr>
        <p:blipFill>
          <a:blip r:embed="rId2"/>
          <a:stretch/>
        </p:blipFill>
        <p:spPr>
          <a:xfrm>
            <a:off x="5181480" y="1981080"/>
            <a:ext cx="247680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4043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erve cell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uron is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unctional (basic) unit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ervous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\\columba\users\Teachers\OMahonyE\My Pictures\neuron1.gif"/>
          <p:cNvPicPr/>
          <p:nvPr/>
        </p:nvPicPr>
        <p:blipFill>
          <a:blip r:embed="rId1"/>
          <a:stretch/>
        </p:blipFill>
        <p:spPr>
          <a:xfrm>
            <a:off x="4876920" y="1676520"/>
            <a:ext cx="38401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1:48:57Z</dcterms:created>
  <dc:creator>omahonye</dc:creator>
  <dc:description/>
  <dc:language>en-US</dc:language>
  <cp:lastModifiedBy>luponed</cp:lastModifiedBy>
  <dcterms:modified xsi:type="dcterms:W3CDTF">2010-08-12T03:16:33Z</dcterms:modified>
  <cp:revision>14</cp:revision>
  <dc:subject/>
  <dc:title>Regulatory Mechanisms in Animals </dc:title>
</cp:coreProperties>
</file>