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777-6D15-4FA8-8BD6-9DAC4BCC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6BB-356C-4101-B3DB-6E892C1E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C50-5882-46EA-9BC5-C5257C8D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D9F-1095-4495-A77C-2250BFAB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095-48F2-4E8E-B2E8-1542673A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C0B-00BB-4321-A97B-F37BB366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A7C-AB34-4F21-8C1C-FF85567A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C032-D9D9-46C8-8176-1E34727C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6A4-33F8-42D7-A163-92E7DDC1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F1A-4679-4D34-9FF7-94ECAC1A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1B0-C5D9-4B23-AA87-79641466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D0A-B16F-4DED-A439-92AF3E38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4243-4AF6-48CF-AD35-80D15FC6D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mal Sku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mmals are divided into three groups. Note all mammals feed their young with mi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ntal mammals – Give birth to live young after spending an extended period in the uterus (womb). Examples, humans, dogs, cats, bears, lions, pigs, cows, sheep, 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upials – Give birth to live young in a very undeveloped state. Further development then occurs in a pouch. Examples, kangaroos, koalas, wombats, possums, tasmanian devils, quo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tremes – Mammals that lay eggs. Examples, echidna, platypu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y Kangar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m_gigantus_skull_20"/>
          <p:cNvPicPr/>
          <p:nvPr/>
        </p:nvPicPr>
        <p:blipFill>
          <a:blip r:embed="rId1"/>
          <a:stretch/>
        </p:blipFill>
        <p:spPr>
          <a:xfrm>
            <a:off x="1344600" y="1328760"/>
            <a:ext cx="65325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der Kangar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0" y="1546200"/>
          <a:ext cx="914400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6200"/>
                    <a:ext cx="914400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tal Formula (see worksh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teeth_types"/>
          <p:cNvPicPr/>
          <p:nvPr/>
        </p:nvPicPr>
        <p:blipFill>
          <a:blip r:embed="rId1"/>
          <a:stretch/>
        </p:blipFill>
        <p:spPr>
          <a:xfrm>
            <a:off x="936720" y="1625760"/>
            <a:ext cx="69958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atarrhine_dentition"/>
          <p:cNvPicPr/>
          <p:nvPr/>
        </p:nvPicPr>
        <p:blipFill>
          <a:blip r:embed="rId1"/>
          <a:stretch/>
        </p:blipFill>
        <p:spPr>
          <a:xfrm>
            <a:off x="1612800" y="974880"/>
            <a:ext cx="6026400" cy="48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459080" y="1255680"/>
          <a:ext cx="5689440" cy="1463760"/>
        </p:xfrm>
        <a:graphic>
          <a:graphicData uri="http://schemas.openxmlformats.org/drawingml/2006/table">
            <a:tbl>
              <a:tblPr/>
              <a:tblGrid>
                <a:gridCol w="1352520"/>
                <a:gridCol w="691920"/>
                <a:gridCol w="698760"/>
                <a:gridCol w="1365120"/>
                <a:gridCol w="882720"/>
                <a:gridCol w="698400"/>
              </a:tblGrid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d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 1 3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30"/>
          <p:cNvSpPr/>
          <p:nvPr/>
        </p:nvSpPr>
        <p:spPr>
          <a:xfrm>
            <a:off x="1225440" y="330048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an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 1 3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3 1 2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1940040" y="49068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al Formula of a 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at_skull_jaw_03"/>
          <p:cNvPicPr/>
          <p:nvPr/>
        </p:nvPicPr>
        <p:blipFill>
          <a:blip r:embed="rId1"/>
          <a:stretch/>
        </p:blipFill>
        <p:spPr>
          <a:xfrm>
            <a:off x="1738440" y="773280"/>
            <a:ext cx="598788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rimatedentalformula"/>
          <p:cNvPicPr/>
          <p:nvPr/>
        </p:nvPicPr>
        <p:blipFill>
          <a:blip r:embed="rId1"/>
          <a:stretch/>
        </p:blipFill>
        <p:spPr>
          <a:xfrm>
            <a:off x="534960" y="722160"/>
            <a:ext cx="817416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rocutaskull"/>
          <p:cNvPicPr/>
          <p:nvPr/>
        </p:nvPicPr>
        <p:blipFill>
          <a:blip r:embed="rId1"/>
          <a:stretch/>
        </p:blipFill>
        <p:spPr>
          <a:xfrm>
            <a:off x="905040" y="1305000"/>
            <a:ext cx="7403760" cy="55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338120" y="0"/>
            <a:ext cx="664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potted hyaena. What is its dent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: I 3/3, C 1/1, P 4/3, M 0/1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92280" y="1403280"/>
            <a:ext cx="804996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Premolars have deciduous and adult forms, whereas there are no milk molars, only permanent adult tee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olars are usually more simple than molars, they are smaller and have fewer cusps and roo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here are cases when it is difficult to tell premolars from molars, and in this case we call them cheek teeth, collectiv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Sku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skulls can tell a lot about the animal it came from. If it is a mammal, it is usually quite easy to determine whether it is from a placental mammal or a marsupial. Marsupials tend to hav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  Incomplete ossification of the upper palate when compared to placen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l bones that are broader at the back when compared to plac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wardly deflected shelf of bone in the lower jaw that is lacking in placent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omplete Ossification Of The Upper Palate of a Tree Kangar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5"/>
          <p:cNvGraphicFramePr/>
          <p:nvPr/>
        </p:nvGraphicFramePr>
        <p:xfrm>
          <a:off x="684360" y="1557360"/>
          <a:ext cx="7416720" cy="50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41672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Oval 7"/>
          <p:cNvSpPr/>
          <p:nvPr/>
        </p:nvSpPr>
        <p:spPr>
          <a:xfrm>
            <a:off x="3995640" y="3933720"/>
            <a:ext cx="64764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4572000" y="2722320"/>
            <a:ext cx="1927080" cy="12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>
            <a:off x="4572000" y="2832120"/>
            <a:ext cx="2262240" cy="182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4140360" y="4581360"/>
            <a:ext cx="50472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6491160" y="1650960"/>
            <a:ext cx="13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Circl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ental Mammal (Dingo) shows no such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324000" y="1989000"/>
          <a:ext cx="8497800" cy="45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89000"/>
                    <a:ext cx="8497800" cy="45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atskull"/>
          <p:cNvPicPr/>
          <p:nvPr/>
        </p:nvPicPr>
        <p:blipFill>
          <a:blip r:embed="rId1"/>
          <a:stretch/>
        </p:blipFill>
        <p:spPr>
          <a:xfrm>
            <a:off x="1187280" y="1011240"/>
            <a:ext cx="6624720" cy="5846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826920" y="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sal Bones of C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619280" y="1197000"/>
            <a:ext cx="1368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V="1">
            <a:off x="2987640" y="1773360"/>
            <a:ext cx="331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867280" y="1197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0" y="47628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al Bones of Womb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1116000" y="1527120"/>
          <a:ext cx="7343640" cy="49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27120"/>
                    <a:ext cx="7343640" cy="49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7"/>
          <p:cNvSpPr/>
          <p:nvPr/>
        </p:nvSpPr>
        <p:spPr>
          <a:xfrm>
            <a:off x="468360" y="1557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1547640" y="2133720"/>
            <a:ext cx="216072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68360" y="5805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1547640" y="4221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005518"/>
          <p:cNvPicPr/>
          <p:nvPr/>
        </p:nvPicPr>
        <p:blipFill>
          <a:blip r:embed="rId1"/>
          <a:stretch/>
        </p:blipFill>
        <p:spPr>
          <a:xfrm>
            <a:off x="563400" y="1700280"/>
            <a:ext cx="4176720" cy="515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1116000" y="0"/>
            <a:ext cx="655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Ja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supial                     D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8"/>
          <p:cNvGraphicFramePr/>
          <p:nvPr/>
        </p:nvGraphicFramePr>
        <p:xfrm>
          <a:off x="5632560" y="1628640"/>
          <a:ext cx="304488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2560" y="1628640"/>
                    <a:ext cx="30448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 of mammal can also be estimated by the tee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animals may still have teeth that are yet to eru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animals will show greater wear to the teeth and may have lost several te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1:02:12Z</dcterms:created>
  <dc:creator>Stephen</dc:creator>
  <dc:description/>
  <dc:language>en-US</dc:language>
  <cp:lastModifiedBy>glourys</cp:lastModifiedBy>
  <dcterms:modified xsi:type="dcterms:W3CDTF">2010-05-11T02:28:54Z</dcterms:modified>
  <cp:revision>7</cp:revision>
  <dc:subject/>
  <dc:title>Slide 1</dc:title>
</cp:coreProperties>
</file>