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11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9B11-4414-45A4-B6AA-94CAA659F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1EFE-9AE9-43E7-B0FB-DD6BFFFF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802-CE87-4A21-9EAE-0E9E8D578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80AA-145D-4AD3-A10C-C0C619FA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2266-AB29-4F37-B816-F2D4E616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6D4-07ED-4474-96E6-642FF271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8930-8737-46DF-BA1E-AF7DEFC1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F2FE-8A89-44AF-B451-B0416F58E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A2FB-CC08-42FF-A67E-6B57725E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44DD-84EA-49E3-8F3A-4E82C45D3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9748-A011-4F93-A192-E3079EB1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82E-4B92-45DD-BBCE-CD9F71EA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72D51-4410-43FE-B46B-1F8EC0B2F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mmal Sku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mmals are divided into three groups. Note all mammals feed their young with mil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ntal mammals – Give birth to live young after spending an extended period in the uterus (womb). Examples, humans, dogs, cats, bears, lions, pigs, cows, sheep, ba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supials – Give birth to live young in a very undeveloped state. Further development then occurs in a pouch. Examples, kangaroos, koalas, wombats, possums, tasmanian devils, quo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tremes – Mammals that lay eggs. Examples, echidna, platypu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y Kangar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m_gigantus_skull_20"/>
          <p:cNvPicPr/>
          <p:nvPr/>
        </p:nvPicPr>
        <p:blipFill>
          <a:blip r:embed="rId1"/>
          <a:stretch/>
        </p:blipFill>
        <p:spPr>
          <a:xfrm>
            <a:off x="1344600" y="1328760"/>
            <a:ext cx="653256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der Kangaro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5"/>
          <p:cNvGraphicFramePr/>
          <p:nvPr/>
        </p:nvGraphicFramePr>
        <p:xfrm>
          <a:off x="0" y="1546200"/>
          <a:ext cx="9144000" cy="463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546200"/>
                    <a:ext cx="9144000" cy="463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ntal Formula (see workshe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teeth_types"/>
          <p:cNvPicPr/>
          <p:nvPr/>
        </p:nvPicPr>
        <p:blipFill>
          <a:blip r:embed="rId1"/>
          <a:stretch/>
        </p:blipFill>
        <p:spPr>
          <a:xfrm>
            <a:off x="936720" y="1625760"/>
            <a:ext cx="6995880" cy="49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5" descr="catarrhine_dentition"/>
          <p:cNvPicPr/>
          <p:nvPr/>
        </p:nvPicPr>
        <p:blipFill>
          <a:blip r:embed="rId1"/>
          <a:stretch/>
        </p:blipFill>
        <p:spPr>
          <a:xfrm>
            <a:off x="1612800" y="974880"/>
            <a:ext cx="6026400" cy="48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459080" y="1255680"/>
          <a:ext cx="5689440" cy="1463760"/>
        </p:xfrm>
        <a:graphic>
          <a:graphicData uri="http://schemas.openxmlformats.org/drawingml/2006/table">
            <a:tbl>
              <a:tblPr/>
              <a:tblGrid>
                <a:gridCol w="1352520"/>
                <a:gridCol w="691920"/>
                <a:gridCol w="698760"/>
                <a:gridCol w="1365120"/>
                <a:gridCol w="882720"/>
                <a:gridCol w="698400"/>
              </a:tblGrid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idu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3 1 3</a:t>
                      </a:r>
                      <a:br>
                        <a:rPr sz="1800"/>
                      </a:b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 13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Text Box 30"/>
          <p:cNvSpPr/>
          <p:nvPr/>
        </p:nvSpPr>
        <p:spPr>
          <a:xfrm>
            <a:off x="1225440" y="330048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an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 1 3 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3 1 2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1"/>
          <p:cNvSpPr/>
          <p:nvPr/>
        </p:nvSpPr>
        <p:spPr>
          <a:xfrm>
            <a:off x="1940040" y="490680"/>
            <a:ext cx="52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ntal Formula of a 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at_skull_jaw_03"/>
          <p:cNvPicPr/>
          <p:nvPr/>
        </p:nvPicPr>
        <p:blipFill>
          <a:blip r:embed="rId1"/>
          <a:stretch/>
        </p:blipFill>
        <p:spPr>
          <a:xfrm>
            <a:off x="1738440" y="773280"/>
            <a:ext cx="5987880" cy="56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rimatedentalformula"/>
          <p:cNvPicPr/>
          <p:nvPr/>
        </p:nvPicPr>
        <p:blipFill>
          <a:blip r:embed="rId1"/>
          <a:stretch/>
        </p:blipFill>
        <p:spPr>
          <a:xfrm>
            <a:off x="534960" y="722160"/>
            <a:ext cx="8174160" cy="54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crocutaskull"/>
          <p:cNvPicPr/>
          <p:nvPr/>
        </p:nvPicPr>
        <p:blipFill>
          <a:blip r:embed="rId1"/>
          <a:stretch/>
        </p:blipFill>
        <p:spPr>
          <a:xfrm>
            <a:off x="905040" y="1305000"/>
            <a:ext cx="7403760" cy="5553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338120" y="0"/>
            <a:ext cx="664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spotted hyaena. What is its dental formul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s: I 3/3, C 1/1, P 4/3, M 0/1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692280" y="1403280"/>
            <a:ext cx="804996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Premolars have deciduous and adult forms, whereas there are no milk molars, only permanent adult teeth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molars are usually more simple than molars, they are smaller and have fewer cusps and roo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there are cases when it is difficult to tell premolars from molars, and in this case we call them cheek teeth, collective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l Sku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imal skulls can tell a lot about the animal it came from. If it is a mammal, it is usually quite easy to determine whether it is from a placental mammal or a marsupial. Marsupials tend to hav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   Incomplete ossification of the upper palate when compared to placent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sal bones that are broader at the back when compared to placen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wardly deflected shelf of bone in the lower jaw that is lacking in placent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complete Ossification Of The Upper Palate of a Tree Kangaro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5"/>
          <p:cNvGraphicFramePr/>
          <p:nvPr/>
        </p:nvGraphicFramePr>
        <p:xfrm>
          <a:off x="684360" y="1557360"/>
          <a:ext cx="7416720" cy="50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1557360"/>
                    <a:ext cx="741672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Oval 7"/>
          <p:cNvSpPr/>
          <p:nvPr/>
        </p:nvSpPr>
        <p:spPr>
          <a:xfrm>
            <a:off x="3995640" y="3933720"/>
            <a:ext cx="647640" cy="503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 flipV="1">
            <a:off x="4572000" y="2722320"/>
            <a:ext cx="1927080" cy="12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9"/>
          <p:cNvSpPr/>
          <p:nvPr/>
        </p:nvSpPr>
        <p:spPr>
          <a:xfrm flipH="1">
            <a:off x="4572000" y="2832120"/>
            <a:ext cx="2262240" cy="182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10"/>
          <p:cNvSpPr/>
          <p:nvPr/>
        </p:nvSpPr>
        <p:spPr>
          <a:xfrm>
            <a:off x="4140360" y="4581360"/>
            <a:ext cx="504720" cy="432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6491160" y="1650960"/>
            <a:ext cx="133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Circled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cental Mammal (Dingo) shows no such ho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Object 3"/>
          <p:cNvGraphicFramePr/>
          <p:nvPr/>
        </p:nvGraphicFramePr>
        <p:xfrm>
          <a:off x="324000" y="1989000"/>
          <a:ext cx="8497800" cy="452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89000"/>
                    <a:ext cx="8497800" cy="452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catskull"/>
          <p:cNvPicPr/>
          <p:nvPr/>
        </p:nvPicPr>
        <p:blipFill>
          <a:blip r:embed="rId1"/>
          <a:stretch/>
        </p:blipFill>
        <p:spPr>
          <a:xfrm>
            <a:off x="1187280" y="1011240"/>
            <a:ext cx="6624720" cy="58467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826920" y="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sal Bones of C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619280" y="1197000"/>
            <a:ext cx="136836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 flipV="1">
            <a:off x="2987640" y="1773360"/>
            <a:ext cx="331308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5867280" y="11970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0" y="47628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sal Bones of Womb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Object 5"/>
          <p:cNvGraphicFramePr/>
          <p:nvPr/>
        </p:nvGraphicFramePr>
        <p:xfrm>
          <a:off x="1116000" y="1527120"/>
          <a:ext cx="7343640" cy="496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27120"/>
                    <a:ext cx="7343640" cy="49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Text Box 7"/>
          <p:cNvSpPr/>
          <p:nvPr/>
        </p:nvSpPr>
        <p:spPr>
          <a:xfrm>
            <a:off x="468360" y="155736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ad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1547640" y="2133720"/>
            <a:ext cx="2160720" cy="158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468360" y="580536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er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V="1">
            <a:off x="1547640" y="4221000"/>
            <a:ext cx="432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005518"/>
          <p:cNvPicPr/>
          <p:nvPr/>
        </p:nvPicPr>
        <p:blipFill>
          <a:blip r:embed="rId1"/>
          <a:stretch/>
        </p:blipFill>
        <p:spPr>
          <a:xfrm>
            <a:off x="563400" y="1700280"/>
            <a:ext cx="4176720" cy="51577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1116000" y="0"/>
            <a:ext cx="655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ower Jaw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rsupial                     Ding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8"/>
          <p:cNvGraphicFramePr/>
          <p:nvPr/>
        </p:nvGraphicFramePr>
        <p:xfrm>
          <a:off x="5632560" y="1628640"/>
          <a:ext cx="3044880" cy="4896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632560" y="1628640"/>
                    <a:ext cx="3044880" cy="48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-4680" y="0"/>
            <a:ext cx="914868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ge of mammal can also be estimated by the teeth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animals may still have teeth that are yet to eru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d animals will show greater wear to the teeth and may have lost several tee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2T11:02:12Z</dcterms:created>
  <dc:creator>Stephen</dc:creator>
  <dc:description/>
  <dc:language>en-US</dc:language>
  <cp:lastModifiedBy>glourys</cp:lastModifiedBy>
  <dcterms:modified xsi:type="dcterms:W3CDTF">2010-05-11T02:28:54Z</dcterms:modified>
  <cp:revision>7</cp:revision>
  <dc:subject/>
  <dc:title>Slide 1</dc:title>
</cp:coreProperties>
</file>