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carbrake.wav" ContentType="audio/x-wav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CDE2-1EE7-4B6A-AF75-69F364186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D397-7BE5-4CC8-9AA5-6C7C49AE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12AB-A638-45B9-8081-BBF97E630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24E1-A3A0-4335-B78D-992F2493D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6FA4-364C-4562-9F65-40FCFB94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D3AB-CB0C-48E0-B66D-6F717AEFA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016E-819E-4A30-B027-756CF7FD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79D6-2543-4686-8368-EA988FCF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DBEF-7B8B-49FE-8461-4EF49787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EB4EA-A974-473B-AD98-D0D727E0B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8A3E-9C59-4FCE-A6BA-0DD21E29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325C1-F32D-41FD-A88C-3296FB62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057ED-E246-4C63-804B-5276C96C973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howed that DNA was like a long spiral staircase with two handrails. Each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 rail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s composed of alternating sugar and phosphate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61722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712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is made up of two strands (red and blu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strands form the backbone  of the molecule and are made up of  sugar and phosphate grou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osphate groups give DNA their negative char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held together by nitrogen bases. (yel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28" descr="colour coded DNA"/>
          <p:cNvPicPr/>
          <p:nvPr/>
        </p:nvPicPr>
        <p:blipFill>
          <a:blip r:embed="rId1"/>
          <a:stretch/>
        </p:blipFill>
        <p:spPr>
          <a:xfrm>
            <a:off x="5943600" y="1828800"/>
            <a:ext cx="18381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4278-875E-42B9-8A32-822B435E351F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411280" y="1628640"/>
            <a:ext cx="58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NA is made up of two strands (shown here in blue and red). The strands are held together by nitrogen bases (shown here in 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olour coded DNA"/>
          <p:cNvPicPr/>
          <p:nvPr/>
        </p:nvPicPr>
        <p:blipFill>
          <a:blip r:embed="rId1"/>
          <a:stretch/>
        </p:blipFill>
        <p:spPr>
          <a:xfrm>
            <a:off x="539640" y="1628640"/>
            <a:ext cx="1838520" cy="4772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0" y="6524640"/>
            <a:ext cx="39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academy.d20.co.edu/kadets/lundberg/dnapi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292720" y="6453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www.tokyo-med.ac.jp/genet/picts/dn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dna"/>
          <p:cNvPicPr/>
          <p:nvPr/>
        </p:nvPicPr>
        <p:blipFill>
          <a:blip r:embed="rId2"/>
          <a:stretch/>
        </p:blipFill>
        <p:spPr>
          <a:xfrm>
            <a:off x="6012000" y="3213000"/>
            <a:ext cx="261612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3059280" y="3357720"/>
            <a:ext cx="2808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re are four nitrogen 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ytosine, Guanine, Adenine and Thy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teps are made of paired chemical units or bases. There are four different nitrogen b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ind of pairing is cal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mentary base pa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f you know the bases for one DNA strand you can work out the other str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omplimentary base pair of the following DNA str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ingle DNA molecule can be made of over 100 000 bases (large number of possible combina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ven small differences in sequences will results in different genes being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NA is a single stranded molecu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rand consists of nucleotides linked toge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ucleotide consists of a phosphate group , a sugar and a b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DNA the bases are cytosine, guanine, and aden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DNA the fourth base is Uracil instead of thym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NA is involved in the reading of the information in DNA and the synthesi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have several types of RNA such a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enger RNA (m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RNA (t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85560" y="1785600"/>
            <a:ext cx="7243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a single 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1643040" y="2786040"/>
            <a:ext cx="70120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120" y="1714320"/>
            <a:ext cx="3671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carbon, hydrogen, oxygen and phospho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blocks for genetic material DNA and RNA most comm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of monomers called 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otides consist of a sugar, phosphate group and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nucleic acid.jpg"/>
          <p:cNvPicPr/>
          <p:nvPr/>
        </p:nvPicPr>
        <p:blipFill>
          <a:blip r:embed="rId1"/>
          <a:stretch/>
        </p:blipFill>
        <p:spPr>
          <a:xfrm>
            <a:off x="5357880" y="2071800"/>
            <a:ext cx="291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 between ATP and A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357280" y="185724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biological molecules contain nucleic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2896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NA -  deoxy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NA – 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P – Adenosine tr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P –Adenosine d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e Page 63 of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NA was first discovered in 1869, but it was not until 1944 that it was shown that genes were composed of this chemi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7120" y="1785960"/>
            <a:ext cx="3385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NA: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 molecule that forms th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ckbon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of a chromos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NA in each chromosome is a single, long, thin continuous molecule in which the genes form part of the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na.jpg"/>
          <p:cNvPicPr/>
          <p:nvPr/>
        </p:nvPicPr>
        <p:blipFill>
          <a:blip r:embed="rId1"/>
          <a:stretch/>
        </p:blipFill>
        <p:spPr>
          <a:xfrm>
            <a:off x="5643720" y="1857240"/>
            <a:ext cx="264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334120" y="1600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accessexcellence.org/RC/VL/GG/images/genes.gif"/>
          <p:cNvPicPr/>
          <p:nvPr/>
        </p:nvPicPr>
        <p:blipFill>
          <a:blip r:embed="rId1"/>
          <a:stretch/>
        </p:blipFill>
        <p:spPr>
          <a:xfrm>
            <a:off x="2666880" y="380880"/>
            <a:ext cx="4876920" cy="4497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52480" y="48769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above shows the region of genes on a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 is a region of DNA that controls characteristics that are inher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ttp://employees.csbsju.edu/hjakubowski/classes/ch331/dna/chromosome.gif"/>
          <p:cNvPicPr/>
          <p:nvPr/>
        </p:nvPicPr>
        <p:blipFill>
          <a:blip r:embed="rId1"/>
          <a:stretch/>
        </p:blipFill>
        <p:spPr>
          <a:xfrm>
            <a:off x="2514600" y="533520"/>
            <a:ext cx="5222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are carried by chromosomes in the cell nucleus and are arranged in a line along each chromos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exert their effects through the molecules they 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DNA molecule has a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double helix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shape, which was identified by Watson and Cr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2404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1:11:21Z</dcterms:created>
  <dc:creator>lagrecan</dc:creator>
  <dc:description/>
  <dc:language>en-US</dc:language>
  <cp:lastModifiedBy>luponed</cp:lastModifiedBy>
  <dcterms:modified xsi:type="dcterms:W3CDTF">2010-05-12T05:37:26Z</dcterms:modified>
  <cp:revision>21</cp:revision>
  <dc:subject/>
  <dc:title>DNA</dc:title>
</cp:coreProperties>
</file>