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camera.wav" ContentType="audio/x-wav"/>
  <Override PartName="/ppt/media/image6.png" ContentType="image/png"/>
  <Override PartName="/ppt/media/image11.png" ContentType="image/png"/>
  <Override PartName="/ppt/media/image7.png" ContentType="image/png"/>
  <Override PartName="/ppt/media/carbrake.wav" ContentType="audio/x-wav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3459-E34B-4C5B-BF4A-80904E3A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D9D-1A87-4DF6-AE4B-44EB501D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D94-BCEA-4943-975F-E12DE3F9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03A-8C88-4429-962C-883B021C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2D3-2CEE-4CBA-86D2-30D2E503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224-1BFB-49BD-99A9-7FD880DE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3B1-92A2-41EF-B517-4B4BB951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886-E5DB-4B91-A54A-977A06CA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C52-C132-4854-BC04-AFD52ACC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6E8-A509-44DC-87B0-967CCF57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1CB-D4B1-4CF4-B257-82480566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0A6A-0C6D-4F1B-9C9A-ADA10AB5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ED4A-AF79-411A-B6ED-DE3AE19FDD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500200"/>
            <a:ext cx="77724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showed that DNA was like a long spiral staircase with two handrails. Each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nd rail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is composed of alternating sugar and phosphate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828800" y="4191120"/>
            <a:ext cx="617220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5712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NA is made up of two strands (red and blu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strands form the backbone  of the molecule and are made up of  sugar and phosphate grou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osphate groups give DNA their negative char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held together by nitrogen bases. (yell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28" descr="colour coded DNA"/>
          <p:cNvPicPr/>
          <p:nvPr/>
        </p:nvPicPr>
        <p:blipFill>
          <a:blip r:embed="rId1"/>
          <a:stretch/>
        </p:blipFill>
        <p:spPr>
          <a:xfrm>
            <a:off x="5943600" y="1828800"/>
            <a:ext cx="18381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ABAE-684C-49B0-A03A-AABE39893226}" type="slidenum">
              <a:rPr b="0" lang="en-A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411280" y="1628640"/>
            <a:ext cx="58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NA is made up of two strands (shown here in blue and red). The strands are held together by nitrogen bases (shown here in 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olour coded DNA"/>
          <p:cNvPicPr/>
          <p:nvPr/>
        </p:nvPicPr>
        <p:blipFill>
          <a:blip r:embed="rId1"/>
          <a:stretch/>
        </p:blipFill>
        <p:spPr>
          <a:xfrm>
            <a:off x="539640" y="1628640"/>
            <a:ext cx="1838520" cy="4772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0" y="6524640"/>
            <a:ext cx="39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ttp://academy.d20.co.edu/kadets/lundberg/dnapi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5292720" y="6453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ttp://www.tokyo-med.ac.jp/genet/picts/dn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dna"/>
          <p:cNvPicPr/>
          <p:nvPr/>
        </p:nvPicPr>
        <p:blipFill>
          <a:blip r:embed="rId2"/>
          <a:stretch/>
        </p:blipFill>
        <p:spPr>
          <a:xfrm>
            <a:off x="6012000" y="3213000"/>
            <a:ext cx="2616120" cy="302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>
            <a:off x="3059280" y="3357720"/>
            <a:ext cx="28080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re are four nitrogen b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ytosine, Guanine, Adenine and Thy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Arial"/>
              </a:rPr>
              <a:t>What pairs with 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Arial"/>
              </a:rPr>
              <a:t>What pairs with 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teps are made of paired chemical units or bases. There are four different nitrogen ba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only pairs with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only pairs with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kind of pairing is cal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imentary base pai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if you know the bases for one DNA strand you can work out the other str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complimentary base pair of the following DNA stra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single DNA molecule can be made of over 100 000 bases (large number of possible combina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ven small differences in sequences will results in different genes being for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57120" y="1928520"/>
            <a:ext cx="36716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NA is a single stranded molecu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trand consists of nucleotides linked toge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ucleotide consists of a phosphate group , a sugar and a b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 DNA the bases are cytosine, guanine, and aden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like DNA the fourth base is Uracil instead of thym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rna.jpg"/>
          <p:cNvPicPr/>
          <p:nvPr/>
        </p:nvPicPr>
        <p:blipFill>
          <a:blip r:embed="rId1"/>
          <a:stretch/>
        </p:blipFill>
        <p:spPr>
          <a:xfrm>
            <a:off x="5072040" y="1928880"/>
            <a:ext cx="3005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57120" y="1928520"/>
            <a:ext cx="36716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NA is involved in the reading of the information in DNA and the synthesis of prote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have several types of RNA such a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senger RNA (mR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fer RNA (tR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rna.jpg"/>
          <p:cNvPicPr/>
          <p:nvPr/>
        </p:nvPicPr>
        <p:blipFill>
          <a:blip r:embed="rId1"/>
          <a:stretch/>
        </p:blipFill>
        <p:spPr>
          <a:xfrm>
            <a:off x="5072040" y="1928880"/>
            <a:ext cx="3005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85560" y="1785600"/>
            <a:ext cx="72435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is a single nucleo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http://rds.yahoo.com/_ylt=A0Je5xa1PO9F8HEAvw6jzbkF;_ylu=X3oDMTA4NDgyNWN0BHNlYwNwcm9m/SIG=12j36jl1m/EXP=1173392949/**http%3A//www.uic.edu/classes/bios/bios100/mike/spring2003/atp.jpg"/>
          <p:cNvPicPr/>
          <p:nvPr/>
        </p:nvPicPr>
        <p:blipFill>
          <a:blip r:embed="rId1"/>
          <a:stretch/>
        </p:blipFill>
        <p:spPr>
          <a:xfrm>
            <a:off x="1643040" y="2786040"/>
            <a:ext cx="70120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7120" y="1714320"/>
            <a:ext cx="3671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 carbon, hydrogen, oxygen and phosphor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blocks for genetic material DNA and RNA most comm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of monomers called nucleoti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otides consist of a sugar, phosphate group and b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nucleic acid.jpg"/>
          <p:cNvPicPr/>
          <p:nvPr/>
        </p:nvPicPr>
        <p:blipFill>
          <a:blip r:embed="rId1"/>
          <a:stretch/>
        </p:blipFill>
        <p:spPr>
          <a:xfrm>
            <a:off x="5357880" y="2071800"/>
            <a:ext cx="2916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erence between ATP and A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rds.yahoo.com/_ylt=A0Je5x8pPe9F7poAPUajzbkF;_ylu=X3oDMTA4NDgyNWN0BHNlYwNwcm9m/SIG=12mse5kn1/EXP=1173393065/**http%3A//bioweb.wku.edu/courses/biol115/wyatt/Metabolism/ATP_ADP.gif"/>
          <p:cNvPicPr/>
          <p:nvPr/>
        </p:nvPicPr>
        <p:blipFill>
          <a:blip r:embed="rId1"/>
          <a:stretch/>
        </p:blipFill>
        <p:spPr>
          <a:xfrm>
            <a:off x="2357280" y="1857240"/>
            <a:ext cx="46436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biological molecules contain nucleic ac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292896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NA -  deoxyribonucleic ac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NA – ribonucleic ac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P – Adenosine triphosph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P –Adenosine diphosph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e Page 63 of tex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NA was first discovered in 1869, but it was not until 1944 that it was shown that genes were composed of this chemic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57120" y="1785960"/>
            <a:ext cx="33858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NA: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a molecule that forms the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ackbon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of a chromoso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DNA in each chromosome is a single, long, thin continuous molecule in which the genes form part of the molecu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dna.jpg"/>
          <p:cNvPicPr/>
          <p:nvPr/>
        </p:nvPicPr>
        <p:blipFill>
          <a:blip r:embed="rId1"/>
          <a:stretch/>
        </p:blipFill>
        <p:spPr>
          <a:xfrm>
            <a:off x="5643720" y="1857240"/>
            <a:ext cx="2647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5334120" y="16002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www.accessexcellence.org/RC/VL/GG/images/genes.gif"/>
          <p:cNvPicPr/>
          <p:nvPr/>
        </p:nvPicPr>
        <p:blipFill>
          <a:blip r:embed="rId1"/>
          <a:stretch/>
        </p:blipFill>
        <p:spPr>
          <a:xfrm>
            <a:off x="2666880" y="380880"/>
            <a:ext cx="4876920" cy="4497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752480" y="4876920"/>
            <a:ext cx="6858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agram above shows the region of genes on a chrom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ene is a region of DNA that controls characteristics that are inher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http://employees.csbsju.edu/hjakubowski/classes/ch331/dna/chromosome.gif"/>
          <p:cNvPicPr/>
          <p:nvPr/>
        </p:nvPicPr>
        <p:blipFill>
          <a:blip r:embed="rId1"/>
          <a:stretch/>
        </p:blipFill>
        <p:spPr>
          <a:xfrm>
            <a:off x="2514600" y="533520"/>
            <a:ext cx="5222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enes are carried by chromosomes in the cell nucleus and are arranged in a line along each chromos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enes exert their effects through the molecules they produ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DNA molecule has a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double helix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shape, which was identified by Watson and Cri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24048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1:11:21Z</dcterms:created>
  <dc:creator>lagrecan</dc:creator>
  <dc:description/>
  <dc:language>en-US</dc:language>
  <cp:lastModifiedBy>luponed</cp:lastModifiedBy>
  <dcterms:modified xsi:type="dcterms:W3CDTF">2010-05-12T05:37:26Z</dcterms:modified>
  <cp:revision>21</cp:revision>
  <dc:subject/>
  <dc:title>DNA</dc:title>
</cp:coreProperties>
</file>