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camera.wav" ContentType="audio/x-wav"/>
  <Override PartName="/ppt/media/image6.png" ContentType="image/png"/>
  <Override PartName="/ppt/media/image11.png" ContentType="image/png"/>
  <Override PartName="/ppt/media/image7.png" ContentType="image/png"/>
  <Override PartName="/ppt/media/carbrake.wav" ContentType="audio/x-wav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1EBA-3831-4FBB-B6E9-60898039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C8FD-5D23-428D-A945-1D3304EB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40D07-3A99-4DBD-B615-5B6960FDD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A6E6-4239-4FD3-9F8F-0C242BB6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69D48-F8D9-4656-B04E-4FA685E0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6967B-8DA3-4DBE-AA84-08E3C3A80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7008-8B19-420E-B645-FE30551C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7C22-39CD-4C76-ACD3-0CF4E94F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0EA5-8FF1-4EB3-9681-CF8808E99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27C-422F-4385-9878-36CC09540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E0B72-201B-4EB3-9CF2-CC78492D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D544-1307-4AB5-87F1-1007A134B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48F1-E1D5-4944-AE98-47F4EA00E61A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2500200"/>
            <a:ext cx="7772400" cy="59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Nucleic acid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y showed that DNA was like a long spiral staircase with two handrails. Each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and rail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is composed of alternating sugar and phosphate uni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828800" y="4191120"/>
            <a:ext cx="617220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57120" y="1981080"/>
            <a:ext cx="3848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NA is made up of two strands (red and blue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se strands form the backbone  of the molecule and are made up of  sugar and phosphate group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hosphate groups give DNA their negative charg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y are held together by nitrogen bases. (yellow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28" descr="colour coded DNA"/>
          <p:cNvPicPr/>
          <p:nvPr/>
        </p:nvPicPr>
        <p:blipFill>
          <a:blip r:embed="rId1"/>
          <a:stretch/>
        </p:blipFill>
        <p:spPr>
          <a:xfrm>
            <a:off x="5943600" y="1828800"/>
            <a:ext cx="1838160" cy="47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4"/>
          <p:cNvSpPr/>
          <p:nvPr/>
        </p:nvSpPr>
        <p:spPr>
          <a:xfrm>
            <a:off x="36957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5FF2D-7853-41FA-8D07-E4FD6261F2CC}" type="slidenum">
              <a:rPr b="0" lang="en-A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411280" y="1628640"/>
            <a:ext cx="5832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DNA is made up of two strands (shown here in blue and red). The strands are held together by nitrogen bases (shown here in yell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colour coded DNA"/>
          <p:cNvPicPr/>
          <p:nvPr/>
        </p:nvPicPr>
        <p:blipFill>
          <a:blip r:embed="rId1"/>
          <a:stretch/>
        </p:blipFill>
        <p:spPr>
          <a:xfrm>
            <a:off x="539640" y="1628640"/>
            <a:ext cx="1838520" cy="47721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0" y="6524640"/>
            <a:ext cx="3924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ttp://academy.d20.co.edu/kadets/lundberg/dnapic2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5292720" y="6453360"/>
            <a:ext cx="36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http://www.tokyo-med.ac.jp/genet/picts/dna.jp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dna"/>
          <p:cNvPicPr/>
          <p:nvPr/>
        </p:nvPicPr>
        <p:blipFill>
          <a:blip r:embed="rId2"/>
          <a:stretch/>
        </p:blipFill>
        <p:spPr>
          <a:xfrm>
            <a:off x="6012000" y="3213000"/>
            <a:ext cx="2616120" cy="302436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5"/>
          <p:cNvSpPr/>
          <p:nvPr/>
        </p:nvSpPr>
        <p:spPr>
          <a:xfrm>
            <a:off x="3059280" y="3357720"/>
            <a:ext cx="280800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re are four nitrogen bas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ytosine, Guanine, Adenine and Thym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Arial"/>
              </a:rPr>
              <a:t>What pairs with C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ff"/>
                </a:solidFill>
                <a:latin typeface="Arial"/>
              </a:rPr>
              <a:t>What pairs with 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steps are made of paired chemical units or bases. There are four different nitrogen ba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denine (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uanine (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Cytosine (C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ymine (T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only pairs with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only pairs with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kind of pairing is called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imentary base pair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 if you know the bases for one DNA strand you can work out the other stran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complimentary base pair of the following DNA stran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T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single DNA molecule can be made of over 100 000 bases (large number of possible combinations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Even small differences in sequences will results in different genes being forme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257120" y="1928520"/>
            <a:ext cx="36716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NA is a single stranded molecu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strand consists of nucleotides linked together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nucleotide consists of a phosphate group , a sugar and a bas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ike DNA the bases are cytosine, guanine, and adenin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nlike DNA the fourth base is Uracil instead of thymin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4" descr="rna.jpg"/>
          <p:cNvPicPr/>
          <p:nvPr/>
        </p:nvPicPr>
        <p:blipFill>
          <a:blip r:embed="rId1"/>
          <a:stretch/>
        </p:blipFill>
        <p:spPr>
          <a:xfrm>
            <a:off x="5072040" y="1928880"/>
            <a:ext cx="30052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257120" y="1928520"/>
            <a:ext cx="3671640" cy="41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NA is involved in the reading of the information in DNA and the synthesis of protei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You can have several types of RNA such a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ssenger RNA (mR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fer RNA (tRN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4" descr="rna.jpg"/>
          <p:cNvPicPr/>
          <p:nvPr/>
        </p:nvPicPr>
        <p:blipFill>
          <a:blip r:embed="rId1"/>
          <a:stretch/>
        </p:blipFill>
        <p:spPr>
          <a:xfrm>
            <a:off x="5072040" y="1928880"/>
            <a:ext cx="30052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T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285560" y="1785600"/>
            <a:ext cx="72435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TP is a single nucleo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6" descr="http://rds.yahoo.com/_ylt=A0Je5xa1PO9F8HEAvw6jzbkF;_ylu=X3oDMTA4NDgyNWN0BHNlYwNwcm9m/SIG=12j36jl1m/EXP=1173392949/**http%3A//www.uic.edu/classes/bios/bios100/mike/spring2003/atp.jpg"/>
          <p:cNvPicPr/>
          <p:nvPr/>
        </p:nvPicPr>
        <p:blipFill>
          <a:blip r:embed="rId1"/>
          <a:stretch/>
        </p:blipFill>
        <p:spPr>
          <a:xfrm>
            <a:off x="1643040" y="2786040"/>
            <a:ext cx="701208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ucleic Aci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257120" y="1714320"/>
            <a:ext cx="367164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ain carbon, hydrogen, oxygen and phosphor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blocks for genetic material DNA and RNA most comm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de of monomers called nucleoti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cleotides consist of a sugar, phosphate group and ba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nucleic acid.jpg"/>
          <p:cNvPicPr/>
          <p:nvPr/>
        </p:nvPicPr>
        <p:blipFill>
          <a:blip r:embed="rId1"/>
          <a:stretch/>
        </p:blipFill>
        <p:spPr>
          <a:xfrm>
            <a:off x="5357880" y="2071800"/>
            <a:ext cx="2916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fference between ATP and AD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http://rds.yahoo.com/_ylt=A0Je5x8pPe9F7poAPUajzbkF;_ylu=X3oDMTA4NDgyNWN0BHNlYwNwcm9m/SIG=12mse5kn1/EXP=1173393065/**http%3A//bioweb.wku.edu/courses/biol115/wyatt/Metabolism/ATP_ADP.gif"/>
          <p:cNvPicPr/>
          <p:nvPr/>
        </p:nvPicPr>
        <p:blipFill>
          <a:blip r:embed="rId1"/>
          <a:stretch/>
        </p:blipFill>
        <p:spPr>
          <a:xfrm>
            <a:off x="2357280" y="1857240"/>
            <a:ext cx="464364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128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biological molecules contain nucleic aci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71600" y="2928960"/>
            <a:ext cx="77724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NA -  deoxyribonucleic aci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RNA – ribonucleic aci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TP – Adenosine triphosph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P –Adenosine diphosphat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ee Page 63 of tex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DNA was first discovered in 1869, but it was not until 1944 that it was shown that genes were composed of this chemic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257120" y="1785960"/>
            <a:ext cx="33858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000000"/>
                </a:solidFill>
                <a:latin typeface="Calibri"/>
              </a:rPr>
              <a:t>DNA: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a molecule that forms the 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backbone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 of a chromosome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The DNA in each chromosome is a single, long, thin continuous molecule in which the genes form part of the molecu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dna.jpg"/>
          <p:cNvPicPr/>
          <p:nvPr/>
        </p:nvPicPr>
        <p:blipFill>
          <a:blip r:embed="rId1"/>
          <a:stretch/>
        </p:blipFill>
        <p:spPr>
          <a:xfrm>
            <a:off x="5643720" y="1857240"/>
            <a:ext cx="26478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5334120" y="160020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http://www.accessexcellence.org/RC/VL/GG/images/genes.gif"/>
          <p:cNvPicPr/>
          <p:nvPr/>
        </p:nvPicPr>
        <p:blipFill>
          <a:blip r:embed="rId1"/>
          <a:stretch/>
        </p:blipFill>
        <p:spPr>
          <a:xfrm>
            <a:off x="2666880" y="380880"/>
            <a:ext cx="4876920" cy="44974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1752480" y="4876920"/>
            <a:ext cx="6858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agram above shows the region of genes on a chromoso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ene is a region of DNA that controls characteristics that are inheri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http://employees.csbsju.edu/hjakubowski/classes/ch331/dna/chromosome.gif"/>
          <p:cNvPicPr/>
          <p:nvPr/>
        </p:nvPicPr>
        <p:blipFill>
          <a:blip r:embed="rId1"/>
          <a:stretch/>
        </p:blipFill>
        <p:spPr>
          <a:xfrm>
            <a:off x="2514600" y="533520"/>
            <a:ext cx="522288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enes are carried by chromosomes in the cell nucleus and are arranged in a line along each chromoso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Genes exert their effects through the molecules they produ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The DNA molecule has a </a:t>
            </a:r>
            <a:r>
              <a:rPr b="1" lang="en-AU" sz="3200" spc="-1" strike="noStrike">
                <a:solidFill>
                  <a:srgbClr val="000000"/>
                </a:solidFill>
                <a:latin typeface="Calibri"/>
              </a:rPr>
              <a:t>double helix</a:t>
            </a: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 shape, which was identified by Watson and Cric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4648320" y="3048120"/>
            <a:ext cx="24048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1:11:21Z</dcterms:created>
  <dc:creator>lagrecan</dc:creator>
  <dc:description/>
  <dc:language>en-US</dc:language>
  <cp:lastModifiedBy>luponed</cp:lastModifiedBy>
  <dcterms:modified xsi:type="dcterms:W3CDTF">2010-05-12T05:37:26Z</dcterms:modified>
  <cp:revision>21</cp:revision>
  <dc:subject/>
  <dc:title>DNA</dc:title>
</cp:coreProperties>
</file>