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411-45FF-42D4-97F9-17B063CF4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8394-DD4D-42C2-8DEB-5F8F34C8D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A619-6DC0-4A6B-AC1A-BDA5E7F2D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1AC-A1B9-4E7B-8312-9771E4843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CCEC-9D31-4368-921D-67B949128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104A-0BE3-448D-BB7A-FE34A6DD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13B-4264-43EA-ABE0-585B2ECA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3DC-B90D-4C9D-8B1A-58DE2C544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02A-3407-453C-9A19-3BCB1E21D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24D77-B075-4D76-901D-4FC1A5A39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AA3-F163-485B-9B68-28225B149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F66F-8C40-4501-AB94-00BD89C0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0F71-2679-4D5E-BFE3-0705EBB070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casioncameras.com/einsteinstoolbox/images/diatoms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need the following compounds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3284640"/>
            <a:ext cx="720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stomata"/>
          <p:cNvPicPr/>
          <p:nvPr/>
        </p:nvPicPr>
        <p:blipFill>
          <a:blip r:embed="rId1"/>
          <a:stretch/>
        </p:blipFill>
        <p:spPr>
          <a:xfrm>
            <a:off x="1187280" y="1036800"/>
            <a:ext cx="6337440" cy="5821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7964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 (pore) open and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tomata"/>
          <p:cNvPicPr/>
          <p:nvPr/>
        </p:nvPicPr>
        <p:blipFill>
          <a:blip r:embed="rId1"/>
          <a:stretch/>
        </p:blipFill>
        <p:spPr>
          <a:xfrm>
            <a:off x="684360" y="1773360"/>
            <a:ext cx="39765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omata"/>
          <p:cNvPicPr/>
          <p:nvPr/>
        </p:nvPicPr>
        <p:blipFill>
          <a:blip r:embed="rId2"/>
          <a:stretch/>
        </p:blipFill>
        <p:spPr>
          <a:xfrm>
            <a:off x="5076720" y="1197000"/>
            <a:ext cx="3465720" cy="518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75564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 the undersurface of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plants make proteins and other orga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must also obtain mineral ions from the soil,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ts combine carbohydrates with these ions, they can then make all the other organic compounds it nee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ing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are given a “feed” by a gardener, he or she is applying mineral ions so that the plant’s roots can absorb these from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ld, plants obtain these mineral from the soil. Bacteria and fungi are essential in the soil for recycling dead organic matter back into mineral ion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icture5"/>
          <p:cNvPicPr/>
          <p:nvPr/>
        </p:nvPicPr>
        <p:blipFill>
          <a:blip r:embed="rId1"/>
          <a:stretch/>
        </p:blipFill>
        <p:spPr>
          <a:xfrm>
            <a:off x="2124000" y="1341360"/>
            <a:ext cx="504036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Fungi from soil grown on 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99812-053-Soil-Bacteria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yphae%20in%20soil%20white"/>
          <p:cNvPicPr/>
          <p:nvPr/>
        </p:nvPicPr>
        <p:blipFill>
          <a:blip r:embed="rId1"/>
          <a:stretch/>
        </p:blipFill>
        <p:spPr>
          <a:xfrm>
            <a:off x="684360" y="1341360"/>
            <a:ext cx="3859200" cy="486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vampraid_LR"/>
          <p:cNvPicPr/>
          <p:nvPr/>
        </p:nvPicPr>
        <p:blipFill>
          <a:blip r:embed="rId2"/>
          <a:stretch/>
        </p:blipFill>
        <p:spPr>
          <a:xfrm>
            <a:off x="4951440" y="1413000"/>
            <a:ext cx="38480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s (self feeders) – these organisms produce their own organic compounds by photosynthesis. Example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EEN-and-BLOOMING-PLANTS_L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iat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653000"/>
            <a:ext cx="208764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ommon%20ragweed%20vegetative%20plants"/>
          <p:cNvPicPr/>
          <p:nvPr/>
        </p:nvPicPr>
        <p:blipFill>
          <a:blip r:embed="rId4"/>
          <a:stretch/>
        </p:blipFill>
        <p:spPr>
          <a:xfrm>
            <a:off x="4932360" y="4076640"/>
            <a:ext cx="3097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terotrophs (feed on others). These organisms obtain organic matter by eating other organis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rog"/>
          <p:cNvPicPr/>
          <p:nvPr/>
        </p:nvPicPr>
        <p:blipFill>
          <a:blip r:embed="rId1"/>
          <a:stretch/>
        </p:blipFill>
        <p:spPr>
          <a:xfrm>
            <a:off x="89532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gorilla"/>
          <p:cNvPicPr/>
          <p:nvPr/>
        </p:nvPicPr>
        <p:blipFill>
          <a:blip r:embed="rId2"/>
          <a:stretch/>
        </p:blipFill>
        <p:spPr>
          <a:xfrm>
            <a:off x="5213520" y="160020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ger2"/>
          <p:cNvPicPr/>
          <p:nvPr/>
        </p:nvPicPr>
        <p:blipFill>
          <a:blip r:embed="rId3"/>
          <a:stretch/>
        </p:blipFill>
        <p:spPr>
          <a:xfrm>
            <a:off x="1393920" y="3938760"/>
            <a:ext cx="2631960" cy="26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onathan%20the%20fruit%20bat"/>
          <p:cNvPicPr/>
          <p:nvPr/>
        </p:nvPicPr>
        <p:blipFill>
          <a:blip r:embed="rId4"/>
          <a:stretch/>
        </p:blipFill>
        <p:spPr>
          <a:xfrm>
            <a:off x="5964120" y="4095720"/>
            <a:ext cx="1822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troph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(green plants) obtain carbohydrates through the process of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reen_plants_aq"/>
          <p:cNvPicPr/>
          <p:nvPr/>
        </p:nvPicPr>
        <p:blipFill>
          <a:blip r:embed="rId1"/>
          <a:stretch/>
        </p:blipFill>
        <p:spPr>
          <a:xfrm>
            <a:off x="755640" y="4149720"/>
            <a:ext cx="75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main plant organ that carries out photosynthesi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40388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aves"/>
          <p:cNvPicPr/>
          <p:nvPr/>
        </p:nvPicPr>
        <p:blipFill>
          <a:blip r:embed="rId1"/>
          <a:stretch/>
        </p:blipFill>
        <p:spPr>
          <a:xfrm>
            <a:off x="1979640" y="2517840"/>
            <a:ext cx="4608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a leaf adapted to carry out photosynth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aftrans"/>
          <p:cNvPicPr/>
          <p:nvPr/>
        </p:nvPicPr>
        <p:blipFill>
          <a:blip r:embed="rId1"/>
          <a:stretch/>
        </p:blipFill>
        <p:spPr>
          <a:xfrm>
            <a:off x="1187280" y="1833480"/>
            <a:ext cx="63374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EAFSEC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leafdixs"/>
          <p:cNvPicPr/>
          <p:nvPr/>
        </p:nvPicPr>
        <p:blipFill>
          <a:blip r:embed="rId1"/>
          <a:stretch/>
        </p:blipFill>
        <p:spPr>
          <a:xfrm>
            <a:off x="0" y="1052640"/>
            <a:ext cx="7056360" cy="41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30872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isade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19280" y="551664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gy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76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 with two gu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2340000" y="3573000"/>
            <a:ext cx="165564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 flipV="1">
            <a:off x="4500720" y="4581000"/>
            <a:ext cx="158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H="1">
            <a:off x="6156000" y="1773360"/>
            <a:ext cx="1368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132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932360" y="76500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826920" y="393372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765000"/>
            <a:ext cx="79200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lant is well watered, the guard cells swell (become turgid) and the stoma opens to let in carbo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, however, lets water vapour escape from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lant loses too much water vapour, the guard cells lose their turgidity and become flac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toma to close, preventing further water loss from the pla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0:34:20Z</dcterms:created>
  <dc:creator>Stephen</dc:creator>
  <dc:description/>
  <dc:language>en-US</dc:language>
  <cp:lastModifiedBy>luponed</cp:lastModifiedBy>
  <dcterms:modified xsi:type="dcterms:W3CDTF">2010-05-17T22:13:04Z</dcterms:modified>
  <cp:revision>6</cp:revision>
  <dc:subject/>
  <dc:title>Nutrition</dc:title>
</cp:coreProperties>
</file>