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14C-FE0E-4306-AD0E-6F642A4D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CAA-E905-420F-B228-50D56304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E75-2BB0-4C59-B4A4-7873FEF9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444-621F-4179-B243-073F9040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4C2-C0E7-4DB1-8D40-75D3428C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9BD-B3D1-401F-AA62-8EEF6E8B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650-EC57-42C0-B0BB-5A77CDCD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725-FA29-42C8-B355-C28F9FF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5C5-E6D5-4DD3-A069-0DB7187B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C5F-BE82-4094-ACD3-891C2726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C80-C75A-4350-8590-27899EE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98A-CBB0-4B59-85BA-48A4A25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325C-AE36-4E85-9F57-CCCE60DD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casioncameras.com/einsteinstoolbox/images/diatoms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916280"/>
            <a:ext cx="64008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rganisms need the following compounds to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42920" y="3284640"/>
            <a:ext cx="720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mins and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stomata"/>
          <p:cNvPicPr/>
          <p:nvPr/>
        </p:nvPicPr>
        <p:blipFill>
          <a:blip r:embed="rId1"/>
          <a:stretch/>
        </p:blipFill>
        <p:spPr>
          <a:xfrm>
            <a:off x="1187280" y="1036800"/>
            <a:ext cx="6337440" cy="5821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979640" y="333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 (pore) open and cl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Stomata"/>
          <p:cNvPicPr/>
          <p:nvPr/>
        </p:nvPicPr>
        <p:blipFill>
          <a:blip r:embed="rId1"/>
          <a:stretch/>
        </p:blipFill>
        <p:spPr>
          <a:xfrm>
            <a:off x="684360" y="1773360"/>
            <a:ext cx="3976560" cy="424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stomata"/>
          <p:cNvPicPr/>
          <p:nvPr/>
        </p:nvPicPr>
        <p:blipFill>
          <a:blip r:embed="rId2"/>
          <a:stretch/>
        </p:blipFill>
        <p:spPr>
          <a:xfrm>
            <a:off x="5076720" y="1197000"/>
            <a:ext cx="3465720" cy="5184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755640" y="40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on the undersurface of a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plants make proteins and other orga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nt must also obtain mineral ions from the soil, such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s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phates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nts combine carbohydrates with these ions, they can then make all the other organic compounds it nee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ing a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nts are given a “feed” by a gardener, he or she is applying mineral ions so that the plant’s roots can absorb these from the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ild, plants obtain these mineral from the soil. Bacteria and fungi are essential in the soil for recycling dead organic matter back into mineral ion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icture5"/>
          <p:cNvPicPr/>
          <p:nvPr/>
        </p:nvPicPr>
        <p:blipFill>
          <a:blip r:embed="rId1"/>
          <a:stretch/>
        </p:blipFill>
        <p:spPr>
          <a:xfrm>
            <a:off x="2124000" y="1341360"/>
            <a:ext cx="504036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9528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and Fungi from soil grown on 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99812-053-Soil-Bacteria"/>
          <p:cNvPicPr/>
          <p:nvPr/>
        </p:nvPicPr>
        <p:blipFill>
          <a:blip r:embed="rId1"/>
          <a:stretch/>
        </p:blipFill>
        <p:spPr>
          <a:xfrm>
            <a:off x="1547640" y="162864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55600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yphae%20in%20soil%20white"/>
          <p:cNvPicPr/>
          <p:nvPr/>
        </p:nvPicPr>
        <p:blipFill>
          <a:blip r:embed="rId1"/>
          <a:stretch/>
        </p:blipFill>
        <p:spPr>
          <a:xfrm>
            <a:off x="684360" y="1341360"/>
            <a:ext cx="3859200" cy="486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vampraid_LR"/>
          <p:cNvPicPr/>
          <p:nvPr/>
        </p:nvPicPr>
        <p:blipFill>
          <a:blip r:embed="rId2"/>
          <a:stretch/>
        </p:blipFill>
        <p:spPr>
          <a:xfrm>
            <a:off x="4951440" y="1413000"/>
            <a:ext cx="38480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trophs (self feeders) – these organisms produce their own organic compounds by photosynthesis. Examples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REEN-and-BLOOMING-PLANTS_L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diatom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4653000"/>
            <a:ext cx="208764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Common%20ragweed%20vegetative%20plants"/>
          <p:cNvPicPr/>
          <p:nvPr/>
        </p:nvPicPr>
        <p:blipFill>
          <a:blip r:embed="rId4"/>
          <a:stretch/>
        </p:blipFill>
        <p:spPr>
          <a:xfrm>
            <a:off x="4932360" y="4076640"/>
            <a:ext cx="309708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eterotrophs (feed on others). These organisms obtain organic matter by eating other organism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frog"/>
          <p:cNvPicPr/>
          <p:nvPr/>
        </p:nvPicPr>
        <p:blipFill>
          <a:blip r:embed="rId1"/>
          <a:stretch/>
        </p:blipFill>
        <p:spPr>
          <a:xfrm>
            <a:off x="895320" y="1600200"/>
            <a:ext cx="31608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gorilla"/>
          <p:cNvPicPr/>
          <p:nvPr/>
        </p:nvPicPr>
        <p:blipFill>
          <a:blip r:embed="rId2"/>
          <a:stretch/>
        </p:blipFill>
        <p:spPr>
          <a:xfrm>
            <a:off x="5213520" y="1600200"/>
            <a:ext cx="290664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iger2"/>
          <p:cNvPicPr/>
          <p:nvPr/>
        </p:nvPicPr>
        <p:blipFill>
          <a:blip r:embed="rId3"/>
          <a:stretch/>
        </p:blipFill>
        <p:spPr>
          <a:xfrm>
            <a:off x="1393920" y="3938760"/>
            <a:ext cx="2631960" cy="265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jonathan%20the%20fruit%20bat"/>
          <p:cNvPicPr/>
          <p:nvPr/>
        </p:nvPicPr>
        <p:blipFill>
          <a:blip r:embed="rId4"/>
          <a:stretch/>
        </p:blipFill>
        <p:spPr>
          <a:xfrm>
            <a:off x="5964120" y="4095720"/>
            <a:ext cx="1822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troph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trophs (green plants) obtain carbohydrates through the process of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green_plants_aq"/>
          <p:cNvPicPr/>
          <p:nvPr/>
        </p:nvPicPr>
        <p:blipFill>
          <a:blip r:embed="rId1"/>
          <a:stretch/>
        </p:blipFill>
        <p:spPr>
          <a:xfrm>
            <a:off x="755640" y="4149720"/>
            <a:ext cx="75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main plant organ that carries out photosynthesi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68000" y="1557360"/>
            <a:ext cx="40388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The 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aves"/>
          <p:cNvPicPr/>
          <p:nvPr/>
        </p:nvPicPr>
        <p:blipFill>
          <a:blip r:embed="rId1"/>
          <a:stretch/>
        </p:blipFill>
        <p:spPr>
          <a:xfrm>
            <a:off x="1979640" y="2517840"/>
            <a:ext cx="4608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a leaf adapted to carry out photosynthe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aftrans"/>
          <p:cNvPicPr/>
          <p:nvPr/>
        </p:nvPicPr>
        <p:blipFill>
          <a:blip r:embed="rId1"/>
          <a:stretch/>
        </p:blipFill>
        <p:spPr>
          <a:xfrm>
            <a:off x="1187280" y="1833480"/>
            <a:ext cx="63374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LEAFSEC"/>
          <p:cNvPicPr/>
          <p:nvPr/>
        </p:nvPicPr>
        <p:blipFill>
          <a:blip r:embed="rId1"/>
          <a:stretch/>
        </p:blipFill>
        <p:spPr>
          <a:xfrm>
            <a:off x="0" y="70164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leafdixs"/>
          <p:cNvPicPr/>
          <p:nvPr/>
        </p:nvPicPr>
        <p:blipFill>
          <a:blip r:embed="rId1"/>
          <a:stretch/>
        </p:blipFill>
        <p:spPr>
          <a:xfrm>
            <a:off x="0" y="1052640"/>
            <a:ext cx="7056360" cy="410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308720" y="1341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isade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619280" y="551664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gy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076720" y="55166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ma with two gu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V="1">
            <a:off x="2340000" y="3573000"/>
            <a:ext cx="165564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H="1" flipV="1">
            <a:off x="4500720" y="4581000"/>
            <a:ext cx="158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H="1">
            <a:off x="6156000" y="1773360"/>
            <a:ext cx="1368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132000" y="33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932360" y="76500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0" y="429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 flipV="1">
            <a:off x="826920" y="393372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55640" y="765000"/>
            <a:ext cx="792000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lant is well watered, the guard cells swell (become turgid) and the stoma opens to let in carbon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, however, lets water vapour escape from the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lant loses too much water vapour, the guard cells lose their turgidity and become flacc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stoma to close, preventing further water loss from the pla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0:34:20Z</dcterms:created>
  <dc:creator>Stephen</dc:creator>
  <dc:description/>
  <dc:language>en-US</dc:language>
  <cp:lastModifiedBy>luponed</cp:lastModifiedBy>
  <dcterms:modified xsi:type="dcterms:W3CDTF">2010-05-17T22:13:04Z</dcterms:modified>
  <cp:revision>6</cp:revision>
  <dc:subject/>
  <dc:title>Nutrition</dc:title>
</cp:coreProperties>
</file>