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9.jpeg" ContentType="image/jpeg"/>
  <Override PartName="/ppt/media/image1.jpeg" ContentType="image/jpeg"/>
  <Override PartName="/ppt/media/image5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DA75-540C-4317-9470-48FF10E28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E771-A5B4-4E7B-97A4-EFB50B82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CA1E-0235-4496-8537-24A6F98B4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8DF5-C512-49EB-89F4-F52C55F15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2B43-E448-477F-923D-14EB9DED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1BAF-9E44-43AC-96A1-F07A20D2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81BC-CA9D-430B-905E-603573FD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307F-D541-4F67-ADEC-3E2AA6E2D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D100-A32C-4B76-95CD-FEFF86C8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F274-FE77-4C4F-8C6F-FEE4F698E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A2CE-10F5-40FE-A6A9-82A0D846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BD9-33F0-48F2-8F7E-30208A6F6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6224-0C5A-4CD8-933B-693551175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occasioncameras.com/einsteinstoolbox/images/diatoms.jpg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87280" y="1916280"/>
            <a:ext cx="640080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rganisms need the following compounds to survi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1042920" y="3284640"/>
            <a:ext cx="7201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xy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bohyd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p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tamins and Miner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stomata"/>
          <p:cNvPicPr/>
          <p:nvPr/>
        </p:nvPicPr>
        <p:blipFill>
          <a:blip r:embed="rId1"/>
          <a:stretch/>
        </p:blipFill>
        <p:spPr>
          <a:xfrm>
            <a:off x="1187280" y="1036800"/>
            <a:ext cx="6337440" cy="58212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1979640" y="33336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 (pore) open and clo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Stomata"/>
          <p:cNvPicPr/>
          <p:nvPr/>
        </p:nvPicPr>
        <p:blipFill>
          <a:blip r:embed="rId1"/>
          <a:stretch/>
        </p:blipFill>
        <p:spPr>
          <a:xfrm>
            <a:off x="684360" y="1773360"/>
            <a:ext cx="3976560" cy="42494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stomata"/>
          <p:cNvPicPr/>
          <p:nvPr/>
        </p:nvPicPr>
        <p:blipFill>
          <a:blip r:embed="rId2"/>
          <a:stretch/>
        </p:blipFill>
        <p:spPr>
          <a:xfrm>
            <a:off x="5076720" y="1197000"/>
            <a:ext cx="3465720" cy="5184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8"/>
          <p:cNvSpPr/>
          <p:nvPr/>
        </p:nvSpPr>
        <p:spPr>
          <a:xfrm>
            <a:off x="755640" y="404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mata on the undersurface of a le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 plants make proteins and other organic compoun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plant must also obtain mineral ions from the soil, such 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trates N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_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osphates P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nesium Mg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lphates S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plants combine carbohydrates with these ions, they can then make all the other organic compounds it need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ertilizing a pl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plants are given a “feed” by a gardener, he or she is applying mineral ions so that the plant’s roots can absorb these from the so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ild, plants obtain these mineral from the soil. Bacteria and fungi are essential in the soil for recycling dead organic matter back into mineral ions.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5" descr="Picture5"/>
          <p:cNvPicPr/>
          <p:nvPr/>
        </p:nvPicPr>
        <p:blipFill>
          <a:blip r:embed="rId1"/>
          <a:stretch/>
        </p:blipFill>
        <p:spPr>
          <a:xfrm>
            <a:off x="2124000" y="1341360"/>
            <a:ext cx="5040360" cy="49165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395280" y="3333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and Fungi from soil grown on a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199812-053-Soil-Bacteria"/>
          <p:cNvPicPr/>
          <p:nvPr/>
        </p:nvPicPr>
        <p:blipFill>
          <a:blip r:embed="rId1"/>
          <a:stretch/>
        </p:blipFill>
        <p:spPr>
          <a:xfrm>
            <a:off x="1547640" y="1628640"/>
            <a:ext cx="6480360" cy="4861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6"/>
          <p:cNvSpPr/>
          <p:nvPr/>
        </p:nvSpPr>
        <p:spPr>
          <a:xfrm>
            <a:off x="2556000" y="40464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il Bac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il Fung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Hyphae%20in%20soil%20white"/>
          <p:cNvPicPr/>
          <p:nvPr/>
        </p:nvPicPr>
        <p:blipFill>
          <a:blip r:embed="rId1"/>
          <a:stretch/>
        </p:blipFill>
        <p:spPr>
          <a:xfrm>
            <a:off x="684360" y="1341360"/>
            <a:ext cx="3859200" cy="486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vampraid_LR"/>
          <p:cNvPicPr/>
          <p:nvPr/>
        </p:nvPicPr>
        <p:blipFill>
          <a:blip r:embed="rId2"/>
          <a:stretch/>
        </p:blipFill>
        <p:spPr>
          <a:xfrm>
            <a:off x="4951440" y="1413000"/>
            <a:ext cx="384804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ypes of Organi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30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otrophs (self feeders) – these organisms produce their own organic compounds by photosynthesis. Examples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5" descr="GREEN-and-BLOOMING-PLANTS_L"/>
          <p:cNvPicPr/>
          <p:nvPr/>
        </p:nvPicPr>
        <p:blipFill>
          <a:blip r:embed="rId1"/>
          <a:stretch/>
        </p:blipFill>
        <p:spPr>
          <a:xfrm>
            <a:off x="521028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1" descr="diatoms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58920" y="4653000"/>
            <a:ext cx="2087640" cy="177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4" descr="Common%20ragweed%20vegetative%20plants"/>
          <p:cNvPicPr/>
          <p:nvPr/>
        </p:nvPicPr>
        <p:blipFill>
          <a:blip r:embed="rId4"/>
          <a:stretch/>
        </p:blipFill>
        <p:spPr>
          <a:xfrm>
            <a:off x="4932360" y="4076640"/>
            <a:ext cx="309708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Heterotrophs (feed on others). These organisms obtain organic matter by eating other organisms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……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frog"/>
          <p:cNvPicPr/>
          <p:nvPr/>
        </p:nvPicPr>
        <p:blipFill>
          <a:blip r:embed="rId1"/>
          <a:stretch/>
        </p:blipFill>
        <p:spPr>
          <a:xfrm>
            <a:off x="895320" y="1600200"/>
            <a:ext cx="316080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gorilla"/>
          <p:cNvPicPr/>
          <p:nvPr/>
        </p:nvPicPr>
        <p:blipFill>
          <a:blip r:embed="rId2"/>
          <a:stretch/>
        </p:blipFill>
        <p:spPr>
          <a:xfrm>
            <a:off x="5213520" y="1600200"/>
            <a:ext cx="2906640" cy="2185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2" descr="tiger2"/>
          <p:cNvPicPr/>
          <p:nvPr/>
        </p:nvPicPr>
        <p:blipFill>
          <a:blip r:embed="rId3"/>
          <a:stretch/>
        </p:blipFill>
        <p:spPr>
          <a:xfrm>
            <a:off x="1393920" y="3938760"/>
            <a:ext cx="2631960" cy="2658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5" descr="jonathan%20the%20fruit%20bat"/>
          <p:cNvPicPr/>
          <p:nvPr/>
        </p:nvPicPr>
        <p:blipFill>
          <a:blip r:embed="rId4"/>
          <a:stretch/>
        </p:blipFill>
        <p:spPr>
          <a:xfrm>
            <a:off x="5964120" y="4095720"/>
            <a:ext cx="182268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troph Nutr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trophs (green plants) obtain carbohydrates through the process of photosy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green_plants_aq"/>
          <p:cNvPicPr/>
          <p:nvPr/>
        </p:nvPicPr>
        <p:blipFill>
          <a:blip r:embed="rId1"/>
          <a:stretch/>
        </p:blipFill>
        <p:spPr>
          <a:xfrm>
            <a:off x="755640" y="4149720"/>
            <a:ext cx="75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s the main plant organ that carries out photosynthesis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68000" y="1557360"/>
            <a:ext cx="403884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swer:  The Lea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aves"/>
          <p:cNvPicPr/>
          <p:nvPr/>
        </p:nvPicPr>
        <p:blipFill>
          <a:blip r:embed="rId1"/>
          <a:stretch/>
        </p:blipFill>
        <p:spPr>
          <a:xfrm>
            <a:off x="1979640" y="2517840"/>
            <a:ext cx="4608360" cy="43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is a leaf adapted to carry out photosynthes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leaftrans"/>
          <p:cNvPicPr/>
          <p:nvPr/>
        </p:nvPicPr>
        <p:blipFill>
          <a:blip r:embed="rId1"/>
          <a:stretch/>
        </p:blipFill>
        <p:spPr>
          <a:xfrm>
            <a:off x="1187280" y="1833480"/>
            <a:ext cx="63374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LEAFSEC"/>
          <p:cNvPicPr/>
          <p:nvPr/>
        </p:nvPicPr>
        <p:blipFill>
          <a:blip r:embed="rId1"/>
          <a:stretch/>
        </p:blipFill>
        <p:spPr>
          <a:xfrm>
            <a:off x="0" y="701640"/>
            <a:ext cx="91440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2leafdixs"/>
          <p:cNvPicPr/>
          <p:nvPr/>
        </p:nvPicPr>
        <p:blipFill>
          <a:blip r:embed="rId1"/>
          <a:stretch/>
        </p:blipFill>
        <p:spPr>
          <a:xfrm>
            <a:off x="0" y="1052640"/>
            <a:ext cx="7056360" cy="41004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6"/>
          <p:cNvSpPr/>
          <p:nvPr/>
        </p:nvSpPr>
        <p:spPr>
          <a:xfrm>
            <a:off x="7308720" y="1341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lisade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1619280" y="5516640"/>
            <a:ext cx="266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ngy mesophy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"/>
          <p:cNvSpPr/>
          <p:nvPr/>
        </p:nvSpPr>
        <p:spPr>
          <a:xfrm>
            <a:off x="5076720" y="551664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ma with two guard 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9"/>
          <p:cNvSpPr/>
          <p:nvPr/>
        </p:nvSpPr>
        <p:spPr>
          <a:xfrm flipV="1">
            <a:off x="2340000" y="3573000"/>
            <a:ext cx="1655640" cy="20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0"/>
          <p:cNvSpPr/>
          <p:nvPr/>
        </p:nvSpPr>
        <p:spPr>
          <a:xfrm flipH="1" flipV="1">
            <a:off x="4500720" y="4581000"/>
            <a:ext cx="158400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11"/>
          <p:cNvSpPr/>
          <p:nvPr/>
        </p:nvSpPr>
        <p:spPr>
          <a:xfrm flipH="1">
            <a:off x="6156000" y="1773360"/>
            <a:ext cx="136836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3132000" y="333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per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4932360" y="765000"/>
            <a:ext cx="71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4"/>
          <p:cNvSpPr/>
          <p:nvPr/>
        </p:nvSpPr>
        <p:spPr>
          <a:xfrm>
            <a:off x="0" y="4292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Epiderm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 flipV="1">
            <a:off x="826920" y="3933720"/>
            <a:ext cx="792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55640" y="765000"/>
            <a:ext cx="7920000" cy="494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the plant is well watered, the guard cells swell (become turgid) and the stoma opens to let in carbon diox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, however, lets water vapour escape from the lea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lant loses too much water vapour, the guard cells lose their turgidity and become flacci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auses the stoma to close, preventing further water loss from the plant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9T10:34:20Z</dcterms:created>
  <dc:creator>Stephen</dc:creator>
  <dc:description/>
  <dc:language>en-US</dc:language>
  <cp:lastModifiedBy>luponed</cp:lastModifiedBy>
  <dcterms:modified xsi:type="dcterms:W3CDTF">2010-05-17T22:13:04Z</dcterms:modified>
  <cp:revision>6</cp:revision>
  <dc:subject/>
  <dc:title>Nutrition</dc:title>
</cp:coreProperties>
</file>