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E5A-DA3C-47AE-95F9-5AD3A52E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293-67F1-407E-AC2B-0770928E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21F-5653-478A-A641-75159968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680-1EAE-42C2-8F46-A229438C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A0D-8BEB-44C3-B9E9-483CAA09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D5A5-9BB2-4261-BE6D-1D8AB476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26B8-8B46-4034-8D86-0B004995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8FC-4FCD-4C10-A8F8-970F28AF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5EC-F1EC-45BF-96F3-22349F21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D51-B0C8-4162-90B9-324C4DD0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3D7-ACBA-44CF-94C4-0E437F00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3791-90E0-4079-9AE4-AB3D7FF8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BD12-B3E9-4DB6-B75C-B197A41AD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ccasioncameras.com/einsteinstoolbox/images/diatoms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1916280"/>
            <a:ext cx="64008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rganisms need the following compounds to surv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042920" y="3284640"/>
            <a:ext cx="7201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tamins and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stomata"/>
          <p:cNvPicPr/>
          <p:nvPr/>
        </p:nvPicPr>
        <p:blipFill>
          <a:blip r:embed="rId1"/>
          <a:stretch/>
        </p:blipFill>
        <p:spPr>
          <a:xfrm>
            <a:off x="1187280" y="1036800"/>
            <a:ext cx="6337440" cy="5821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1979640" y="33336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 (pore) open and cl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Stomata"/>
          <p:cNvPicPr/>
          <p:nvPr/>
        </p:nvPicPr>
        <p:blipFill>
          <a:blip r:embed="rId1"/>
          <a:stretch/>
        </p:blipFill>
        <p:spPr>
          <a:xfrm>
            <a:off x="684360" y="1773360"/>
            <a:ext cx="3976560" cy="4249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stomata"/>
          <p:cNvPicPr/>
          <p:nvPr/>
        </p:nvPicPr>
        <p:blipFill>
          <a:blip r:embed="rId2"/>
          <a:stretch/>
        </p:blipFill>
        <p:spPr>
          <a:xfrm>
            <a:off x="5076720" y="1197000"/>
            <a:ext cx="3465720" cy="5184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755640" y="404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ta on the undersurface of a 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plants make proteins and other organic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ant must also obtain mineral ions from the soil, such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ates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s 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sium 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phates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lants combine carbohydrates with these ions, they can then make all the other organic compounds it nee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ing a 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lants are given a “feed” by a gardener, he or she is applying mineral ions so that the plant’s roots can absorb these from the s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wild, plants obtain these mineral from the soil. Bacteria and fungi are essential in the soil for recycling dead organic matter back into mineral ions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Picture5"/>
          <p:cNvPicPr/>
          <p:nvPr/>
        </p:nvPicPr>
        <p:blipFill>
          <a:blip r:embed="rId1"/>
          <a:stretch/>
        </p:blipFill>
        <p:spPr>
          <a:xfrm>
            <a:off x="2124000" y="1341360"/>
            <a:ext cx="5040360" cy="4916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95280" y="333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and Fungi from soil grown on 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199812-053-Soil-Bacteria"/>
          <p:cNvPicPr/>
          <p:nvPr/>
        </p:nvPicPr>
        <p:blipFill>
          <a:blip r:embed="rId1"/>
          <a:stretch/>
        </p:blipFill>
        <p:spPr>
          <a:xfrm>
            <a:off x="1547640" y="1628640"/>
            <a:ext cx="6480360" cy="4861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2556000" y="404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yphae%20in%20soil%20white"/>
          <p:cNvPicPr/>
          <p:nvPr/>
        </p:nvPicPr>
        <p:blipFill>
          <a:blip r:embed="rId1"/>
          <a:stretch/>
        </p:blipFill>
        <p:spPr>
          <a:xfrm>
            <a:off x="684360" y="1341360"/>
            <a:ext cx="3859200" cy="486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vampraid_LR"/>
          <p:cNvPicPr/>
          <p:nvPr/>
        </p:nvPicPr>
        <p:blipFill>
          <a:blip r:embed="rId2"/>
          <a:stretch/>
        </p:blipFill>
        <p:spPr>
          <a:xfrm>
            <a:off x="4951440" y="1413000"/>
            <a:ext cx="38480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trophs (self feeders) – these organisms produce their own organic compounds by photosynthesis. Examples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GREEN-and-BLOOMING-PLANTS_L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diatom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4653000"/>
            <a:ext cx="2087640" cy="17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Common%20ragweed%20vegetative%20plants"/>
          <p:cNvPicPr/>
          <p:nvPr/>
        </p:nvPicPr>
        <p:blipFill>
          <a:blip r:embed="rId4"/>
          <a:stretch/>
        </p:blipFill>
        <p:spPr>
          <a:xfrm>
            <a:off x="4932360" y="4076640"/>
            <a:ext cx="309708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eterotrophs (feed on others). These organisms obtain organic matter by eating other organism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frog"/>
          <p:cNvPicPr/>
          <p:nvPr/>
        </p:nvPicPr>
        <p:blipFill>
          <a:blip r:embed="rId1"/>
          <a:stretch/>
        </p:blipFill>
        <p:spPr>
          <a:xfrm>
            <a:off x="895320" y="1600200"/>
            <a:ext cx="316080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gorilla"/>
          <p:cNvPicPr/>
          <p:nvPr/>
        </p:nvPicPr>
        <p:blipFill>
          <a:blip r:embed="rId2"/>
          <a:stretch/>
        </p:blipFill>
        <p:spPr>
          <a:xfrm>
            <a:off x="5213520" y="1600200"/>
            <a:ext cx="290664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tiger2"/>
          <p:cNvPicPr/>
          <p:nvPr/>
        </p:nvPicPr>
        <p:blipFill>
          <a:blip r:embed="rId3"/>
          <a:stretch/>
        </p:blipFill>
        <p:spPr>
          <a:xfrm>
            <a:off x="1393920" y="3938760"/>
            <a:ext cx="2631960" cy="2658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jonathan%20the%20fruit%20bat"/>
          <p:cNvPicPr/>
          <p:nvPr/>
        </p:nvPicPr>
        <p:blipFill>
          <a:blip r:embed="rId4"/>
          <a:stretch/>
        </p:blipFill>
        <p:spPr>
          <a:xfrm>
            <a:off x="5964120" y="4095720"/>
            <a:ext cx="1822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troph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trophs (green plants) obtain carbohydrates through the process of photo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green_plants_aq"/>
          <p:cNvPicPr/>
          <p:nvPr/>
        </p:nvPicPr>
        <p:blipFill>
          <a:blip r:embed="rId1"/>
          <a:stretch/>
        </p:blipFill>
        <p:spPr>
          <a:xfrm>
            <a:off x="755640" y="4149720"/>
            <a:ext cx="75614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main plant organ that carries out photosynthesis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68000" y="1557360"/>
            <a:ext cx="40388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The Le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leaves"/>
          <p:cNvPicPr/>
          <p:nvPr/>
        </p:nvPicPr>
        <p:blipFill>
          <a:blip r:embed="rId1"/>
          <a:stretch/>
        </p:blipFill>
        <p:spPr>
          <a:xfrm>
            <a:off x="1979640" y="2517840"/>
            <a:ext cx="4608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a leaf adapted to carry out photosynthe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leaftrans"/>
          <p:cNvPicPr/>
          <p:nvPr/>
        </p:nvPicPr>
        <p:blipFill>
          <a:blip r:embed="rId1"/>
          <a:stretch/>
        </p:blipFill>
        <p:spPr>
          <a:xfrm>
            <a:off x="1187280" y="1833480"/>
            <a:ext cx="63374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LEAFSEC"/>
          <p:cNvPicPr/>
          <p:nvPr/>
        </p:nvPicPr>
        <p:blipFill>
          <a:blip r:embed="rId1"/>
          <a:stretch/>
        </p:blipFill>
        <p:spPr>
          <a:xfrm>
            <a:off x="0" y="701640"/>
            <a:ext cx="91440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2leafdixs"/>
          <p:cNvPicPr/>
          <p:nvPr/>
        </p:nvPicPr>
        <p:blipFill>
          <a:blip r:embed="rId1"/>
          <a:stretch/>
        </p:blipFill>
        <p:spPr>
          <a:xfrm>
            <a:off x="0" y="1052640"/>
            <a:ext cx="7056360" cy="4100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7308720" y="13413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isade mes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619280" y="551664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gy mes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076720" y="551664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ma with two gu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 flipV="1">
            <a:off x="2340000" y="3573000"/>
            <a:ext cx="165564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H="1" flipV="1">
            <a:off x="4500720" y="4581000"/>
            <a:ext cx="1584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 flipH="1">
            <a:off x="6156000" y="1773360"/>
            <a:ext cx="136836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3132000" y="333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Epider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4932360" y="765000"/>
            <a:ext cx="71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0" y="4292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Epider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 flipV="1">
            <a:off x="826920" y="393372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755640" y="765000"/>
            <a:ext cx="792000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lant is well watered, the guard cells swell (become turgid) and the stoma opens to let in carbon d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, however, lets water vapour escape from the lea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lant loses too much water vapour, the guard cells lose their turgidity and become flacc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uses the stoma to close, preventing further water loss from the plan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0:34:20Z</dcterms:created>
  <dc:creator>Stephen</dc:creator>
  <dc:description/>
  <dc:language>en-US</dc:language>
  <cp:lastModifiedBy>luponed</cp:lastModifiedBy>
  <dcterms:modified xsi:type="dcterms:W3CDTF">2010-05-17T22:13:04Z</dcterms:modified>
  <cp:revision>6</cp:revision>
  <dc:subject/>
  <dc:title>Nutrition</dc:title>
</cp:coreProperties>
</file>