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5386-BFCA-4BDA-B7A0-D7B268A5449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BDBD-93CE-488C-BFF4-2236EEAE778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D424-88C2-4440-8BC2-A6702EC3EDE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4D46-F008-4980-99E6-DA229545511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F700-393C-415D-8416-CB59C1726B6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C818-9A32-4377-816B-D020EB4F151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8FF-59BE-4EEB-99EB-A04B68C090E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63A5-8433-4DFA-84AB-5152FCCC792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560E-3441-42E7-B076-BEA7ECC0E30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F3E1-7CAD-4CF1-839D-C420D384049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848C-7832-4AAE-9996-B1587CDF4DC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2784-D5E5-4CE5-8D58-2630A94FE88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DB8C-17E7-44E4-9424-78B3790F7AC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7692-926B-4159-9291-4FF16A9B2FB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598-E8E4-4A38-81E4-F5A6153D806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F54-E6A5-4CF9-BD84-A6A9B9F9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5A9-57EA-4F91-80D1-569C8D3C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23B-09D7-4365-ABBA-28EA382E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057-FD9D-4EBE-8527-6DC6D33C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270-7599-4C04-9B4C-32175EDB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7C9-338A-45A3-94C7-218358FE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F62-F409-4B71-8727-2FA977F2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50D-002B-4C74-BD33-454FB93E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747-C1F6-4438-AC1D-0C90F89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EB7-AEE2-4A57-BFC9-92B5FAFE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F51-580A-4AFF-858B-0CDA9C1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AC3-34B7-406C-958D-37CF62B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226B-D3ED-470F-B9D8-5A54023DB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83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198900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hereby green plants convert (energy poor) inorganic compounds into (energy rich) organic compo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9079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hloroplast"/>
          <p:cNvPicPr/>
          <p:nvPr/>
        </p:nvPicPr>
        <p:blipFill>
          <a:blip r:embed="rId1"/>
          <a:stretch/>
        </p:blipFill>
        <p:spPr>
          <a:xfrm>
            <a:off x="2195640" y="2133720"/>
            <a:ext cx="4824360" cy="4194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4836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loroplast"/>
          <p:cNvPicPr/>
          <p:nvPr/>
        </p:nvPicPr>
        <p:blipFill>
          <a:blip r:embed="rId1"/>
          <a:stretch/>
        </p:blipFill>
        <p:spPr>
          <a:xfrm>
            <a:off x="1692360" y="260280"/>
            <a:ext cx="5111640" cy="272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826920" y="4292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lakoids: Disk shaped membranes containing photosynthetic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a: Stacks of thylak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ma: Fluid filled space surrounding gran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3429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finition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7650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the chlorop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ai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328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6920" y="429264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Light Independent (Dark)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0000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340000" y="119700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3213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 captur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n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nsfers it to electrons.  The electrons are “exci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42920" y="19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grana of the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826920" y="549360"/>
            <a:ext cx="785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involves two key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1187280" y="22050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Splitting of water molecules into hydrogen and oxygen. This is called photoly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1187280" y="4076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Electron Transport Chains. This is where energy captured from light is used to form AT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03280" y="2565360"/>
            <a:ext cx="669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in the stroma use the chemical energy of ATP to produce gluc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this, carbon dioxide is combined with hydrogen to produce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9079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Independent Reactions (Dark React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age35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1722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6364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47640" y="3716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simplify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857160" y="4429080"/>
          <a:ext cx="7947000" cy="18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42908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714240" y="928800"/>
          <a:ext cx="7947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28800"/>
                    <a:ext cx="7947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2"/>
          <p:cNvSpPr/>
          <p:nvPr/>
        </p:nvSpPr>
        <p:spPr>
          <a:xfrm>
            <a:off x="285840" y="3143160"/>
            <a:ext cx="15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comes from the air and provides raw materials for production of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4"/>
          <p:cNvCxnSpPr/>
          <p:nvPr/>
        </p:nvCxnSpPr>
        <p:spPr>
          <a:xfrm flipV="1">
            <a:off x="927720" y="2571120"/>
            <a:ext cx="2149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7"/>
          <p:cNvSpPr/>
          <p:nvPr/>
        </p:nvSpPr>
        <p:spPr>
          <a:xfrm>
            <a:off x="1928880" y="435780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ydrogen required in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9"/>
          <p:cNvCxnSpPr/>
          <p:nvPr/>
        </p:nvCxnSpPr>
        <p:spPr>
          <a:xfrm flipV="1">
            <a:off x="2428920" y="2142720"/>
            <a:ext cx="28656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10"/>
          <p:cNvSpPr/>
          <p:nvPr/>
        </p:nvSpPr>
        <p:spPr>
          <a:xfrm>
            <a:off x="3357720" y="300024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in glucose comes from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V="1">
            <a:off x="4499640" y="1642320"/>
            <a:ext cx="11437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13"/>
          <p:cNvSpPr/>
          <p:nvPr/>
        </p:nvSpPr>
        <p:spPr>
          <a:xfrm>
            <a:off x="7215120" y="32148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comes from the wat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6"/>
          <p:cNvCxnSpPr/>
          <p:nvPr/>
        </p:nvCxnSpPr>
        <p:spPr>
          <a:xfrm flipH="1" flipV="1">
            <a:off x="7357680" y="1428120"/>
            <a:ext cx="35784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18"/>
          <p:cNvSpPr/>
          <p:nvPr/>
        </p:nvSpPr>
        <p:spPr>
          <a:xfrm>
            <a:off x="4000680" y="43578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ucose is used as a fuel for cellular respiration or to construct larger molecules such as cellulose, , starch or disaccharide molecules such as fruct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572080" y="250020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ygen used for 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21"/>
          <p:cNvCxnSpPr/>
          <p:nvPr/>
        </p:nvCxnSpPr>
        <p:spPr>
          <a:xfrm flipH="1" flipV="1">
            <a:off x="5571720" y="1856520"/>
            <a:ext cx="5724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 flipV="1">
            <a:off x="6357960" y="1428120"/>
            <a:ext cx="929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Straight Arrow Connector 29"/>
          <p:cNvCxnSpPr/>
          <p:nvPr/>
        </p:nvCxnSpPr>
        <p:spPr>
          <a:xfrm flipV="1">
            <a:off x="5072040" y="1571400"/>
            <a:ext cx="714960" cy="27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1042920" y="126828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 To Pages 45 of your Text Book for an overview of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lettuce_winter-crop_mine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0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47640" y="4581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 you see a lettuce, show it some respect before you ea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71760" y="1000080"/>
            <a:ext cx="5929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for photosynthesis to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enter the 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roduced from photosynthe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leaf xsection.bmp"/>
          <p:cNvPicPr/>
          <p:nvPr/>
        </p:nvPicPr>
        <p:blipFill>
          <a:blip r:embed="rId1"/>
          <a:stretch/>
        </p:blipFill>
        <p:spPr>
          <a:xfrm>
            <a:off x="642960" y="1500120"/>
            <a:ext cx="79437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stomata.jpg"/>
          <p:cNvPicPr/>
          <p:nvPr/>
        </p:nvPicPr>
        <p:blipFill>
          <a:blip r:embed="rId1"/>
          <a:stretch/>
        </p:blipFill>
        <p:spPr>
          <a:xfrm>
            <a:off x="642960" y="1500120"/>
            <a:ext cx="448632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toma-photo.jpg"/>
          <p:cNvPicPr/>
          <p:nvPr/>
        </p:nvPicPr>
        <p:blipFill>
          <a:blip r:embed="rId2"/>
          <a:stretch/>
        </p:blipFill>
        <p:spPr>
          <a:xfrm>
            <a:off x="4214880" y="3214800"/>
            <a:ext cx="43671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258920" y="549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quation for 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24"/>
          <p:cNvGraphicFramePr/>
          <p:nvPr/>
        </p:nvGraphicFramePr>
        <p:xfrm>
          <a:off x="684360" y="2060640"/>
          <a:ext cx="79470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8" descr="Image35"/>
          <p:cNvPicPr/>
          <p:nvPr/>
        </p:nvPicPr>
        <p:blipFill>
          <a:blip r:embed="rId3"/>
          <a:stretch/>
        </p:blipFill>
        <p:spPr>
          <a:xfrm>
            <a:off x="785880" y="4786200"/>
            <a:ext cx="770400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643720" y="40719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lorophyll-a is high energy and powers the synthesis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03280" y="98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the energy contained in organic compou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5892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58920" y="400536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n the chemical bonds holding the atoms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0920" y="69228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lucose"/>
          <p:cNvPicPr/>
          <p:nvPr/>
        </p:nvPicPr>
        <p:blipFill>
          <a:blip r:embed="rId1"/>
          <a:stretch/>
        </p:blipFill>
        <p:spPr>
          <a:xfrm>
            <a:off x="2987640" y="1484280"/>
            <a:ext cx="320220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05092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energy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19280" y="981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photosynthesis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278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: Chloropla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05:59Z</dcterms:created>
  <dc:creator>Stephen</dc:creator>
  <dc:description/>
  <dc:language>en-US</dc:language>
  <cp:lastModifiedBy>luponed</cp:lastModifiedBy>
  <dcterms:modified xsi:type="dcterms:W3CDTF">2010-03-22T00:46:35Z</dcterms:modified>
  <cp:revision>21</cp:revision>
  <dc:subject/>
  <dc:title>Slide 1</dc:title>
</cp:coreProperties>
</file>