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0E61-B48B-4A10-96C3-0405562BC458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7F390-A895-4327-BB98-FEF008EBF77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836E-5C07-4117-AFEA-111D19FCF91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7900-F6F2-4F35-B628-2909CF8E540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654C-FF15-432D-85E8-F0D125AEEC7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CE8B-E887-419F-AEA2-EAAC4DC0A8A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F525-85FA-40A1-83CE-F95F6D99CFD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5202-5358-4A36-99F9-489E7EFD2B3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D981-FBB1-44BC-A6E4-8FC152F568DF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BD61-42D6-48F0-9ABE-1FDDC9B08CC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9F7F-6986-4360-978C-526C2E13886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43A8-5082-4709-96FF-275A16AAAB06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2E9F5-D654-4870-854F-4FB723981D1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2725F-ABCC-40F3-92BC-6966B92CF37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0716F-A714-44EC-B96F-61F5CF2583F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9B40-DEE8-43C5-88A0-49E84C7D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5B89-AEC7-4BC0-B230-826339A45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ED28-3193-4A55-88A5-A4DC0D78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C784-4BAF-4DC1-AA63-B028A7B0A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6D42-E4A5-4CE9-9959-09FD5D48A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AFC0-F9FE-44D2-88A1-54042ADD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1981-6017-4669-8EEE-33E1AFE29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54FA-422B-4D72-A8E5-B4F4DFD4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6452-1562-4CE0-A0CD-72473D02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F37E-8803-4CC3-8F54-90866DC4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91EB0-C2E4-4430-9175-C8AD98251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D2E8-AFE6-41C0-957E-A3F0CAB6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833E-F606-46E5-86A7-107A23B97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47640" y="83664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547640" y="1989000"/>
            <a:ext cx="547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whereby green plants convert (energy poor) inorganic compounds into (energy rich) organic compound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476360" y="907920"/>
            <a:ext cx="63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ructure of a chloropla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chloroplast"/>
          <p:cNvPicPr/>
          <p:nvPr/>
        </p:nvPicPr>
        <p:blipFill>
          <a:blip r:embed="rId1"/>
          <a:stretch/>
        </p:blipFill>
        <p:spPr>
          <a:xfrm>
            <a:off x="2195640" y="2133720"/>
            <a:ext cx="4824360" cy="4194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9"/>
          <p:cNvSpPr/>
          <p:nvPr/>
        </p:nvSpPr>
        <p:spPr>
          <a:xfrm>
            <a:off x="6948360" y="342900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Gra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hloroplast"/>
          <p:cNvPicPr/>
          <p:nvPr/>
        </p:nvPicPr>
        <p:blipFill>
          <a:blip r:embed="rId1"/>
          <a:stretch/>
        </p:blipFill>
        <p:spPr>
          <a:xfrm>
            <a:off x="1692360" y="260280"/>
            <a:ext cx="5111640" cy="27259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826920" y="4292640"/>
            <a:ext cx="76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ylakoids: Disk shaped membranes containing photosynthetic pigm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na: Stacks of thylako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oma: Fluid filled space surrounding grana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826920" y="342900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definitions…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395280" y="765000"/>
            <a:ext cx="806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 the chloropla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684360" y="191628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main stag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539640" y="328464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Light Dependent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466920" y="4292640"/>
            <a:ext cx="803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Light Independent (Dark) Re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900000" y="33336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2340000" y="1197000"/>
            <a:ext cx="45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?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611280" y="321300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lorophyll captures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nlight energ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transfers it to electrons.  The electrons are “exci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042920" y="198900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s in the grana of the chloropla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028"/>
          <p:cNvSpPr/>
          <p:nvPr/>
        </p:nvSpPr>
        <p:spPr>
          <a:xfrm>
            <a:off x="826920" y="549360"/>
            <a:ext cx="7850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Dependent Reactions involves two key pa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30"/>
          <p:cNvSpPr/>
          <p:nvPr/>
        </p:nvSpPr>
        <p:spPr>
          <a:xfrm>
            <a:off x="1187280" y="2205000"/>
            <a:ext cx="70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  Splitting of water molecules into hydrogen and oxygen. This is called photolys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031"/>
          <p:cNvSpPr/>
          <p:nvPr/>
        </p:nvSpPr>
        <p:spPr>
          <a:xfrm>
            <a:off x="1187280" y="407664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  Electron Transport Chains. This is where energy captured from light is used to form AT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403280" y="2565360"/>
            <a:ext cx="66978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zymes in the stroma use the chemical energy of ATP to produce gluco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do this, carbon dioxide is combined with hydrogen to produce gluco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539640" y="90792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ght Independent Reactions (Dark Reaction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Image35"/>
          <p:cNvPicPr/>
          <p:nvPr/>
        </p:nvPicPr>
        <p:blipFill>
          <a:blip r:embed="rId1"/>
          <a:stretch/>
        </p:blipFill>
        <p:spPr>
          <a:xfrm>
            <a:off x="755640" y="1773360"/>
            <a:ext cx="7704000" cy="172224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1763640" y="692280"/>
            <a:ext cx="58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 you remember thi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1547640" y="3716280"/>
            <a:ext cx="54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t’s simplify i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Object 7"/>
          <p:cNvGraphicFramePr/>
          <p:nvPr/>
        </p:nvGraphicFramePr>
        <p:xfrm>
          <a:off x="857160" y="4429080"/>
          <a:ext cx="7947000" cy="1816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7160" y="442908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7"/>
          <p:cNvGraphicFramePr/>
          <p:nvPr/>
        </p:nvGraphicFramePr>
        <p:xfrm>
          <a:off x="714240" y="928800"/>
          <a:ext cx="7947000" cy="181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4240" y="928800"/>
                    <a:ext cx="7947000" cy="181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2"/>
          <p:cNvSpPr/>
          <p:nvPr/>
        </p:nvSpPr>
        <p:spPr>
          <a:xfrm>
            <a:off x="285840" y="3143160"/>
            <a:ext cx="1571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bon dioxide comes from the air and provides raw materials for production of gluc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Straight Arrow Connector 4"/>
          <p:cNvCxnSpPr/>
          <p:nvPr/>
        </p:nvCxnSpPr>
        <p:spPr>
          <a:xfrm flipV="1">
            <a:off x="927720" y="2571120"/>
            <a:ext cx="21492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98" name="TextBox 7"/>
          <p:cNvSpPr/>
          <p:nvPr/>
        </p:nvSpPr>
        <p:spPr>
          <a:xfrm>
            <a:off x="1928880" y="4357800"/>
            <a:ext cx="1571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ides Hydrogen required in gluco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Straight Arrow Connector 9"/>
          <p:cNvCxnSpPr/>
          <p:nvPr/>
        </p:nvCxnSpPr>
        <p:spPr>
          <a:xfrm flipV="1">
            <a:off x="2428920" y="2142720"/>
            <a:ext cx="286560" cy="192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0" name="TextBox 10"/>
          <p:cNvSpPr/>
          <p:nvPr/>
        </p:nvSpPr>
        <p:spPr>
          <a:xfrm>
            <a:off x="3357720" y="300024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in glucose comes from carbon diox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Arrow Connector 12"/>
          <p:cNvCxnSpPr/>
          <p:nvPr/>
        </p:nvCxnSpPr>
        <p:spPr>
          <a:xfrm flipV="1">
            <a:off x="4499640" y="1642320"/>
            <a:ext cx="1143720" cy="1429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2" name="TextBox 13"/>
          <p:cNvSpPr/>
          <p:nvPr/>
        </p:nvSpPr>
        <p:spPr>
          <a:xfrm>
            <a:off x="7215120" y="3214800"/>
            <a:ext cx="128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xygen comes from the wate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16"/>
          <p:cNvCxnSpPr/>
          <p:nvPr/>
        </p:nvCxnSpPr>
        <p:spPr>
          <a:xfrm flipH="1" flipV="1">
            <a:off x="7357680" y="1428120"/>
            <a:ext cx="357840" cy="1572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4" name="TextBox 18"/>
          <p:cNvSpPr/>
          <p:nvPr/>
        </p:nvSpPr>
        <p:spPr>
          <a:xfrm>
            <a:off x="4000680" y="4357800"/>
            <a:ext cx="3214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Glucose is used as a fuel for cellular respiration or to construct larger molecules such as cellulose, , starch or disaccharide molecules such as fruct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9"/>
          <p:cNvSpPr/>
          <p:nvPr/>
        </p:nvSpPr>
        <p:spPr>
          <a:xfrm>
            <a:off x="5572080" y="2500200"/>
            <a:ext cx="171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ygen used for aerobic respi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Straight Arrow Connector 21"/>
          <p:cNvCxnSpPr/>
          <p:nvPr/>
        </p:nvCxnSpPr>
        <p:spPr>
          <a:xfrm flipH="1" flipV="1">
            <a:off x="5571720" y="1856520"/>
            <a:ext cx="572400" cy="429480"/>
          </a:xfrm>
          <a:prstGeom prst="straightConnector1">
            <a:avLst/>
          </a:prstGeom>
          <a:ln w="9360">
            <a:solidFill>
              <a:srgbClr val="b6dcdf"/>
            </a:solidFill>
            <a:miter/>
            <a:tailEnd len="med" type="arrow" w="med"/>
          </a:ln>
        </p:spPr>
      </p:cxnSp>
      <p:cxnSp>
        <p:nvCxnSpPr>
          <p:cNvPr id="107" name="Straight Arrow Connector 25"/>
          <p:cNvCxnSpPr/>
          <p:nvPr/>
        </p:nvCxnSpPr>
        <p:spPr>
          <a:xfrm flipV="1">
            <a:off x="6357960" y="1428120"/>
            <a:ext cx="929520" cy="121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08" name="Straight Arrow Connector 29"/>
          <p:cNvCxnSpPr/>
          <p:nvPr/>
        </p:nvCxnSpPr>
        <p:spPr>
          <a:xfrm flipV="1">
            <a:off x="5072040" y="1571400"/>
            <a:ext cx="714960" cy="27151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6"/>
          <p:cNvSpPr/>
          <p:nvPr/>
        </p:nvSpPr>
        <p:spPr>
          <a:xfrm>
            <a:off x="1042920" y="1268280"/>
            <a:ext cx="727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fer To Pages 45 of your Text Book for an overview of photosynthes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8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39" dur="500" autoRev="1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lettuce_winter-crop_mine"/>
          <p:cNvPicPr/>
          <p:nvPr/>
        </p:nvPicPr>
        <p:blipFill>
          <a:blip r:embed="rId1"/>
          <a:stretch/>
        </p:blipFill>
        <p:spPr>
          <a:xfrm>
            <a:off x="2627280" y="549360"/>
            <a:ext cx="3828960" cy="37051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1547640" y="4581360"/>
            <a:ext cx="62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ext time you see a lettuce, show it some respect before you eat 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1"/>
          <p:cNvSpPr/>
          <p:nvPr/>
        </p:nvSpPr>
        <p:spPr>
          <a:xfrm>
            <a:off x="1571760" y="1000080"/>
            <a:ext cx="59292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required for photosynthesis to 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the enter the pl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produced from photosynthesis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F CROSS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leaf xsection.bmp"/>
          <p:cNvPicPr/>
          <p:nvPr/>
        </p:nvPicPr>
        <p:blipFill>
          <a:blip r:embed="rId1"/>
          <a:stretch/>
        </p:blipFill>
        <p:spPr>
          <a:xfrm>
            <a:off x="642960" y="1500120"/>
            <a:ext cx="794376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stomata.jpg"/>
          <p:cNvPicPr/>
          <p:nvPr/>
        </p:nvPicPr>
        <p:blipFill>
          <a:blip r:embed="rId1"/>
          <a:stretch/>
        </p:blipFill>
        <p:spPr>
          <a:xfrm>
            <a:off x="642960" y="1500120"/>
            <a:ext cx="4486320" cy="2428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stoma-photo.jpg"/>
          <p:cNvPicPr/>
          <p:nvPr/>
        </p:nvPicPr>
        <p:blipFill>
          <a:blip r:embed="rId2"/>
          <a:stretch/>
        </p:blipFill>
        <p:spPr>
          <a:xfrm>
            <a:off x="4214880" y="3214800"/>
            <a:ext cx="4367160" cy="33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857240" y="642960"/>
            <a:ext cx="542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mata Pra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1258920" y="54936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eneral Equation for Photosynthe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024"/>
          <p:cNvGraphicFramePr/>
          <p:nvPr/>
        </p:nvGraphicFramePr>
        <p:xfrm>
          <a:off x="684360" y="2060640"/>
          <a:ext cx="7947000" cy="18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060640"/>
                    <a:ext cx="7947000" cy="18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Picture 8" descr="Image35"/>
          <p:cNvPicPr/>
          <p:nvPr/>
        </p:nvPicPr>
        <p:blipFill>
          <a:blip r:embed="rId3"/>
          <a:stretch/>
        </p:blipFill>
        <p:spPr>
          <a:xfrm>
            <a:off x="785880" y="4786200"/>
            <a:ext cx="7704000" cy="1722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5643720" y="407196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hlorophyll-a is high energy and powers the synthesis of AT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1403280" y="981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re is the energy contained in organic compoun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258920" y="285264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????????????????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6"/>
          <p:cNvSpPr/>
          <p:nvPr/>
        </p:nvSpPr>
        <p:spPr>
          <a:xfrm>
            <a:off x="1258920" y="4005360"/>
            <a:ext cx="68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cc"/>
                </a:solidFill>
                <a:latin typeface="Arial"/>
              </a:rPr>
              <a:t>In the chemical bonds holding the atoms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2050920" y="692280"/>
            <a:ext cx="5545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glucose"/>
          <p:cNvPicPr/>
          <p:nvPr/>
        </p:nvPicPr>
        <p:blipFill>
          <a:blip r:embed="rId1"/>
          <a:stretch/>
        </p:blipFill>
        <p:spPr>
          <a:xfrm>
            <a:off x="2987640" y="1484280"/>
            <a:ext cx="320220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7"/>
          <p:cNvSpPr/>
          <p:nvPr/>
        </p:nvSpPr>
        <p:spPr>
          <a:xfrm>
            <a:off x="2050920" y="5805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is the energy?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1619280" y="981000"/>
            <a:ext cx="6337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ere does photosynthesis occu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124000" y="2781360"/>
            <a:ext cx="58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s: Chloropla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1T09:05:59Z</dcterms:created>
  <dc:creator>Stephen</dc:creator>
  <dc:description/>
  <dc:language>en-US</dc:language>
  <cp:lastModifiedBy>luponed</cp:lastModifiedBy>
  <dcterms:modified xsi:type="dcterms:W3CDTF">2010-03-22T00:46:35Z</dcterms:modified>
  <cp:revision>21</cp:revision>
  <dc:subject/>
  <dc:title>Slide 1</dc:title>
</cp:coreProperties>
</file>