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451-2B99-4839-8013-327B382CB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7CB3-A4FD-449B-8377-210CB48F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BCA5-D3CB-459B-8B96-0EB2EABD9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96F7-09D5-49BF-A29C-78FA98D6D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27BC-2A73-4E9A-B433-ED6495AF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409E-537A-4128-8BC4-A0FDC41B0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5EDD-894C-4258-B1B9-AADC1AEB9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631E-37F5-42C3-BA09-12FD1BAD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6D0A-2093-46FA-8321-3AC743C2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9506-1C2B-49C7-8133-B7B5C138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92791-ADE3-4166-8101-3AA27612A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4B6D-6AFE-4849-B295-4FE173F0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A124-7BF5-45FB-AD19-6EE1A0EEE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upload.wikimedia.org/wikipedia/fr/c/c6/Pyruvate.png&amp;imgrefurl=http://fr.wikipedia.org/wiki/Pyruvate&amp;h=166&amp;w=213&amp;sz=1&amp;tbnid=TOixfFkoVp3xIM:&amp;tbnh=78&amp;tbnw=101&amp;hl=en&amp;start=8&amp;prev=/images%3Fq%3Dpyruvate%26svnum%3D10%26hl%3Den%26lr%3D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greenspirit.org.uk/resources/glucose.gif&amp;imgrefurl=http://www.greenspirit.org.uk/resources/LifeChemistry.htm&amp;h=295&amp;w=281&amp;sz=10&amp;tbnid=4_vrbFxIY6E0fM:&amp;tbnh=111&amp;tbnw=105&amp;hl=en&amp;start=1&amp;prev=/images%3Fq%3Dglucose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85920" y="22147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happening to it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676520" y="19051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332000" y="2997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nzymes are gathering around i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76360" y="386064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eing catabolised……….poor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258920" y="47242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reaking down so quick. Look at those enzymes go. There’s new compounds being made so fast. I’m hyperventil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19280" y="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476360" y="1197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It’s Mr 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371600" y="990720"/>
            <a:ext cx="6945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ous T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ocess has occurred to the glucose molecule in the cytoplasm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332000" y="3500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:  Glyco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187280" y="4365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Oxygen involved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58920" y="53737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ooooooooooooo!  This process in anaerob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glycolysis"/>
          <p:cNvPicPr/>
          <p:nvPr/>
        </p:nvPicPr>
        <p:blipFill>
          <a:blip r:embed="rId1"/>
          <a:stretch/>
        </p:blipFill>
        <p:spPr>
          <a:xfrm>
            <a:off x="1643040" y="1643040"/>
            <a:ext cx="5184720" cy="3822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1143000" y="571500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molecules of glucose, glycolysis produces how many molecules of ATP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900000" y="9079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produced in glycolysis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55640" y="213372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826920" y="1773360"/>
            <a:ext cx="61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olecules of pyru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4581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pyruvate (pyruvic acid) look like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Pyruva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1484280"/>
            <a:ext cx="4464360" cy="3448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556000" y="54936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yruv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619280" y="5373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908000" y="5229360"/>
            <a:ext cx="55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692360" y="508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carbon atoms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619280" y="587700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: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4360" y="69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What happens to the pyruvate??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187280" y="162864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limited/no oxygen available, it will undergo fer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55640" y="292428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lants, the pyruvate is converted to alcohol and carbon dioxide.  No extra ATP is produc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900000" y="47628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imals, something similar happens. The pyruvate is converted to lactic acid (no 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is time and no extra AT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242100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se two cases, anaerobic respiration is 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ose equations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755640" y="386064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plants, fun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                     Alcohol  + 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2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2268360" y="465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71640" y="5157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                     Lactic Acid    +    2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195640" y="5805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900000" y="836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What happens if oxygen is available???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2492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take a trip into a mitochondr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26920" y="400536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bloody membranes to cro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cytoplasm%20model---nikki"/>
          <p:cNvPicPr/>
          <p:nvPr/>
        </p:nvPicPr>
        <p:blipFill>
          <a:blip r:embed="rId1"/>
          <a:stretch/>
        </p:blipFill>
        <p:spPr>
          <a:xfrm>
            <a:off x="1295280" y="-303120"/>
            <a:ext cx="6553440" cy="493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565360"/>
            <a:ext cx="509760" cy="685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042920" y="486900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, this is where we are. We’re now going into a mitochondrion. Scary stuff. I hope you’ve got your excursion form signed…………………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mitochondrion"/>
          <p:cNvPicPr/>
          <p:nvPr/>
        </p:nvPicPr>
        <p:blipFill>
          <a:blip r:embed="rId1"/>
          <a:stretch/>
        </p:blipFill>
        <p:spPr>
          <a:xfrm>
            <a:off x="1763640" y="836640"/>
            <a:ext cx="5545080" cy="3581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042920" y="515772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don’t like that mitochondrion. Let’s try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428760" y="1928880"/>
            <a:ext cx="8215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s require energy for all their activities (movement, metabolism, elimination of wastes and replic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s use chemical energy to carry out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 energy is stored in the bonds or connections that join atoms together in molecules. If a molecule is broken apart the energy is rel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iration is the process whereby cells breakdown energy rich organic molecules into energy poor inorganic ones and in the process produce AT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espi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116000" y="1052640"/>
            <a:ext cx="5111640" cy="36115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5867280" y="2492280"/>
            <a:ext cx="2808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ne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ute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rista (folds made by inner membra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411280" y="558972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Enter 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066680" y="380880"/>
            <a:ext cx="5112000" cy="361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98100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762120" y="4019400"/>
            <a:ext cx="777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ytoplasm was busy but a mitochondrion is full of action. Look at those enzymes breaking down pyruvic acid. . It’s lucky we’re wearing enzyme resistant cloth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00000" y="981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Serious Tone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55640" y="2133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n the mitochondr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11280" y="335772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in s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68360" y="4076640"/>
            <a:ext cx="76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Kreb’s Citric Acid Cycle (occurs in the matr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Electron Transport Chain (occurs on the cris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00000" y="333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reb’s Citric Acid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The reactions of TCAC as they happen in a human cell.The color scheme is as follows: enzymes, coenzymes, substrate names, metal ions, inorganic molecules, inhibition, stimulation ."/>
          <p:cNvPicPr/>
          <p:nvPr/>
        </p:nvPicPr>
        <p:blipFill>
          <a:blip r:embed="rId1"/>
          <a:stretch/>
        </p:blipFill>
        <p:spPr>
          <a:xfrm>
            <a:off x="611280" y="1052640"/>
            <a:ext cx="702936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611280" y="638172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9640" y="6021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cky we don’t need to know this level of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755640" y="620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Kreb’s Citric Acid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43000" y="2590920"/>
            <a:ext cx="655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formed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 amount of ATP (2 molec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carbon dioxide (CO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11280" y="501336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219320" y="144792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 Electron Transpo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628640"/>
            <a:ext cx="691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066680" y="2743200"/>
            <a:ext cx="65516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happens here?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ts of ATP and Water are produ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ts of oxygen is used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755640" y="62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What is the basic equation for aerobic respiration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2276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6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6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+   6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  +  (36-38A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2916360" y="2565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6920" y="378936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all these molecules fit into what we’ve just discussed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539640" y="26028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: starts to be broken down in the cytoplasm in the process known as glyco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68360" y="1341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:  needed in the electron transport chain of aerobic respiration in the mitochond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68360" y="2492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 Dioxide:  Produced in Kreb’s Citric Acid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539640" y="350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: Produced in the electron transport chain when oxygen combines with H+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95280" y="4653000"/>
            <a:ext cx="87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P: Some produced in glycolysis (2AT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produced in Kreb’s Citric Acid Cycle (2AT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produced in the Electron Transport Chain (The Re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042920" y="333360"/>
            <a:ext cx="5111640" cy="3611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w1_foto1"/>
          <p:cNvPicPr/>
          <p:nvPr/>
        </p:nvPicPr>
        <p:blipFill>
          <a:blip r:embed="rId2"/>
          <a:stretch/>
        </p:blipFill>
        <p:spPr>
          <a:xfrm>
            <a:off x="2843280" y="98100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1692360" y="4365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think it’s time to 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T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http://rds.yahoo.com/_ylt=A0Je5xa1PO9F8HEAvw6jzbkF;_ylu=X3oDMTA4NDgyNWN0BHNlYwNwcm9m/SIG=12j36jl1m/EXP=1173392949/**http%3A//www.uic.edu/classes/bios/bios100/mike/spring2003/atp.jpg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571680" y="857160"/>
            <a:ext cx="81435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P is called Adenosine TriPhosph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t is a molecule that all cells use as an immediate energy sour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P releases its energy to form ADP and Phosph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P and A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rds.yahoo.com/_ylt=A0Je5x8pPe9F7poAPUajzbkF;_ylu=X3oDMTA4NDgyNWN0BHNlYwNwcm9m/SIG=12mse5kn1/EXP=1173393065/**http%3A//bioweb.wku.edu/courses/biol115/wyatt/Metabolism/ATP_ADP.gif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95640" y="6922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y do our cells need AT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57160" y="1557360"/>
            <a:ext cx="7315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To make polypeptides from amino ac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For active tran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To conduct nerve impul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To allow muscle cells to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To make DNA from nucleot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 etc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-1800" y="5805360"/>
            <a:ext cx="86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it all start?  Let’s take a trip into the cytopla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ytoplasm%20model---nikki"/>
          <p:cNvPicPr/>
          <p:nvPr/>
        </p:nvPicPr>
        <p:blipFill>
          <a:blip r:embed="rId1"/>
          <a:stretch/>
        </p:blipFill>
        <p:spPr>
          <a:xfrm>
            <a:off x="1428840" y="714240"/>
            <a:ext cx="6172200" cy="464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61000" y="243828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1571760" y="5786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to get through the cell membr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ytoplasm%20model---nikki"/>
          <p:cNvPicPr/>
          <p:nvPr/>
        </p:nvPicPr>
        <p:blipFill>
          <a:blip r:embed="rId1"/>
          <a:stretch/>
        </p:blipFill>
        <p:spPr>
          <a:xfrm>
            <a:off x="1571760" y="785880"/>
            <a:ext cx="6300720" cy="474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61000" y="243828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285920" y="5929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here we are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26920" y="838080"/>
            <a:ext cx="73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energy rich molecules can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143000" y="1828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’s one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gluc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6200" y="2795760"/>
            <a:ext cx="2185920" cy="2309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600200" y="54100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ts name?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4:22:27Z</dcterms:created>
  <dc:creator>glourys</dc:creator>
  <dc:description/>
  <dc:language>en-US</dc:language>
  <cp:lastModifiedBy>luponed</cp:lastModifiedBy>
  <dcterms:modified xsi:type="dcterms:W3CDTF">2010-03-15T09:59:54Z</dcterms:modified>
  <cp:revision>14</cp:revision>
  <dc:subject/>
  <dc:title>PowerPoint Presentation</dc:title>
</cp:coreProperties>
</file>