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DCB9-D775-4CDA-925A-B5143EDAB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D268-BD9D-4000-9103-C60475ADA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D537-27CB-47A6-90D7-D57E71340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CC4D-B7C6-4B16-9193-6CFD17357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AC32-F291-47A3-905A-2109EB7A3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227A-EEAE-4E89-A72C-370D6C4D2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A3FA-BD2C-42F1-8AE8-9FFFDFE07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A62E-EF27-4761-9586-4FFA0F2E4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9011-A4E8-46F9-B997-2FE9B7E7F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2356-B4ED-4F26-A7AD-BF7F9B470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3DD4-9188-41EA-B6B7-B258DC900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F985-07E3-4ECA-8096-E081AD6E6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2A2C6-0AEF-402B-AF32-D69248C340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ages.google.com.au/imgres?imgurl=http://upload.wikimedia.org/wikipedia/fr/c/c6/Pyruvate.png&amp;imgrefurl=http://fr.wikipedia.org/wiki/Pyruvate&amp;h=166&amp;w=213&amp;sz=1&amp;tbnid=TOixfFkoVp3xIM:&amp;tbnh=78&amp;tbnw=101&amp;hl=en&amp;start=8&amp;prev=/images%3Fq%3Dpyruvate%26svnum%3D10%26hl%3Den%26lr%3D%26sa%3D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images.google.com.au/imgres?imgurl=http://person.com/static/main/person/w1_foto1.gif&amp;imgrefurl=http://person.com/&amp;h=214&amp;w=161&amp;sz=13&amp;tbnid=8d-9GDNWkBnsiM:&amp;tbnh=101&amp;tbnw=75&amp;hl=en&amp;start=7&amp;prev=/images%3Fq%3Dperson%26svnum%3D10%26hl%3Den%26lr%3D%26sa%3DG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images.google.com.au/imgres?imgurl=http://person.com/static/main/person/w1_foto1.gif&amp;imgrefurl=http://person.com/&amp;h=214&amp;w=161&amp;sz=13&amp;tbnid=8d-9GDNWkBnsiM:&amp;tbnh=101&amp;tbnw=75&amp;hl=en&amp;start=7&amp;prev=/images%3Fq%3Dperson%26svnum%3D10%26hl%3Den%26lr%3D%26sa%3DG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images.google.com.au/imgres?imgurl=http://person.com/static/main/person/w1_foto1.gif&amp;imgrefurl=http://person.com/&amp;h=214&amp;w=161&amp;sz=13&amp;tbnid=8d-9GDNWkBnsiM:&amp;tbnh=101&amp;tbnw=75&amp;hl=en&amp;start=7&amp;prev=/images%3Fq%3Dperson%26svnum%3D10%26hl%3Den%26lr%3D%26sa%3DG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images.google.com.au/imgres?imgurl=http://person.com/static/main/person/w1_foto1.gif&amp;imgrefurl=http://person.com/&amp;h=214&amp;w=161&amp;sz=13&amp;tbnid=8d-9GDNWkBnsiM:&amp;tbnh=101&amp;tbnw=75&amp;hl=en&amp;start=7&amp;prev=/images%3Fq%3Dperson%26svnum%3D10%26hl%3Den%26lr%3D%26sa%3DG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com.au/imgres?imgurl=http://www.greenspirit.org.uk/resources/glucose.gif&amp;imgrefurl=http://www.greenspirit.org.uk/resources/LifeChemistry.htm&amp;h=295&amp;w=281&amp;sz=10&amp;tbnid=4_vrbFxIY6E0fM:&amp;tbnh=111&amp;tbnw=105&amp;hl=en&amp;start=1&amp;prev=/images%3Fq%3Dglucose%26svnum%3D10%26hl%3Den%26lr%3D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pi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1285920" y="2214720"/>
            <a:ext cx="624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happening to it??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1676520" y="1905120"/>
            <a:ext cx="4800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1332000" y="299736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enzymes are gathering around it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1476360" y="386064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’s being catabolised……….poor th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1258920" y="4724280"/>
            <a:ext cx="6629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’s breaking down so quick. Look at those enzymes go. There’s new compounds being made so fast. I’m hyperventilat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1619280" y="0"/>
            <a:ext cx="576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9"/>
          <p:cNvSpPr/>
          <p:nvPr/>
        </p:nvSpPr>
        <p:spPr>
          <a:xfrm>
            <a:off x="1476360" y="1197000"/>
            <a:ext cx="60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Times New Roman"/>
              </a:rPr>
              <a:t>It’s Mr Gluco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2"/>
          <p:cNvSpPr/>
          <p:nvPr/>
        </p:nvSpPr>
        <p:spPr>
          <a:xfrm>
            <a:off x="1371600" y="990720"/>
            <a:ext cx="69454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ious Ton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process has occurred to the glucose molecule in the cytoplasm?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3"/>
          <p:cNvSpPr/>
          <p:nvPr/>
        </p:nvSpPr>
        <p:spPr>
          <a:xfrm>
            <a:off x="1332000" y="3500280"/>
            <a:ext cx="647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:  Glyco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1187280" y="436572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s Oxygen involved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1258920" y="5373720"/>
            <a:ext cx="6019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oooooooooooooo!  This process in anaerob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lycoly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6" descr="glycolysis"/>
          <p:cNvPicPr/>
          <p:nvPr/>
        </p:nvPicPr>
        <p:blipFill>
          <a:blip r:embed="rId1"/>
          <a:stretch/>
        </p:blipFill>
        <p:spPr>
          <a:xfrm>
            <a:off x="1643040" y="1643040"/>
            <a:ext cx="5184720" cy="3822840"/>
          </a:xfrm>
          <a:prstGeom prst="rect">
            <a:avLst/>
          </a:prstGeom>
          <a:ln w="0">
            <a:noFill/>
          </a:ln>
        </p:spPr>
      </p:pic>
      <p:sp>
        <p:nvSpPr>
          <p:cNvPr id="76" name="TextBox 3"/>
          <p:cNvSpPr/>
          <p:nvPr/>
        </p:nvSpPr>
        <p:spPr>
          <a:xfrm>
            <a:off x="1143000" y="5715000"/>
            <a:ext cx="678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many molecules of glucose, glycolysis produces how many molecules of ATP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6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1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4"/>
          <p:cNvSpPr/>
          <p:nvPr/>
        </p:nvSpPr>
        <p:spPr>
          <a:xfrm>
            <a:off x="900000" y="907920"/>
            <a:ext cx="63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produced in glycolysis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755640" y="2133720"/>
            <a:ext cx="7561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826920" y="1773360"/>
            <a:ext cx="61930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molecules of pyruv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 AT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7"/>
          <p:cNvSpPr/>
          <p:nvPr/>
        </p:nvSpPr>
        <p:spPr>
          <a:xfrm>
            <a:off x="826920" y="4581360"/>
            <a:ext cx="720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does pyruvate (pyruvic acid) look like???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2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20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20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5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5" descr="Pyruvat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050920" y="1484280"/>
            <a:ext cx="4464360" cy="3448080"/>
          </a:xfrm>
          <a:prstGeom prst="rect">
            <a:avLst/>
          </a:prstGeom>
          <a:ln w="0">
            <a:noFill/>
          </a:ln>
        </p:spPr>
      </p:pic>
      <p:sp>
        <p:nvSpPr>
          <p:cNvPr id="82" name="Text Box 6"/>
          <p:cNvSpPr/>
          <p:nvPr/>
        </p:nvSpPr>
        <p:spPr>
          <a:xfrm>
            <a:off x="2556000" y="549360"/>
            <a:ext cx="36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yruva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1619280" y="5373720"/>
            <a:ext cx="540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8"/>
          <p:cNvSpPr/>
          <p:nvPr/>
        </p:nvSpPr>
        <p:spPr>
          <a:xfrm>
            <a:off x="1908000" y="5229360"/>
            <a:ext cx="5545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9"/>
          <p:cNvSpPr/>
          <p:nvPr/>
        </p:nvSpPr>
        <p:spPr>
          <a:xfrm>
            <a:off x="1692360" y="5084640"/>
            <a:ext cx="55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many carbon atoms?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11"/>
          <p:cNvSpPr/>
          <p:nvPr/>
        </p:nvSpPr>
        <p:spPr>
          <a:xfrm>
            <a:off x="1619280" y="5877000"/>
            <a:ext cx="511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s: Th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4"/>
          <p:cNvSpPr/>
          <p:nvPr/>
        </p:nvSpPr>
        <p:spPr>
          <a:xfrm>
            <a:off x="684360" y="692280"/>
            <a:ext cx="78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Times New Roman"/>
              </a:rPr>
              <a:t>What happens to the pyruvate????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187280" y="1628640"/>
            <a:ext cx="705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re is limited/no oxygen available, it will undergo ferment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755640" y="2924280"/>
            <a:ext cx="7345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plants, the pyruvate is converted to alcohol and carbon dioxide.  No extra ATP is produce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7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4"/>
          <p:cNvSpPr/>
          <p:nvPr/>
        </p:nvSpPr>
        <p:spPr>
          <a:xfrm>
            <a:off x="900000" y="476280"/>
            <a:ext cx="7704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animals, something similar happens. The pyruvate is converted to lactic acid (no C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is time and no extra ATP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468360" y="2421000"/>
            <a:ext cx="8136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these two cases, anaerobic respiration is comple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are those equations??????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755640" y="3860640"/>
            <a:ext cx="7056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 plants, fung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ucose                      Alcohol  + CO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    2A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7"/>
          <p:cNvSpPr/>
          <p:nvPr/>
        </p:nvSpPr>
        <p:spPr>
          <a:xfrm>
            <a:off x="2268360" y="465300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8"/>
          <p:cNvSpPr/>
          <p:nvPr/>
        </p:nvSpPr>
        <p:spPr>
          <a:xfrm>
            <a:off x="971640" y="5157720"/>
            <a:ext cx="77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 anim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ucose                      Lactic Acid    +    2A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9"/>
          <p:cNvSpPr/>
          <p:nvPr/>
        </p:nvSpPr>
        <p:spPr>
          <a:xfrm>
            <a:off x="2195640" y="5805360"/>
            <a:ext cx="129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4"/>
          <p:cNvSpPr/>
          <p:nvPr/>
        </p:nvSpPr>
        <p:spPr>
          <a:xfrm>
            <a:off x="900000" y="836640"/>
            <a:ext cx="727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66"/>
                </a:solidFill>
                <a:latin typeface="Times New Roman"/>
              </a:rPr>
              <a:t>What happens if oxygen is available?????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826920" y="2492280"/>
            <a:ext cx="669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’s take a trip into a mitochondr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826920" y="4005360"/>
            <a:ext cx="669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re bloody membranes to cros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cytoplasm%20model---nikki"/>
          <p:cNvPicPr/>
          <p:nvPr/>
        </p:nvPicPr>
        <p:blipFill>
          <a:blip r:embed="rId1"/>
          <a:stretch/>
        </p:blipFill>
        <p:spPr>
          <a:xfrm>
            <a:off x="1295280" y="-303120"/>
            <a:ext cx="6553440" cy="49356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w1_foto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43280" y="2565360"/>
            <a:ext cx="509760" cy="6858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6"/>
          <p:cNvSpPr/>
          <p:nvPr/>
        </p:nvSpPr>
        <p:spPr>
          <a:xfrm>
            <a:off x="1042920" y="4869000"/>
            <a:ext cx="7489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member, this is where we are. We’re now going into a mitochondrion. Scary stuff. I hope you’ve got your excursion form signed………………….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5" descr="mitochondrion"/>
          <p:cNvPicPr/>
          <p:nvPr/>
        </p:nvPicPr>
        <p:blipFill>
          <a:blip r:embed="rId1"/>
          <a:stretch/>
        </p:blipFill>
        <p:spPr>
          <a:xfrm>
            <a:off x="1763640" y="836640"/>
            <a:ext cx="5545080" cy="358128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8"/>
          <p:cNvSpPr/>
          <p:nvPr/>
        </p:nvSpPr>
        <p:spPr>
          <a:xfrm>
            <a:off x="1042920" y="5157720"/>
            <a:ext cx="7274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don’t like that mitochondrion. Let’s try ano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3"/>
          <p:cNvSpPr/>
          <p:nvPr/>
        </p:nvSpPr>
        <p:spPr>
          <a:xfrm>
            <a:off x="428760" y="1928880"/>
            <a:ext cx="821520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ells require energy for all their activities (movement, metabolism, elimination of wastes and replication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ells use chemical energy to carry out these activit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emical energy is stored in the bonds or connections that join atoms together in molecules. If a molecule is broken apart the energy is relea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spiration is the process whereby cells breakdown energy rich organic molecules into energy poor inorganic ones and in the process produce ATP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2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Respirat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5" descr=" Mitochondria structure : 1) Inner membrane 2) Outer membrane 3) Crista 4) Matrix "/>
          <p:cNvPicPr/>
          <p:nvPr/>
        </p:nvPicPr>
        <p:blipFill>
          <a:blip r:embed="rId1"/>
          <a:stretch/>
        </p:blipFill>
        <p:spPr>
          <a:xfrm>
            <a:off x="1116000" y="1052640"/>
            <a:ext cx="5111640" cy="361152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9"/>
          <p:cNvSpPr/>
          <p:nvPr/>
        </p:nvSpPr>
        <p:spPr>
          <a:xfrm>
            <a:off x="5867280" y="2492280"/>
            <a:ext cx="28083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Inner membr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Outer membr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Crista (folds made by inner membra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0"/>
          <p:cNvSpPr/>
          <p:nvPr/>
        </p:nvSpPr>
        <p:spPr>
          <a:xfrm>
            <a:off x="2411280" y="5589720"/>
            <a:ext cx="43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’s Enter On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1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5" descr=" Mitochondria structure : 1) Inner membrane 2) Outer membrane 3) Crista 4) Matrix "/>
          <p:cNvPicPr/>
          <p:nvPr/>
        </p:nvPicPr>
        <p:blipFill>
          <a:blip r:embed="rId1"/>
          <a:stretch/>
        </p:blipFill>
        <p:spPr>
          <a:xfrm>
            <a:off x="1066680" y="380880"/>
            <a:ext cx="5112000" cy="36115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w1_foto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843280" y="981000"/>
            <a:ext cx="509400" cy="68580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8"/>
          <p:cNvSpPr/>
          <p:nvPr/>
        </p:nvSpPr>
        <p:spPr>
          <a:xfrm>
            <a:off x="762120" y="4019400"/>
            <a:ext cx="7778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cytoplasm was busy but a mitochondrion is full of action. Look at those enzymes breaking down pyruvic acid. . It’s lucky we’re wearing enzyme resistant clothe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4"/>
          <p:cNvSpPr/>
          <p:nvPr/>
        </p:nvSpPr>
        <p:spPr>
          <a:xfrm>
            <a:off x="900000" y="981000"/>
            <a:ext cx="40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Times New Roman"/>
              </a:rPr>
              <a:t>Serious Tone……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755640" y="2133720"/>
            <a:ext cx="65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happens in the mitochondr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611280" y="3357720"/>
            <a:ext cx="63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main stag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468360" y="4076640"/>
            <a:ext cx="763272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Kreb’s Citric Acid Cycle (occurs in the matri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Electron Transport Chain (occurs on the crista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4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2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2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4"/>
          <p:cNvSpPr/>
          <p:nvPr/>
        </p:nvSpPr>
        <p:spPr>
          <a:xfrm>
            <a:off x="900000" y="333360"/>
            <a:ext cx="60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reb’s Citric Acid Cy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The reactions of TCAC as they happen in a human cell.The color scheme is as follows: enzymes, coenzymes, substrate names, metal ions, inorganic molecules, inhibition, stimulation ."/>
          <p:cNvPicPr/>
          <p:nvPr/>
        </p:nvPicPr>
        <p:blipFill>
          <a:blip r:embed="rId1"/>
          <a:stretch/>
        </p:blipFill>
        <p:spPr>
          <a:xfrm>
            <a:off x="611280" y="1052640"/>
            <a:ext cx="7029360" cy="472428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7"/>
          <p:cNvSpPr/>
          <p:nvPr/>
        </p:nvSpPr>
        <p:spPr>
          <a:xfrm>
            <a:off x="611280" y="6381720"/>
            <a:ext cx="626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539640" y="6021360"/>
            <a:ext cx="770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ucky we don’t need to know this level of detai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4"/>
          <p:cNvSpPr/>
          <p:nvPr/>
        </p:nvSpPr>
        <p:spPr>
          <a:xfrm>
            <a:off x="755640" y="620640"/>
            <a:ext cx="62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Times New Roman"/>
              </a:rPr>
              <a:t>Kreb’s Citric Acid Cyc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1143000" y="2590920"/>
            <a:ext cx="655164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formed?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mall amount of ATP (2 molecul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ts of carbon dioxide (CO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611280" y="5013360"/>
            <a:ext cx="648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4"/>
          <p:cNvSpPr/>
          <p:nvPr/>
        </p:nvSpPr>
        <p:spPr>
          <a:xfrm>
            <a:off x="1219320" y="1447920"/>
            <a:ext cx="62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Times New Roman"/>
              </a:rPr>
              <a:t>The Electron Transport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611280" y="1628640"/>
            <a:ext cx="6913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10"/>
          <p:cNvSpPr/>
          <p:nvPr/>
        </p:nvSpPr>
        <p:spPr>
          <a:xfrm>
            <a:off x="1066680" y="2743200"/>
            <a:ext cx="6551640" cy="369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at happens here???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ots of ATP and Water are produce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ots of oxygen is used u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4"/>
          <p:cNvSpPr/>
          <p:nvPr/>
        </p:nvSpPr>
        <p:spPr>
          <a:xfrm>
            <a:off x="755640" y="620640"/>
            <a:ext cx="79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66"/>
                </a:solidFill>
                <a:latin typeface="Times New Roman"/>
              </a:rPr>
              <a:t>What is the basic equation for aerobic respiration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468360" y="2276640"/>
            <a:ext cx="81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+  6O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6CO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+   6H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   +  (36-38AT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Line 7"/>
          <p:cNvSpPr/>
          <p:nvPr/>
        </p:nvSpPr>
        <p:spPr>
          <a:xfrm>
            <a:off x="2916360" y="256536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826920" y="3789360"/>
            <a:ext cx="741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do all these molecules fit into what we’ve just discussed??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4"/>
          <p:cNvSpPr/>
          <p:nvPr/>
        </p:nvSpPr>
        <p:spPr>
          <a:xfrm>
            <a:off x="539640" y="260280"/>
            <a:ext cx="7921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ucose: starts to be broken down in the cytoplasm in the process known as glycolys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468360" y="1341360"/>
            <a:ext cx="820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ygen:  needed in the electron transport chain of aerobic respiration in the mitochondri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468360" y="2492280"/>
            <a:ext cx="748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bon Dioxide:  Produced in Kreb’s Citric Acid Cycl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8"/>
          <p:cNvSpPr/>
          <p:nvPr/>
        </p:nvSpPr>
        <p:spPr>
          <a:xfrm>
            <a:off x="539640" y="3500280"/>
            <a:ext cx="770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ter: Produced in the electron transport chain when oxygen combines with H+ ion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9"/>
          <p:cNvSpPr/>
          <p:nvPr/>
        </p:nvSpPr>
        <p:spPr>
          <a:xfrm>
            <a:off x="395280" y="4653000"/>
            <a:ext cx="8748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TP: Some produced in glycolysis (2ATP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me produced in Kreb’s Citric Acid Cycle (2ATP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st produced in the Electron Transport Chain (The Rest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2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20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2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2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 Mitochondria structure : 1) Inner membrane 2) Outer membrane 3) Crista 4) Matrix "/>
          <p:cNvPicPr/>
          <p:nvPr/>
        </p:nvPicPr>
        <p:blipFill>
          <a:blip r:embed="rId1"/>
          <a:stretch/>
        </p:blipFill>
        <p:spPr>
          <a:xfrm>
            <a:off x="1042920" y="333360"/>
            <a:ext cx="5111640" cy="36115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w1_foto1"/>
          <p:cNvPicPr/>
          <p:nvPr/>
        </p:nvPicPr>
        <p:blipFill>
          <a:blip r:embed="rId2"/>
          <a:stretch/>
        </p:blipFill>
        <p:spPr>
          <a:xfrm>
            <a:off x="2843280" y="981000"/>
            <a:ext cx="509400" cy="68580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6"/>
          <p:cNvSpPr/>
          <p:nvPr/>
        </p:nvSpPr>
        <p:spPr>
          <a:xfrm>
            <a:off x="1692360" y="4365720"/>
            <a:ext cx="64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 think it’s time to g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T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6" descr="http://rds.yahoo.com/_ylt=A0Je5xa1PO9F8HEAvw6jzbkF;_ylu=X3oDMTA4NDgyNWN0BHNlYwNwcm9m/SIG=12j36jl1m/EXP=1173392949/**http%3A//www.uic.edu/classes/bios/bios100/mike/spring2003/atp.jpg"/>
          <p:cNvPicPr/>
          <p:nvPr/>
        </p:nvPicPr>
        <p:blipFill>
          <a:blip r:embed="rId1"/>
          <a:stretch/>
        </p:blipFill>
        <p:spPr>
          <a:xfrm>
            <a:off x="228600" y="1981080"/>
            <a:ext cx="8686800" cy="44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3"/>
          <p:cNvSpPr/>
          <p:nvPr/>
        </p:nvSpPr>
        <p:spPr>
          <a:xfrm>
            <a:off x="571680" y="857160"/>
            <a:ext cx="814356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TP is called Adenosine TriPhospha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It is a molecule that all cells use as an immediate energy sourc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ATP releases its energy to form ADP and Phosphat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TP and AD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4" descr="http://rds.yahoo.com/_ylt=A0Je5x8pPe9F7poAPUajzbkF;_ylu=X3oDMTA4NDgyNWN0BHNlYwNwcm9m/SIG=12mse5kn1/EXP=1173393065/**http%3A//bioweb.wku.edu/courses/biol115/wyatt/Metabolism/ATP_ADP.gif"/>
          <p:cNvPicPr/>
          <p:nvPr/>
        </p:nvPicPr>
        <p:blipFill>
          <a:blip r:embed="rId1"/>
          <a:stretch/>
        </p:blipFill>
        <p:spPr>
          <a:xfrm>
            <a:off x="2133720" y="1600200"/>
            <a:ext cx="487656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2195640" y="692280"/>
            <a:ext cx="59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Why do our cells need ATP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857160" y="1557360"/>
            <a:ext cx="7315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. To make polypeptides from amino aci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2. For active transpor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. To conduct nerve impul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4. To allow muscle cells to contra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5. To make DNA from nucleotid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6.  etc…………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-1800" y="5805360"/>
            <a:ext cx="866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does it all start?  Let’s take a trip into the cytoplas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3" descr="cytoplasm%20model---nikki"/>
          <p:cNvPicPr/>
          <p:nvPr/>
        </p:nvPicPr>
        <p:blipFill>
          <a:blip r:embed="rId1"/>
          <a:stretch/>
        </p:blipFill>
        <p:spPr>
          <a:xfrm>
            <a:off x="1428840" y="714240"/>
            <a:ext cx="6172200" cy="46497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w1_foto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761000" y="2438280"/>
            <a:ext cx="509400" cy="6858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8"/>
          <p:cNvSpPr/>
          <p:nvPr/>
        </p:nvSpPr>
        <p:spPr>
          <a:xfrm>
            <a:off x="1571760" y="578628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have to get through the cell membra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" descr="cytoplasm%20model---nikki"/>
          <p:cNvPicPr/>
          <p:nvPr/>
        </p:nvPicPr>
        <p:blipFill>
          <a:blip r:embed="rId1"/>
          <a:stretch/>
        </p:blipFill>
        <p:spPr>
          <a:xfrm>
            <a:off x="1571760" y="785880"/>
            <a:ext cx="6300720" cy="47448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w1_foto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761000" y="2438280"/>
            <a:ext cx="509400" cy="6858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6"/>
          <p:cNvSpPr/>
          <p:nvPr/>
        </p:nvSpPr>
        <p:spPr>
          <a:xfrm>
            <a:off x="1285920" y="592920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 here we are……………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826920" y="838080"/>
            <a:ext cx="732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energy rich molecules can you se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1143000" y="182880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’s one…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5" descr="glucos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86200" y="2795760"/>
            <a:ext cx="2185920" cy="2309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6"/>
          <p:cNvSpPr/>
          <p:nvPr/>
        </p:nvSpPr>
        <p:spPr>
          <a:xfrm>
            <a:off x="1600200" y="5410080"/>
            <a:ext cx="533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’s its name???????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7T04:22:27Z</dcterms:created>
  <dc:creator>glourys</dc:creator>
  <dc:description/>
  <dc:language>en-US</dc:language>
  <cp:lastModifiedBy>luponed</cp:lastModifiedBy>
  <dcterms:modified xsi:type="dcterms:W3CDTF">2010-03-15T09:59:54Z</dcterms:modified>
  <cp:revision>14</cp:revision>
  <dc:subject/>
  <dc:title>PowerPoint Presentation</dc:title>
</cp:coreProperties>
</file>